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3692-C391-44F2-B492-9E4EB920C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AC1C-3F6C-4668-9307-BEDEFC29D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4B1C38-C9FA-4878-BD69-421B110A7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0282B0-0ED3-40C9-9790-C3136C574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BE38E8-8A99-4C69-A01A-CE49C529D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D40814-41BA-4044-A344-290D335D6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4473AA-82E9-4155-B1CF-5604B183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405210-C040-443D-A519-EA7E504D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D48117-3789-4D34-88C8-F74B9BB5A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CB1A3E-C282-40F6-8664-732C79BB0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13EF12-66A7-4F37-89C4-1C569BE71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6A92DD-3884-4904-8B1A-165EFE7B4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BD99-FF31-45DF-A678-7F623EC07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41EA1C-F808-4504-8681-9EC77352A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FBBA8A-3CC0-4B9D-8DB8-945EB0EFE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57D640-F8FF-40A3-939E-A7FF417AB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1C568B-6694-4753-B425-D8C21CC69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BF0E9F-38D0-41DC-ADAC-F42AB33A0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9B3470-D172-4E6C-91E4-B7A29D07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3EE9CA-DFC5-4D44-9F88-B54C931C5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010CAB-8D8C-4127-A445-2AE888304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9437C3-505E-416B-8DAE-33CCB6C07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2E2163-A724-4442-9638-874AFCAE9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27F6-6069-4F26-AB6E-9514B4628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4E95F5-DC0E-4A67-8A39-AFE5EFFE1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DB8E0F-20A1-43A6-B9FE-630BA56AF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59DA1A-A9E9-4EAB-B883-48D6ECC38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2DE483-6776-4469-AFFF-96FCFB604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C1894F-6412-4CA0-B526-8744DCA15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515535-9783-47ED-A1C3-6887D476C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657C9F-9652-47F6-9627-71149724E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628023-19BB-4CF7-A0A2-1837300C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B6B538-FB9B-443B-BB3C-57C8CF17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8FA62F-EDDD-4763-8B17-16B62D0F8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9A5D2-E0D7-446D-AB49-DE7198F70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415CCC-962B-449E-A390-E964BBD0C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38B39B-BF26-435C-B39F-B5D8DB8E1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FF68E7-1A5F-4805-B22E-56F0C30CF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0B63BA-979D-4898-8C0D-CC7063E85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51E7A1-0BCD-4747-9CE7-95D979BF7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4D0B44-0BAB-41D2-A7FA-EA3B79C91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80F72E-C3F2-4601-879B-86C5E3EA8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F42CB2-5BCF-4EC6-B1C6-FB18D2E6F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2DB2DA-89F4-4B68-9729-AAB0065C6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9226FE-4539-44B1-AC68-5FD887081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BBACF-D5E2-419B-9CA4-CFED59107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A59089-11D2-48E3-962F-21267F112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A21E5E-CE28-4D3F-AA37-BE0B16CC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FBB6A5-83B2-4EB8-9E35-5AB04AD20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92AE63-D768-42FF-8D95-3FCD47F60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5B2CEB-C2A0-4C68-B726-0F50E2F75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2E8EA5-181F-4B24-86D1-BA498244D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5233DD-3426-406F-BE3D-829BC5489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297F38-35D1-4A2A-9478-DA88A1636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9CCCC9-1940-4EE6-A027-CC4ACA9A0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3D2D30-C9A5-4FD7-B2A2-8EE44F288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D18E6-28A4-4779-8AF5-E9680D1C3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F4B00B-4F31-4EBF-AFA5-59BFF2397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3FE8ED-1237-46B6-B243-1E969C3D8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079427-FC20-4B29-9022-9E39B9F35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1EAFD2-29A3-4C27-8D79-463060D5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D1EB67-52A4-4EBC-AD74-F57FE2745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B67806-A809-4C2F-96AF-B7E69C250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31D754-318B-4EBA-96FD-4EA6275B4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F1CD43-9CE8-43B5-B762-800E1F495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B14C04-63A8-4ADC-8561-F896D0BD8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ECA6E1-DD96-428E-8A53-40200F7E5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9705B-2ED0-476D-8579-F18F49B54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8FF6FC-6FC9-4C9B-8D90-DF227A478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406DE9-0F62-489E-85FE-7039D21D1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CADC74-C83A-42D6-8F8B-A34B26DA2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35C43D-13C9-4172-B922-EF6700DA8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F12ED5-B9DB-4B43-BFDF-B9F67BA7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9890B3-A206-433F-B1A1-DC208D04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A1822C-A5C5-4D40-8D79-A6106436B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A64C22-DA3D-434F-B24E-9E301D2E0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C55531-86AB-45F6-B9C9-727665235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5E4546-A9D5-48D5-BAE8-A8836117E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90A1D-8AC1-4357-9617-954B8AD2F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F4F17B-5A98-4258-9314-AE235846F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5D587E-4FF9-4937-A6F8-656F0E349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E7165A-7D95-4F7E-93BD-606DC0C72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2C1A2E-92BB-44BF-9812-7EB269225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2B2D88-A4B0-4A49-B561-406AB5362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951726-F881-4350-81D5-CFE11953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94C27B-E9FA-44EE-94D6-E96A8D010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0D19AB-EE73-4A36-BC59-F0BAAF82B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C1EFD3-2881-4961-A49A-3B074A830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F47BAC-AE4A-4BC0-912A-322EA871A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650CA-27E4-4407-844B-4280A863B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0D218F-FF0E-4336-A2C8-F07B4544D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4A1747-4292-47EC-BA4E-586CF3660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601E27-3991-4C0D-A140-2071BC6FD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FACFC1-1586-4379-BEA0-335588EBD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A22A65-1205-4554-9436-6C35C9962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E1EAAC-C967-4E60-9EDA-8A901D480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D0E626-3C87-46D0-AEB8-D0EEAB4E1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A740AC-D0C9-4AB5-8DD2-D2492D2B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FB070A-33EB-44E7-BA1D-3729CFF68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0DCF8A-16F7-4925-A175-0CB03BE8D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A0D01-D9FC-4F96-877C-15104D89E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91403B-C870-47E2-B971-AA42C0DC3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1F4BF2-CE04-46A0-B33E-0DD870D54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FF37AF-A3A1-40BB-861D-2961265F1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4C6DCB-0F1C-410B-90FA-C44906C6B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55EDE7-7985-4D6C-A702-37023D3B2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5EC63A-5D84-4A9C-8249-8F6E328BD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1722B4-F547-4CC6-B50F-E977762B2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C986A7-BF38-440B-A60E-97C8528F7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163D27-3E61-4E06-AC8C-2C9BE950B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517E86-2CA6-44D0-BF66-2EA92CFAB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84CE-DD52-4FA0-86AA-254A4DA40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34B96-C8AA-4440-9A31-42B24DF99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9D68C2-6172-4132-ABB4-54C34610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BCC619-2D82-43B3-B7DD-5501FED1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61C28B-9D4F-412B-91B3-02E8D3107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3838F3-125E-42AA-9383-471BB5A4E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40C1E0-A7BA-4F8B-A372-4457CF130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424D76-7190-4EC9-AB65-F6555C283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EA2F14-B457-4AE4-B95C-9E9C940B3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2C054A-FB17-4E00-B79D-DA66022A9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621261-A745-4AB2-93BF-83CE6C93F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1C4019-51C1-48C7-A393-0EFF407AF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FB305-0AB8-43A5-9DD4-6705D129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F87E97-644B-4097-A78D-5E5173F0B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D41144-158C-4939-A23B-0E1F50AAF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80515C-B5C9-4FC6-BD5E-6B148C140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1F0BD6-56C2-4B1B-BAEF-B4BC5459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5EDCE4-4484-4015-9C64-7D63DB922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5EFBBD-37FD-4CCE-9966-741262DA0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130CDE-89D6-4FC2-A6E5-461EE5DBF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985466-20DA-4D8A-8291-9127C83F7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01568B-7E4B-4CE7-967B-5AFD9A7E3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2B28ED-5664-457F-800B-98D602505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8E0BD-AD2B-4B6C-A239-2E71313B3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D5E667-6618-4AF1-A93F-205A827B8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90B71A-2F64-45C5-93EC-A9C1CCE39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CEE8B4-4CC7-4EB1-8F48-75FBF2FE2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AD2F87-B3E2-4C58-9B41-4E300C6BC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E10153-A4C3-40FE-8175-21D38585C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C05EBB-797E-4BCD-B447-9A9B92D87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09F95A-A625-4A11-80D5-D0FF22B4D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541D90-FAA7-4C66-9960-30339205F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E5F8E6-A881-4B48-ABA9-276621D5D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5F4C7B-FBB7-4D70-92C2-73891DA86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49FDF-4F26-4D80-B6AA-28A81E4DD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D33721-FA87-4085-BC14-DB94CAD2F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60A526-21F3-4309-9763-EFBEE64CD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F363D2-8951-4691-8DDB-1EDA386E8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3FE75E-5E99-4302-AA62-24C7C8C1E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577FB3-7FA0-4370-A73A-A27866CC1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B1870B-4F47-4C4B-9DCD-7FDEAA781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CA81F4-BA6F-4501-B7C6-58E86943A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9829E8-02FA-44D1-A5AE-53C44314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429FCC-6159-4103-AB5C-81758FC9C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39005B-C1A0-4865-8E66-617392CE0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4796C-7A6F-4B3B-BFAD-F939A74E6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AA14AF-EF6A-4BD3-9CB2-D25F776E0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EA920D-EE3C-4D51-90B7-3C02CDEE9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2CED29-2967-403E-AC7F-6B46625F4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D3872C-DF74-4364-B77E-E41FE170D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16EB27-DE2F-4861-A100-24DD4B7D6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9730BD-DBDF-4922-BDBA-BA14467AF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F629F0-804D-4CBB-AC2F-15AA7DDE2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B3BFBD-4E50-4C31-801D-EBBB3AE5B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0FDAB6-E3A3-428E-A661-47075C9DC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8479EE-AADF-4D8E-B6B6-150F8CCC2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F17CE-4FB5-413A-98FD-A5D7D5204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69D9BD-9081-4ABE-B65B-43873E8C8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12B90A-508D-4386-9DAC-8C3103BC3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D634A7-3D8D-4F97-B418-7470795C1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36722AB-76A1-412F-821C-146ED85E6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7E65BB4-2AD4-4121-9275-F99A3EDF0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75C909E-58A8-4BA9-86AE-81621C8B0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2A3FDBF-E385-407C-8976-A155B53D5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51046E3-95DA-4F86-A7E6-41A72134C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4DC1E96-06D7-4166-9F68-F1315DB90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D0E272A-7973-459E-B768-C002A70DC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75A70-8412-460E-A061-AF1821C53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25195C2-FCB7-4133-9944-3646CEA7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3A9706D-E389-4065-9D5E-87706DC0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E939D4B-AC7B-4149-9A72-CC2E5C051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EF30E46-0D19-48B6-827C-80605B031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D6C68FA-2C9C-4D49-8744-2DB132FEA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FCB4FAA-B78E-4CB1-8918-145512850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C7E53DD-953D-437D-AB45-8B5D325D3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92F88F3-D06A-430F-8E03-A28166B17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132BFEC-098E-42D0-812D-794F0E5B4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7C58A3E-A7B9-45FB-AF1F-D6BA39DBE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936FF-1387-4586-AFA9-4E35E599C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3626979-0FAC-4905-B266-A5DB74D75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81BACE3-7447-4E83-AD3A-267909584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5551BCB-7583-4D7F-99B1-DFA2C8E8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2EF8E5E-90CF-43C8-8EF5-71C6959F9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574245C-0573-4730-AC14-FCDF16467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FD43CE7-41D5-4AA5-87ED-23D7A2120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9F35EE4-433F-438C-A984-2388EB974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0FDC4D1-5D92-47AB-9A10-AD1A0304F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9E2179F-5CEA-43A9-8E53-D5D2A102A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E24FF8D-327E-4C51-9866-39966ED93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2117C-15CD-4700-9CB5-38789B822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5DB5953-072D-4E83-B1D9-8007B0799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D4FD188-CE14-492D-90B3-D7AAEF858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DF343D1-0FE8-49F1-8BBE-677B45310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2F0897E-B5FF-449E-BC00-BEA9C296B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F488D55-2557-4011-BC0D-A0B26ECEA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6044B9B-DAA9-4D94-AB65-36AECE8C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31E68BB-6FDD-45DD-AC2D-C37416F4F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019096C-4171-40F3-974E-F515672B3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D9E151D-AC2F-4567-8E46-B3B095B08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E4D1A-0F4A-46C4-ABC1-D2E822A70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CC59-8FAE-4024-8270-97AA50249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0CECE-CAA6-4D9B-BA64-374B8D8D6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6C1F5-1811-4727-A777-969AD2851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AEBC4-E128-4D23-9215-C20A2F39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EB53D-0AC5-4230-9440-62B5BE57D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7475B-AF0E-472B-BE1C-4ADDD2453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6D268-1BD5-48AA-83BC-3889FDA0B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24E84-998C-477F-AC38-ED4A90CB4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550E0-F35D-4A03-B69B-81857D521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EE6B4-55DD-4639-B1B5-C159705D9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68839-BC41-465E-9F9D-E20BF6725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71EC-ADE7-4666-8565-813B476E9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3D32C-5ADA-43C0-953E-9E9D845AC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B6876-6572-45F3-A3C7-DE4EC2154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5A693-828A-4EDF-9A0B-EFE921A90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C2E4A-D449-4CAA-8963-08327CD20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909EE-AE71-42AF-900A-297384A9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53547-26FE-452E-856C-15273581A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C0B88-FE98-4A42-B35B-3745A83FF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9839E-6A1D-42CE-B5F6-4C4EDF703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7CECB-A322-4937-8C22-5451A448C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81E4A-6DA5-4E32-96FC-63FCB7E6A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C250-ED4F-47EC-BE3D-8AC09727E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F1267-1BC4-4B8F-8237-33D0FC7E0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ECEEB9-E51B-4DB5-A4FB-5D4926CB8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A1239-8592-47FE-9311-04F6A5F4B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3A5FDE-5998-4ED1-AF9D-69ECB8389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FFD25C-AD52-4F14-BADB-91A8B4892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98C9D-944B-4A5A-8985-A6500E06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F63EAC-B00C-4442-8A5D-CAE65FD80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BFF18-82EB-40BD-9455-C8628A1E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B20414-DE5D-434D-B21D-77CC1E627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0037B-1C5E-464D-B5BA-2A4CCD891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D84A-74CA-4B39-B118-8E93F69E4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9615E-1F16-455B-A7F9-AA965E9A1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D65814-A8CA-49BC-B465-0A00CCD06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FE4441-FE1F-4216-B60F-A02127149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774E74-7DB7-42A5-B69F-7BB30F68C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8C2351-4281-4D48-8C80-4DCA754AF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821ECE-0168-4225-A35D-CAFDFB3A1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BEAB7-56FB-412E-807B-0979767C3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F4E894-29E9-4F32-95F0-0D420C9BA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C72CD1-9021-445F-8D72-EA2BA20A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F84C13-789A-4C85-AB79-5505C4456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C9A0-2C80-41AF-94D0-494C9C80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61055B-C89A-4DF8-A5F6-A245ACE87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5D0784-3CBB-4CB1-9123-59F422607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5E26E6-8AC6-42A9-A69A-AFCBA9898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096F2E-3D18-4269-A433-0379F8F33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34E366-B885-4956-BB12-F82569013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58B4AF-9ED5-419D-B57E-43C530421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EE4A2B-9954-42EE-AC8C-7C872B294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280C39-101B-4CCE-8895-C17834AD4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517217-F689-4F14-BA05-DC475895F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237058-424C-4B89-B59A-7A41E28A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E7A9-9DFB-49CD-8A39-16167CAB5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F431A2-73AB-4FF2-9210-2E4344FC0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865F63-0A13-4554-989A-8ABF8656C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CAB56F-BE09-41D1-892A-423FD256F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0EF136-5B86-462B-933F-E461A5DB1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60C56F-5E42-4C9D-A81E-D66DCDBC1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BCD140-6121-4365-BEF7-5721C0C17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3EBF7B-7BD7-41B6-B12A-027D43E6B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31D5E6-2294-42A6-BA23-4CF7F3D10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3DE206-C3A6-4198-9881-97A5E0380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46AC6D-6931-4E29-9A4B-5509B4726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BAB0-EFEF-4CC7-AAB1-F058543A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880FD8-3C29-4CCA-9B34-2FFBCA6B2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28FEC2-C875-4BDF-A602-12ED4556B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1B86DB-35BF-4A34-B4B1-DD36AA5E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6377F8-2693-4345-8DAA-2D9A1FC0A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421E5C-93A7-4D2A-AC49-6CB598A5B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71CC2A-D4D0-4633-A92F-A9D14A1D2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A928FE-7987-445C-BC67-7B5776665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342B88-8463-4558-A85D-3B5BF49EC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DF50A3-B988-4CA6-B785-B590E80C4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E89E69-FBCF-4AB3-8915-152AFE2A4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2FDF6-4A83-4DD5-AAED-36A497000B4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0A64E-EB7A-488E-BE7C-28D5074BAE6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DDC28-8830-49B4-83B5-CFDB121976C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67C01-6FC0-4A0B-9861-6024DD3A4B6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DD186-65A1-451D-BADA-23513DAAEBE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C4298-2972-4F98-ACE6-AAB4016930F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14FDA-C8E2-4AEB-B6AD-022C7933ECC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8EE9F-B2C1-4E81-9739-C1EB9177C96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0AA70-4DE8-43C6-A064-F371BCAD5ED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C510B-25E4-49CA-8F89-9C1030C72C9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7E293-C722-4085-AA97-6589D2B1671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24555-2F90-42E7-982B-CBFFA72BAB3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0B948-8266-4FBC-A031-5064F04B3F8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9E3F7-F301-4330-A151-F94AA5F4C11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78697-DE34-4023-8486-1DC2D778ABE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4994F-C62F-4002-A08D-5C7B84322A9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4C483-04AB-4E83-9ED7-0E4EB745487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41D0C-C042-4BB8-B51D-9C7D1BC1365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4D56B-213E-47AE-869D-21D62C24716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2ABEA-8CEB-4BA1-91C4-40F9211C8B2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573AB-59CD-4ED9-8036-2A7A0AE2B7B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9E731-FE27-496E-8E04-2387BF387C1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4F0EC-CB7B-4B93-865D-098D3B2250C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BFF2C-4CA6-4793-A23D-879C5682458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331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peratore sanitario alimentare per le aziende agrituris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120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ggiornamento per fattorie didat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35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rso base per fattorie didat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80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ggiornamento per le aziende agrituris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82.400,00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Obbligh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357120" y="1571400"/>
            <a:ext cx="84628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il “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o con fogli firm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re </a:t>
            </a:r>
            <a:r>
              <a:rPr b="0" lang="it-I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ra i documenti essenziali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elenco dei partecipanti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 cors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are le norme di antinfortunistica e prevenzione degli incendi nelle sedi di svolgimento delle attività previste (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o di stipula di assicurazione contro infortu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e far compilare ai  partecipanti alle azioni formative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questionari di valutazione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re le variant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partecipanti devono frequentare almeno il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%(75 % corso x OS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delle ore previste dal cors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li aiuti per la formazione previste dalla misura 331 possono essere concessi nei limiti del regime “de minimis” di cui al regolamento (CE) n. 1998/2006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 suddetti aiuti devono essere riferiti ai destinatari del corso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erifica preventiva del cumulo degli aiuti complessivamente concessi alle imprese partecipanti, previa acquisizione di una dichiarazione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3" name="Rettangolo 3"/>
          <p:cNvSpPr/>
          <p:nvPr/>
        </p:nvSpPr>
        <p:spPr>
          <a:xfrm>
            <a:off x="27684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Caratteristiche cors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356760" y="1571400"/>
            <a:ext cx="835812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14600" indent="-25146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dividuazione dei partecipanti (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o ammesse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spese per l’individuazione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i partecipanti,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stenute antecedentemente alla presentazione della domanda di aiut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tare  </a:t>
            </a: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due domande di aiu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corso) per tematic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sto massimo per ciascun corso: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uro 25,00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partecipante/or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umero destinatari e ore durata : variabile in base al cors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Rettangolo 4"/>
          <p:cNvSpPr/>
          <p:nvPr/>
        </p:nvSpPr>
        <p:spPr>
          <a:xfrm>
            <a:off x="34812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CasellaDiTesto 4"/>
          <p:cNvSpPr/>
          <p:nvPr/>
        </p:nvSpPr>
        <p:spPr>
          <a:xfrm>
            <a:off x="4429080" y="1643040"/>
            <a:ext cx="442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8T07:04:42Z</dcterms:modified>
  <cp:revision>143</cp:revision>
  <dc:subject/>
  <dc:title>Presentazione standard di PowerPoint</dc:title>
</cp:coreProperties>
</file>