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notesMasterIdLst>
    <p:notesMasterId r:id="rId38"/>
  </p:notesMasterIdLst>
  <p:sldIdLst>
    <p:sldId id="256" r:id="rId39"/>
    <p:sldId id="257" r:id="rId40"/>
    <p:sldId id="258" r:id="rId41"/>
    <p:sldId id="259" r:id="rId42"/>
    <p:sldId id="260" r:id="rId43"/>
    <p:sldId id="261" r:id="rId44"/>
    <p:sldId id="262" r:id="rId45"/>
    <p:sldId id="263" r:id="rId46"/>
    <p:sldId id="264" r:id="rId47"/>
    <p:sldId id="265" r:id="rId48"/>
    <p:sldId id="266" r:id="rId49"/>
    <p:sldId id="267" r:id="rId50"/>
    <p:sldId id="268" r:id="rId51"/>
    <p:sldId id="269" r:id="rId52"/>
    <p:sldId id="270" r:id="rId53"/>
    <p:sldId id="271" r:id="rId54"/>
    <p:sldId id="272" r:id="rId55"/>
    <p:sldId id="273" r:id="rId56"/>
    <p:sldId id="274" r:id="rId57"/>
    <p:sldId id="275" r:id="rId58"/>
    <p:sldId id="276" r:id="rId59"/>
    <p:sldId id="277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notesMaster" Target="notesMasters/notesMaster1.xml"/><Relationship Id="rId39" Type="http://schemas.openxmlformats.org/officeDocument/2006/relationships/slide" Target="slides/slide1.xml"/><Relationship Id="rId40" Type="http://schemas.openxmlformats.org/officeDocument/2006/relationships/slide" Target="slides/slide2.xml"/><Relationship Id="rId41" Type="http://schemas.openxmlformats.org/officeDocument/2006/relationships/slide" Target="slides/slide3.xml"/><Relationship Id="rId42" Type="http://schemas.openxmlformats.org/officeDocument/2006/relationships/slide" Target="slides/slide4.xml"/><Relationship Id="rId43" Type="http://schemas.openxmlformats.org/officeDocument/2006/relationships/slide" Target="slides/slide5.xml"/><Relationship Id="rId44" Type="http://schemas.openxmlformats.org/officeDocument/2006/relationships/slide" Target="slides/slide6.xml"/><Relationship Id="rId45" Type="http://schemas.openxmlformats.org/officeDocument/2006/relationships/slide" Target="slides/slide7.xml"/><Relationship Id="rId46" Type="http://schemas.openxmlformats.org/officeDocument/2006/relationships/slide" Target="slides/slide8.xml"/><Relationship Id="rId47" Type="http://schemas.openxmlformats.org/officeDocument/2006/relationships/slide" Target="slides/slide9.xml"/><Relationship Id="rId48" Type="http://schemas.openxmlformats.org/officeDocument/2006/relationships/slide" Target="slides/slide10.xml"/><Relationship Id="rId49" Type="http://schemas.openxmlformats.org/officeDocument/2006/relationships/slide" Target="slides/slide11.xml"/><Relationship Id="rId50" Type="http://schemas.openxmlformats.org/officeDocument/2006/relationships/slide" Target="slides/slide12.xml"/><Relationship Id="rId51" Type="http://schemas.openxmlformats.org/officeDocument/2006/relationships/slide" Target="slides/slide13.xml"/><Relationship Id="rId52" Type="http://schemas.openxmlformats.org/officeDocument/2006/relationships/slide" Target="slides/slide14.xml"/><Relationship Id="rId53" Type="http://schemas.openxmlformats.org/officeDocument/2006/relationships/slide" Target="slides/slide15.xml"/><Relationship Id="rId54" Type="http://schemas.openxmlformats.org/officeDocument/2006/relationships/slide" Target="slides/slide16.xml"/><Relationship Id="rId55" Type="http://schemas.openxmlformats.org/officeDocument/2006/relationships/slide" Target="slides/slide17.xml"/><Relationship Id="rId56" Type="http://schemas.openxmlformats.org/officeDocument/2006/relationships/slide" Target="slides/slide18.xml"/><Relationship Id="rId57" Type="http://schemas.openxmlformats.org/officeDocument/2006/relationships/slide" Target="slides/slide19.xml"/><Relationship Id="rId58" Type="http://schemas.openxmlformats.org/officeDocument/2006/relationships/slide" Target="slides/slide20.xml"/><Relationship Id="rId59" Type="http://schemas.openxmlformats.org/officeDocument/2006/relationships/slide" Target="slides/slide21.xml"/><Relationship Id="rId60" Type="http://schemas.openxmlformats.org/officeDocument/2006/relationships/slide" Target="slides/slide22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 type="dt" idx="10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 type="ftr" idx="1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6"/>
          <p:cNvSpPr>
            <a:spLocks noGrp="1"/>
          </p:cNvSpPr>
          <p:nvPr>
            <p:ph type="sldNum" idx="1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14972-642F-480C-AF6B-300E786D61EE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A0D3F-C641-4BF2-8136-F5C46C589B5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69EC-FD9A-4613-BC08-92714EBEE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0320-5DE9-49F7-9249-775F41664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A15426-A055-4EA8-B931-ECF57BA89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705253-C574-416F-B03B-CE3895201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8756ED-82E3-4DC1-A277-553C25E5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A89B8B-E4D7-40DA-82C2-9436F242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BF6D5E-5C15-4B6F-B2F7-CDAA8878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2A10EF-E634-49AA-A676-F8FC9A14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EB0822-C913-4D17-B74D-EFC357A61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F0F2FE-5860-4F7B-9BAE-ABCCB0592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0CC8B7-9CCA-4908-B693-12654CC3D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0D39AC-008C-4A3C-85D4-56BCD34BA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1A61-3D07-409B-8D17-1B5D61553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88C53C-E715-4166-9EC3-6E061C105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AD2522-8738-4621-80AC-60A5B8396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BCA322-49B5-4A4D-B201-F476267C5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512C60-1E25-4232-A558-576E031CA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773139-8C7A-473C-BD8A-6EB0785D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A8B56D-A9A3-421D-ADF5-08DA1DD8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5FF38B-F1AD-4491-B23F-F4639CE0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6246E6-DC2F-466A-B76F-E8D6A40A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B569BB-3B8D-479A-867C-2495BFA4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04C72B-1B8C-4927-AD9B-5EF79A043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A4EB-0C63-45A3-84B6-5DD690578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B87863-9E6F-4FAE-9C9D-B8CCE131F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E63D87-FB0F-4395-A564-052A56E04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BC73D7-CDE6-4236-BC93-0FC4D6CFE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6DB8BF-97B1-4BB2-901E-06163C126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20AF2A-F2D7-4BD5-8EF6-38AA599E5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E5013F-7FF4-4940-9FD5-CABFE95B1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6CC848-BD48-4D06-B0AD-11387C5C9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50DFA0-ECCD-40AF-BB31-4FF167A3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8F01BC-D2AF-4D25-A247-5F22F60A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E6B621-C31E-44B3-94A3-51460962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262B5-B93E-4804-82FD-856C98B73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99247E-7133-4408-A9A9-4321E90D4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41C896-EA7A-4A5B-A90A-049D60F88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70565F-173B-4FF4-AFE0-4C11C44C7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D3E124-E73A-4F15-AD3C-8646B714E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ABB45B-AC48-4070-8361-C07913C11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0A1795-6A37-468D-A5D8-CB4BB8E4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E9D2C4-7AC6-4346-B376-624A3ECFD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9C3D0A-CCA8-4321-813A-FFE7D25D2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051DE1-9DFD-4912-8C41-BC4B3E70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7BACE4-654E-460A-82E3-885F4E83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86E77-D2DD-431F-A58D-940E6641F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8500C6-75BA-400F-BD3B-529A53FA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400A20-2AD5-448C-8DB6-53D0DAAC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3AFE95-FA44-4943-BDC5-25122DE7B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0C4C6C-16C5-4104-A4E0-95A20B6BA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A75DC7-6112-4722-9AE3-CA1548E54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516B41-E4D8-403D-8268-BCB6914C6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86517B-3441-41AB-A61D-AA9B56AB6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ABF07E-9B08-43D2-B83E-83C710082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80E892-612E-4952-BB6F-D43985B45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A65037-2080-409A-8CED-8D06C66E4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98876-5470-4F9E-A615-057A50CBA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E53966-C5A1-4D5A-92C9-B4B6DD479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1C89D5-6738-4F9C-8296-59504D3A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61ECDD-6848-4CD7-8A28-6EB39F27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73DD11-C4AC-4974-BD75-0781C8BB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CFF968-98F7-49DB-A446-EB81A619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FD1949-4D3F-43B4-A100-3FF7E4785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E36CCA-5E3F-488A-81C5-5A6B31364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A3D740-581B-4EC7-8AB9-EB9870C3B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37A577-A562-48BC-A58D-DD12590F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50D4D6-5F52-4CF0-AC5B-8A1118972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252C9-2E45-49A5-8D28-AB4EFE933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241622-E145-473C-A1D1-AADF16CF3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E100AC-DAB1-4C57-A136-B084B51EC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8A04FC-8B26-42B3-8D40-938CF73C0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634342-60B6-40AC-9384-047981D0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DC1168-D247-4314-BF70-779A1A6D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D98E26-3DEF-4A72-9E7A-5DBDCF43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AFBB9E-F608-4758-9F1D-E247122B0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834160-1A23-4E14-A5BF-75394B91B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8DB7AF-5E56-4A44-9C4D-4D647C733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92E886-7789-4112-86F3-9C87CE00C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CA501-4910-4BF6-80CD-2329A18F0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13F253-B4B0-48BB-905E-EAAAAF66E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A07B4B-797A-4331-85CC-3B32BE829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B86DE6-7BA3-4F6E-8EF6-8C99C5BDE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1841E3-821C-4AE6-849C-250D6B697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C2C65E-829B-42D5-865F-96857FB57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7DDE16-97E2-433A-A2F0-C8DECE1B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11AE38-8FE4-4678-A2C3-BA0ABCE9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15D056-54D6-4E54-AFD6-75E5FDDA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596D4F-DCA1-4433-BF60-D7CEE1F0E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DCA03E-B8A5-4B9A-8E93-87A352764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A2105-8ADE-40EC-A9FC-4F3A9A75A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55EAE4-1453-461D-B9E4-A23402C21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C887CC-9D50-4677-9049-64FE639ED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D2F954-66B9-42BF-8EB5-EB502F17F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CCE0F6-73A0-4859-B57E-D7495D853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F83F68-DD99-483A-A3E2-26D32A715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BD336E-2F5B-4F6F-B9E8-D4FADC90E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43850B-D929-4AA6-B575-4DF8A6E32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459286-F479-4C21-80D2-3497AE0E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FBD9C6-EB1E-4EEB-B69C-D2AFAE57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C470AE-B88B-4414-8825-5813C2C6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4E2BF-7326-4865-8A07-A9516B9D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24EF41-E676-4D52-9B13-B0FC972D3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9B6508-EA52-4C7F-9186-252B72C1C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581269-FD1A-40E7-BACB-8C76C486F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6BD74E-368E-4682-856C-8A8CC5E93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81D921-5182-476B-A700-1AEB81FEF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C5FB43-9D32-472C-8AA9-FBE9BEA31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0E48C3-A42A-4415-8AC9-C2B0A6951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1A8872-6824-49A6-A33C-F27AD31A5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0B81CD-FDB9-43C3-85E2-CC1DA7475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D72C87-1C8D-47E8-819B-92BB16A4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7241-FF84-45CC-9226-DD31C4F76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D6A4C-2CB3-44CC-8A43-658962E6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ED729B-75F3-440B-A7A5-00FB00E4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7600D2-8610-4CBC-8355-458A3B34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009AA9-86C5-42F4-86F7-968294ADE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420506-4F8D-4FAB-884C-0858D844A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327DA1-DAA9-4BC3-A2F0-09B185197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974D0B-8B2E-4E38-8093-C74C57830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BF67FC-BA54-4B27-9AD7-EECA29967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51C38E-441B-4368-91BC-2E36AB5FD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C612AC-D7C9-420F-835A-779562FCF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2C97D5-B62D-4B1D-97D9-44C8C43E5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31B79-32D0-4599-8CD4-668E02FA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DE46C7-C452-4A94-B7E2-C2B9CBD99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DE807F-4EA0-4CDE-A8CE-D5469FA2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7A6494-BBD8-4495-A936-FB800061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BD818F-8F9D-4D0A-9044-360420B7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B29B0A-9CF5-4CC4-B5DA-9A46EFAE0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B6EBED-CA4B-44F2-8F0C-C90191810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B29A78-64CC-46D4-A211-732DEB2E1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E49FCA-E4CF-41FB-AEA5-17D712673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E02186-EE0C-4EB8-AEB2-4F9A4F720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CA285B-B66E-4416-8FD3-86A1EDDEF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0098A-0EAC-4BE8-B751-797273915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BC4763-02F3-4517-AE3B-33629D94B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1800DD-42E8-4C8C-B9A7-D5C09D202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35281D-09CA-4B27-83F6-36C758716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6E3115-0552-4C68-9E08-69AADCA6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D35C92-7328-473D-9F44-E654E6E2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71F4AA-FAE9-423D-A2B9-8B823C7D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C263A8-CF4C-4030-AD19-E65F9CCCB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6AD284-088C-4076-8C01-CCE6A7FF4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4C2648-D0CC-4ADB-AB55-CB1DC8D9D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AA6A6A-A954-4829-B9E7-1C0157350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3B7C6-8A20-416D-81B5-9A9170C73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D533DC-7168-4579-A03D-4AECE40E0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A9CCF7-4155-485E-A4EE-C1453C51E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C1D689-886D-4A48-A73C-68E2F7F48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645822-651A-46A3-BB2A-898FCBDE0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D67406-47A2-4A86-9875-00CFBF116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60ABBF-C5E6-48B7-8365-FFA2F6CE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6641D6-384A-49ED-A4FE-B6EA3D03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143B7E-1CB6-440F-BDE3-0B436594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3D554D-6ECF-4E51-8185-F6412FFD3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105B2C-88EA-4C0E-AD50-F67EC70FE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A690F-156B-44FB-BF2D-07773D6B5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16B055-866A-411F-838B-C012C3264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24013C-5F6B-4D99-B1BD-2AF6FE600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76BE22-EA3D-49EC-A31A-73E3CC232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9CAB9F-A837-4C9A-88EC-5DD859D12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9B6640-FF20-484D-8375-292960C5B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3F3CE7-2F23-4B75-85F2-24445EF0B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90E1A5-C720-4302-8AAA-0591E2C1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334832-62A5-41C8-9985-B729AABE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F87AEC-2991-41E1-95C7-3A4C388A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DB39ED-64A9-4D24-9726-C5142A44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53548-B6EC-41FD-97A3-F1580C329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22E6C1-C135-44EC-B701-127961F63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183C38-2E01-4EB6-9B62-6C96670E3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082A01-F10B-42D2-8FAF-9C3E47734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3799F8A-AB9A-4EF5-9F09-54240B4E5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2550D9-1DBB-453D-A06F-92F4739BE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AFF5037-E776-44A4-BC86-43DB66BD5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09A8F43-7973-4BDD-8946-1E7434D76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699A35B-5927-4202-94EA-64DCBF632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5748CA-523A-4A69-8C61-9EC39D7ED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6BCD871-E230-4AD9-8DDC-E147C6E1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F5470-99FF-43DD-AE11-8DDAF975B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748030D-9246-4257-A93A-834663F1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A68CFAE-F8E0-4AEB-B99B-FD9D1E0B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18B5FF4-5018-4AB9-9C92-3942E6339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CBAA638-F395-4794-B04F-1AF3F99FB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C6C3AD2-E855-4CB6-BF02-61888F872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92E50A-F5E0-4D19-BBFD-B807A6A17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FBC113C-5480-4782-9CCD-12E95EBF2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4E29938-CCB3-4C1D-B9F2-70B9F6F56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B665EB5-43EA-4D49-9F62-18B945F9F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CAF5918-BCC3-425A-8E1A-ABBBDAD25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FE999-1F43-446D-8858-1A8EF620E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F10274C-AF53-41E2-B0B4-6C688DE0B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F3D7DEE-307B-4019-91A8-9488ED97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DBD3137-75A5-4DAC-9E99-1D34C161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84AA1EE-B394-4744-A524-AF7666D5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34A125A-6D80-4894-8913-842B3AFA4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2A35644-482A-4240-BA79-E635C597F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37C967C-CE47-4E33-875C-4F698826D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E208779-97C1-4027-821F-FB2E9AD95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6540CB8-5AD4-4454-BC26-B8D632B67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0038DA9-6FEB-4E65-8735-5DB94A493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C95D5-01E0-470F-8D7C-7B0938387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7500B15-A43A-468D-8D38-57B363D3E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CD740C6-1520-478E-87F8-F7C81FE12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88F565C-1E84-49E6-9829-D9C53F3E0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4791346-C89E-4E9E-8E7D-CB2992D6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E4CFAD6-3ED3-42D1-A976-4C740B53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3DC1694-588F-4487-B8D8-5555E04E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D324D80-404B-4D56-9351-E622D9160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8D99FE2-5902-4A97-A016-8B1FAF626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5F135A0-F93C-4C2A-80F8-BC934E338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E382610-E242-45C4-9550-E7D744BD5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13881-7FAE-4808-92FD-213737B93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F927CEC-9FC5-458F-B108-F0C9C412F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864064C-8E2F-4B6E-96C9-537FE1A4F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3C54B34-F380-4A93-BFCD-30B9C78C1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2CE83E9-1DE3-4800-B979-54E768234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B05E78B-7BAD-4942-9CB8-0AFE931F6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68C3396-CBC3-41D3-B98B-D89EF331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5C8F91B-DC2C-4475-B522-69A8FFD7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D63426D-32A3-4FF0-9911-A9D9468D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2A9B8FF-A30A-4ABB-95F6-112CF8120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EFB3039-6998-40D5-A2DA-CAB258018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0961-EE4E-4D9E-AAD0-9B5B45823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A69DE-A28A-4F9C-A6C4-CD3525012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3AC02D8-BFDF-4927-8B24-534E0F998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CC911E5-17D3-43C7-A8D2-48B5095EE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12E28B9-899F-4978-8E0D-54C5D5D34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94C3A60-4B23-4793-98AB-6B77FD4FA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67B4176-577B-47C9-9A81-3A8D149E3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8E3F732-E633-4B5E-B992-1608B4CDF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932C299-E7A7-4D78-B361-BAF2B66BC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078DD9C-63F8-493B-A1A6-0EB04177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30BC901-5FEC-4B98-BED8-D43EC137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6358467-3AC5-4FA7-BFA2-1E9269FF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AF02A-95FF-43C1-A92F-85BA7079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ABB1673-E6D9-4AC9-80AE-4403D5C6E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F6CC36B-9722-4AFB-B228-DC5367B41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F17150D-B14D-4D12-82B8-15CD4A955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E15596F-F143-4657-BA79-DE49E5C3D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4E1EDE2-AD45-4FD8-84F6-6A494244C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BED12C3-AB37-497F-8D68-1DB9FBC9A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07034D0-05E6-4DB6-A515-960851842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27450CB-D9DC-4EB9-941A-A4FF8A38D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93F0E72-C2FF-4255-B9F1-E8319463B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DA961A8-3143-498B-AB74-F19E3CF5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A7F0F-8243-4A7D-A721-933D26DA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3A94BA4-2108-48D5-AFFB-79F10980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1F14CA8-DFCA-4DD8-A97D-61A0BC83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B62CCDC-B226-4B35-8F24-3A0683F85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25BD443-E341-4909-96AA-2B79389F7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1598010-6E4C-4E39-AF56-8D7F38DC7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65DA106-A7F2-4B3B-ABD5-2583968FB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B0CA2C6-68F6-4A33-B17C-64764E2CD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EE1284D-5038-48B4-B1E0-79E409A4F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5F47C56-F2C4-45CB-9EDE-9001AB629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ACD44EF-8056-4975-A28E-B384DC06E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130C3-ECBD-4C63-8791-20259046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6ED9073-5580-46EF-AFCF-06C979A1F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B47D73A-F83A-4063-8C95-CB3EBEE6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2CDDB24-EEB3-4190-9903-D06D25E7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C20B0B3-48D3-4576-98CE-B06EE022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307EBD4-37AB-431F-872F-A3EB6BA11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6F057D8-4FCF-4ECB-8F3A-51A8527E0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07C32D4-A3ED-4CB3-9E89-C6A4FEF82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9F6CDA2-F574-47F0-972B-632341879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00ABE41-90E3-4FDF-956F-E4B7417F7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2E4D02A-BD75-4DC9-A8CC-06DE93E8C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59398-CFAE-47BE-B947-5F4343258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61B8CBA-EC6C-40FA-A2FF-E95FD9CB2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67FF899-335A-4FC0-9338-071EBE2BA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32BF98E-6906-49DA-8F92-51267244E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1211438-2A47-4F43-8130-C62F26D3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BDBD5FF-B932-42C0-8D2F-C5533D8B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97750CE-74E4-4CF3-9FDD-DACDA7D27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8BAFD16-0B88-4BEA-99FD-4E3BC9537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9BA6ECE-8CFE-4401-B391-91D7D25FB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9BABA8D-26F4-41A0-9551-86BC6F446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2637392-83CF-4A4D-8821-D94EC1F80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0223E-5DD9-4C39-9824-6563811F4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C270751-F912-4ACA-A69D-6D875DEB5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29A87F9-08D3-42AA-B29D-804C27534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FEF8A31-8A69-4998-A6F6-44ADEDD34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42F6866-C2D0-48B5-8AC2-729A78675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A36B0E9-A643-430B-AFF6-6A33C927F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8C049CC-03BA-4DC2-8FC3-2B427979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F4CADBD-F032-415B-ADFC-E393F2C9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4A475EF-C980-45AD-93E2-1F572A94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39745A4-8EEE-4AE3-B26C-47E664312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482FB29-B190-4037-8D3F-D81C147A9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89D82-39EB-4DBF-9289-36C083ABC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294A3A8-2953-45AB-84FE-757535735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C756087-C6BD-4630-B7CE-D3129E949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141BD52-BDEA-4E7B-8B9F-644689582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5B21AAC-6477-4373-BC75-5A977E99A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476EC38-3B02-4541-8697-C4D1DB310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C07ACFC-6280-4527-81B9-C8B8E2584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719E0A9-092B-4C4A-BF3B-51EDF4755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1A45DA2-6763-42B9-8880-0BA66222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64AC2DF-C92C-46E8-A592-B4E545E5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B9150B6-8ED4-4936-9D20-1DA82183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8FFB9-C80C-4C49-8D74-4031CEDB2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A3B9905-92B8-4FDC-BEA0-59B9DAFEF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413CA12-8952-40B3-B7F6-EC113E350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60E37FE-81E4-4D2D-9F1C-C5DABC673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9C81011-6DA3-40D5-BCB7-94360DEC5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E85A9A1-9C5E-4659-8837-5A1D697C5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8E0C9AE-88AD-47C8-A726-73B0762A8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2904ADF-AA10-4C31-8F6D-CE14A7847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08F2860-6A1F-41F7-8281-F4553CDFD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C233489-EE50-49EE-85A5-AAB572D78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9CC2B1D-EF9C-45B3-806B-C7D21217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94BB4-83AA-4EA0-BEA9-06E6356CB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1ABCC43-5E2B-4767-A8F7-7A7F9B1E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353DBAB-573C-4849-B1CF-ED7CA0A9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35241F1-13A0-4E70-B693-80215E498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211CC16-8ABD-4C0A-804C-ECDED823B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00E92A5-5D15-44CE-B90B-38A80015A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9D522BF-962E-47F4-B59B-CC212A86A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04A3743-DF9B-47C0-9F01-F32C717FF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EBB4685-D87A-4B3A-B7CF-DA5BA228D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B710688-ADC6-4301-BAA7-9FEBFF85D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C9C7DD2-3001-4F10-AFE4-1E7A37494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78C92-C1C5-4356-A8AA-22C7F2590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8A7225E-AF4F-4334-8CF2-A37008EEC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64DFC4B-C321-4B78-BC21-D63977D8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A297A20-4A80-4D77-AC06-6795F03A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3F2EC89-6C13-4AD3-9943-C57922C3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32855DC-446C-4EF4-A2A1-BB789E8FD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E64EA4D-91DF-4F20-993E-990E1162A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A1D3606-D20D-4667-91EF-7E94839C8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576607D-DC6E-48D0-B90C-F7FB86E9C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8343E81-B992-4125-A66E-9A12E8959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C3A21C4-3F5E-448E-96F9-93703E412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BF30-6F85-411B-869D-D9E88C0D2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E8574-41B5-4D7C-A6A7-90116F48F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F6127FE-5C03-4C17-B853-F1F13A552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32EDDCB-11C9-4281-AE38-1ACA24C41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FB9F140-FF5C-41CE-8303-BA4096287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BE7C2B0-2E3C-45D7-84B5-309E3C3E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10B0DBE-865C-4E62-828F-D97A9EE1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4E1C7BD-A903-4E77-B503-0F0B0F42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FA1EB5A-F6A1-4F72-A821-EA9E95C61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02A7BEF-C262-442C-8B8C-4F754C7AC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CFA13BB-A52B-4260-9626-55B141C0B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286630F-A3DB-4191-93AE-E1C869ECD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16AD5-3757-471E-AACC-97DEB444E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D87841C-28EB-4D85-A65B-4A3693EB8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0416EE9-BDFA-42AE-A12B-E26784A74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42A6488-DDD6-4127-BFE8-15B0A1EE6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7E0D503-FE2B-4D89-AEEF-72B5493DA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8090FA3-A5B6-485A-AE86-4F905D61F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5E0650E-9FAC-4613-8649-CB33E3E0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BDDDD58-141A-4D3C-A79E-2E4A480E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DC40E61-0820-4631-9C8F-E376CBFD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56B336C-9F61-4B65-B880-B19FA3548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88420EF-8C4B-46E4-8028-3449D104E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4E545-A13C-47A3-A76A-038FAF701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BC2E282-DBF8-44AE-84BB-6B56C8449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242E080-1810-48D9-9F30-7BEB26959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A4C1AAC-898F-4705-8739-CE15E6362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E19FB3B-548B-4B73-8A3D-F531D1334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82CEFC1-692D-4DAF-81A7-7366D5ED6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D5D763B-EEFC-4938-A483-94FCDA603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08F68A2-B3BC-4235-8766-EA5588FC3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38432C1-98F2-48A9-A313-1132EC08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6D5525F-1C09-4DDE-9A6A-2AACD9A1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5468AA9-CF87-466E-A6EC-800BBB7D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35B2F-C8BB-410D-A7BF-CDF98A38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BF4C003-8AE3-4EB2-AC48-D8357A140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10ACAC7-A00C-44FD-95CE-F5079023E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0DCB662-EEDC-41D2-A98E-21977C9E1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90358-FBFA-438E-ABC6-F001E863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36B58-A006-416B-86BA-58DDEE38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96D64-4553-4E59-97BE-FD808D606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B4B86-183F-4CC3-83C5-5977C1866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E8FAE-E09F-438D-AF7B-78DA3587D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61DF4-F5FA-431A-B7B6-A22F0F85A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A919-8390-4397-A8E0-69EC4ACC3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EFECB-8CFD-425C-83C0-6F8846AD5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BA89F-3C29-46BF-83CA-C2DC038B2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56DE0-F76C-4EF5-8A37-0DD1535E2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D7F9A-4916-44FF-A689-3049A38D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C9FEC-D05A-489E-901E-567CE8E66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3B5AB-6AAB-46BA-83B3-99F40117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E4249-9260-461D-B001-A36C4371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56855-AA52-449F-9049-E96FC1A2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BBD58-707D-48EB-9FAC-B2AF014DC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71C55-0CB2-4C75-9DB1-52322DF0B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2250-87BA-42B8-BA87-B69D44F9F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48AAD-0B6F-4CF3-869C-20B74EB34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A431D9-6628-4399-9ACA-2865896C9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D0C34-D1AC-478C-B766-F877B4A59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74057-E61B-49F5-8B7D-57974AE2A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DBDA3-34DD-4751-8347-735DB6A52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41D39-D207-4D0D-A21F-89EC666DC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D5540-C534-4021-BFCA-374DA98A5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EABAE-56C4-46E9-8EAE-3CF21C60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49D79-8985-4E67-AFC2-50B2E34C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00D57-6CA6-4C72-BF5E-E6C69143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9734-3F26-4A79-8148-8747F36D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F20A4-58EA-4010-A03E-B90F8A72E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62FAD-FC48-4467-BA24-937072396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D19FC-F03A-4635-88EC-1820881E1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184E3E-9AC4-41BD-9E8A-F840FA273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48A13-858D-4983-8B7D-AFE979B86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C816D-F018-4C88-BCDF-027D38952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C9037-5403-4D29-BCD1-EED7977A7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138A7-32C5-485C-9E0D-EB4EB15A1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D34E0-BB06-4436-93E8-06148656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C1111-A0CB-43E1-B29D-5053C4CD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FFFA-C899-4178-A0E8-D4543713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426C3-C310-42D8-8E94-275EA2E5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178BC1-12ED-4564-AB44-20DB7D10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9896E-1613-4E37-A466-DA0AA09C3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D05216-17B1-4112-8D4A-99A08C00B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B1205-31C7-4C42-8944-B8288B2A0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1A91AA-A96E-4076-BCC9-D839AAAA5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C332FB-B985-42F1-AACC-DA9F736C6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96DBFA-7A15-4AF4-8376-14D3E4C55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032EF-1FED-4BBE-A088-4ECFAFA64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1DAEED-3E08-47DF-AA4A-0A69D9C50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0569-8DED-4702-9079-39916A3B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EC8F58-7BC9-4675-AA78-0F3D481FE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CACD29-490B-4EF0-B8FC-E08BC0DD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2F92DA-E946-43C2-A663-51BC7610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7B1BBA-40F4-4C11-A924-B0A9F320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6DDEF0-69B2-46CA-992E-23C21D451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177266-299D-4149-B112-0D8D4C208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2016AE-57BC-4025-8838-073EF667C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74373A-B8B2-42DF-9824-B7EA183FC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962B77-B636-405F-AA58-1F530A11E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08C765-7998-40C9-A290-46A9608D5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00D5-0C4A-44B1-ACD6-30A1E14A6C1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C6878-A4A4-4882-A6D4-CE5D732D225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D4AB-16AA-4C4E-95DC-7EDD4AA7ED2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D40EC-98FB-4EEC-AABC-C3CDCBC9C20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B1C0D-32B1-4A8B-9209-59BAE420805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EE024-036F-4B19-A3E0-FB39969ADA6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7D41F-797F-47C3-A54B-4A56DE733EF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28EA5-EA57-4966-A7E2-75E17D83EE4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86E52-6F94-499B-835B-C20FB8A4F23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6FFDD-4BA1-497B-A6D0-6EDBADC35DC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AA5AA-77DF-4CFD-A6EC-46270DB6C26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33C77-E472-4E01-A4BA-09871A2430E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B6ABF-1C7D-44E4-A6E9-5ABA08C7923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B8B94-943F-4CFB-897C-23999469E10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2C885-D6EA-49F2-85F7-BD9364952B3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BB222-4CEB-45EF-94AB-13D75194CC8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C0259-9E29-4589-A0A9-C3753B52742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E40E0-013B-4F58-BCA1-051B55105E8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A96D1-C627-4D01-A22C-E2CADD0358A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39BE8-BFE6-4307-9434-AABA7C30ED9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6E4FB-3A9F-4574-80CB-46F9B3A50D4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60FA9-ED00-4327-9EA3-A3F7496A35D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EEA2A-5795-42A7-BE74-BFF97D4C962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07C80-CF10-4858-88BA-0C1799CD45D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050A9-3C4B-4EA4-85FA-572FDEA4641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C2AEA-512C-4C29-99DC-64E82D08F18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2AECF-7AFB-41A8-AE6B-533300D1778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DC87B-F44E-45D7-B1C3-8D4F2AE6CA3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E213D-6A1D-42F0-8E29-3FFDF3FF23B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77CC7-2990-4DA9-9999-6760B9FF906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A76FE-690E-4EC5-AF9D-742C84B9377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2F24E-F868-45D7-946E-95912690242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F9B0A-23BF-41EF-A259-1A243765C29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3BE77-6F58-48CB-83B3-EEA2A65D04B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6ACD7-98D5-44BD-9BF7-3B7D5B1CF64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A4B5-5555-4F9A-8B24-424FB339739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3" name="Picture 2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7848360" cy="3868560"/>
          </a:xfrm>
          <a:prstGeom prst="rect">
            <a:avLst/>
          </a:prstGeom>
          <a:ln w="0">
            <a:noFill/>
          </a:ln>
        </p:spPr>
      </p:pic>
      <p:sp>
        <p:nvSpPr>
          <p:cNvPr id="1484" name="Rectangle 3"/>
          <p:cNvSpPr/>
          <p:nvPr/>
        </p:nvSpPr>
        <p:spPr>
          <a:xfrm>
            <a:off x="0" y="106668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44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48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Rectangle 5"/>
          <p:cNvSpPr/>
          <p:nvPr/>
        </p:nvSpPr>
        <p:spPr>
          <a:xfrm>
            <a:off x="1428840" y="6541920"/>
            <a:ext cx="65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SETTORE SERVIZI ALLE IMPRESE e FLOROVIVA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142920" y="2428560"/>
            <a:ext cx="885816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Arial"/>
              </a:rPr>
              <a:t>avvio del procedimento -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art. 12 e 13 della L.R. n. 56/2009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notifica delle </a:t>
            </a:r>
            <a:r>
              <a:rPr b="1" lang="it-IT" sz="2000" spc="-1" strike="noStrike" u="sng">
                <a:solidFill>
                  <a:srgbClr val="333333"/>
                </a:solidFill>
                <a:uFillTx/>
                <a:latin typeface="Arial"/>
              </a:rPr>
              <a:t>comunicazioni di avvio del procedimento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portale agriligurianet nella sezione PSR – sottosezione misure/;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Bollettino ufficiale della Regione Liguria (BURL).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0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Freccia in giù 4"/>
          <p:cNvSpPr/>
          <p:nvPr/>
        </p:nvSpPr>
        <p:spPr>
          <a:xfrm>
            <a:off x="3857760" y="3714840"/>
            <a:ext cx="71424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571680" y="9284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3" name=""/>
          <p:cNvSpPr txBox="1"/>
          <p:nvPr/>
        </p:nvSpPr>
        <p:spPr>
          <a:xfrm>
            <a:off x="142920" y="1714680"/>
            <a:ext cx="885816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cura del Settore Servizi alle Imprese Agricole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ella ricevi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o dei termini e delle modalità di presentazione della domanda di aiu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documentazione (documenti essenziali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firma del legale rappresentante (ove richiest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struttoria di merito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dei requisiti dei soggetti proponent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oggettiva delle domand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zione del progetto/corso/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ttribuzione del puntegg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i prescrizioni e proposte di azioni correttiv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4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142560" y="1785960"/>
            <a:ext cx="864396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e 2° bando Misura 111 “informazione”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creto del dirigente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duatoria delle domande di aiuto ammiss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lenco delle domande aiuto ammissibili e finanziabili in base alle risorse dispon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dempimenti per le domande non ammissibili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ACCORDO tra Regione e Soggetto beneficiario</a:t>
            </a: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114 e 1° Bando “informazione”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llaosta (Atto di concessione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7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Freccia in giù 4"/>
          <p:cNvSpPr/>
          <p:nvPr/>
        </p:nvSpPr>
        <p:spPr>
          <a:xfrm>
            <a:off x="4143240" y="2071800"/>
            <a:ext cx="42876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Freccia in giù 5"/>
          <p:cNvSpPr/>
          <p:nvPr/>
        </p:nvSpPr>
        <p:spPr>
          <a:xfrm>
            <a:off x="4214880" y="3571920"/>
            <a:ext cx="4284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590400" y="200016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conclusione del progetto/corso, preventivamente indicate nella scheda tecnica e definite nell’accordo/nullaosta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re nei tempi previsti dal progetto/corso approvat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e richiesta motivata di proroga (escluso 1° bando – misura 111 informazione”) non superiore ai sei mesi sulla data di conclusione (compatibilmente con le scadenze comunitarie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2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Attuazione Proget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214200" y="1928880"/>
            <a:ext cx="86248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pese Ammissibili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finite nel Bando (punto 7), in particolar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confronto a consuntivo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tra n. 3 preventivi (non richiesta per beni altamente specializzati e per acquisti di beni - importo di 500 euro x domanda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V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non riconosciut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econda del regime IVA e per gli Enti pubblici</a:t>
            </a:r>
            <a:r>
              <a:rPr b="0" lang="it-IT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tegorie di spesa e voci di spes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previste dal Bando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delle spese è valutata ai sensi della DGR n. 372/2008, e ss.mm.ii (DGR n. 1396/2008, n. 317/2010, n. 580/2010, n. 815/2011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grue, conformi ai prezzi di mercato e coerenti con il progetto/corso approva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ificate e giustificate (preventivo e consuntivo) - distinte per catego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5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Rettangolo 6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2868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Times New Roman"/>
                <a:ea typeface="Times New Roman"/>
              </a:rPr>
              <a:t>non sono ammesse varianti</a:t>
            </a:r>
            <a:r>
              <a:rPr b="1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minuzione del punteggio attribuito 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di ammissibilità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del progetto/corso/s originario in termini di obiettivi e di risultati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sostanziali tecniche ed economiche della singole tipologie di intervento approvat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umento dell’onere a carico del contributo pubblico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609480" y="99972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142560" y="1500120"/>
            <a:ext cx="871524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 Black"/>
              </a:rPr>
              <a:t>Per la misura 111 e 33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Costituiscon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i in corso d’oper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immateriali di carattere giuridico, tecnico ed amministrativo (es. cambio di sede di realizzazione dell’intervento, adeguamento del crono programma, sostituzione del personale coinvol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materiali: riduzione della spesa prevista per la realizzazione di un intervento ammesso all’aiuto (a causa di economia o mancata realizzazione, parziale o totale) e contestuale increment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riazione in aumento fino ad un massimo de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%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s. spese di personale, materiale consumabile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simo una variante finanziaria per domanda di aiuto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richieste di varianti devono essere preventivamente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unicate (preavviso di 10 giorni) e autorizzate dal Settore Ispettorato Agrario regionale (prima della data di scadenz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5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213840" y="1714680"/>
            <a:ext cx="86439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b)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costituiscon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e in corso d’ope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(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comunicate e autorizzat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iduzione dell’importo (per economia di spesa) in una o più voce di spesa ammesse all’aiuto, senza contestuale incremento di altre voci di sp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ifiche di portata minor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non determinino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un aumento superiore a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per ciascuna categori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9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Domande di Paga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609480" y="178560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domande di pagamento e le relative rendicontazioni tecniche e finanziarie devono essere inviat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 Settore Ispettorato Agrario Regionale (competente per territorio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isura 114 e misura 331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60 giorni dal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Bandi misura 111 “informazione”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ulistica predisposta da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tati avanzamento lavori (se previste) e saldo finale (non ammesse anticipazioni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alità di rendicontazione e di pagamento sono definiti nel dettaglio nella DGR n. 372/2008 e ss.mm.ii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3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Rettangolo 7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iolazioni di Impegn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285840" y="1571400"/>
            <a:ext cx="85550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fattispecie di violazione di impegni e dei livelli di gravità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entità e durata per ciascuna violazione sono disciplinate dall’alleg. 7 del Band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DUZIONE e/o DE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cuni esempi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tardo nella presentazione domanda di pagamento, non conformità del materiale informativo, variazioni varianti, comunicazioni di varianti, etc.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o salv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o disposto ai sensi dell’art. 31 del Reg. CE 1975/2006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inapplicabilità di quanto disposto al presente articolo per i casi di forza maggiore previsti dalla normativa in mate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applicazione di ulteriori norme comunitarie nazionali e regionali in materia di illeciti amministrativi e pen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9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Freccia in giù 4"/>
          <p:cNvSpPr/>
          <p:nvPr/>
        </p:nvSpPr>
        <p:spPr>
          <a:xfrm>
            <a:off x="4286160" y="2214720"/>
            <a:ext cx="64296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669900"/>
                </a:solidFill>
                <a:latin typeface="Arial"/>
              </a:rPr>
              <a:t>TITOLO</a:t>
            </a:r>
            <a:endParaRPr b="1" lang="en-US" sz="3600" spc="-1" strike="noStrike">
              <a:solidFill>
                <a:srgbClr val="669900"/>
              </a:solidFill>
              <a:latin typeface="Arial"/>
            </a:endParaRPr>
          </a:p>
        </p:txBody>
      </p:sp>
      <p:pic>
        <p:nvPicPr>
          <p:cNvPr id="1488" name="Picture 4" descr=""/>
          <p:cNvPicPr/>
          <p:nvPr/>
        </p:nvPicPr>
        <p:blipFill>
          <a:blip r:embed="rId1"/>
          <a:stretch/>
        </p:blipFill>
        <p:spPr>
          <a:xfrm>
            <a:off x="2357280" y="1268280"/>
            <a:ext cx="5346720" cy="2519640"/>
          </a:xfrm>
          <a:prstGeom prst="rect">
            <a:avLst/>
          </a:prstGeom>
          <a:ln w="0">
            <a:noFill/>
          </a:ln>
        </p:spPr>
      </p:pic>
      <p:sp>
        <p:nvSpPr>
          <p:cNvPr id="1489" name="PlaceHolder 2"/>
          <p:cNvSpPr>
            <a:spLocks noGrp="1"/>
          </p:cNvSpPr>
          <p:nvPr>
            <p:ph type="subTitle"/>
          </p:nvPr>
        </p:nvSpPr>
        <p:spPr>
          <a:xfrm>
            <a:off x="356760" y="3929040"/>
            <a:ext cx="8643960" cy="2214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 Black"/>
              </a:rPr>
              <a:t>Seminario Informativo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 Black"/>
              </a:rPr>
              <a:t>nuovi bandi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1 “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n. 677/2013 e 672/2013)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4 “consulenza aziendal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10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331 “Formazione e 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31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Revoch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accertata falsità di dichiarazioni sostitutive di certificazioni o di atti di notorietà contenute nella domanda di contributo o allegate ad ess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ncata realizzazione del progetto/corso/servizio di consulenza ammesso a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del progetto diverso da quello ammesso a contributo o diverso dalle varianti autorizza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liquidazione del contributo irregolar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ve irregolarità dei documenti che attestano le spese sostenute da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necessari per la concessione del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nuncia de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3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 Gener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285480" y="1857240"/>
            <a:ext cx="86439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nei tempi che consentono il raggiungimento delle finalità della misura in conformità agli obblighi derivanti  dalla normativa vigente e dal PSR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in modo conforme e in coerenza con la proposta approvata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tere a disposizione  della Regione e di ogni altra autorità pubblica incaricata dei controlli, tutta la documentazione necessaria a svolgere l’attività di controllo, anche nel caso sia detenuto da terz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ntire l’accesso degli incaricati dei controlli ai luoghi  dove si trovano i documenti oggetto  dell’aiuto pubblico ed ai luoghi dove viene svolta l’attività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rvare  per almeno 5 anni tutta la documentazione (lett. C, art.7, c. LR 42/2007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curare il libero accesso alle iniziative previste a tutti i potenziali destinatari, senza nessun vincolo di appartenenza a forme associativ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6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Normativa di Riferi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356760" y="1642680"/>
            <a:ext cx="86439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ali adempimenti e gli obblighi sono previsti da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golamenti comunitar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gramma di Sviluppo Rurale 2007 – 2013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R n. 42/2007, in particolare l’art. 7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BAND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ispecie di violazione di impegni e dei livelli di gravità, entità e durata per ciascuna violazione, ai sensi del DM 22/12/2009 (all. 7 del Band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038 del 10/09/2010, relativa all’individuazione delle percentuali di riduzione in base ai livelli di gravità, entità e durata delle violazion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233/2008 “Disposizione in materia di pubblicità e informazione sul sostegno da parte del FEASR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372 del 4/4/2008, e ss.mm.ii  (DGR n. 1396 del 29/10/2008, n. 317 del 9/2/2010 e n. 580 del 28/5/2010, relative ai criteri per l’ammissibilità delle spes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9" name="Rettangolo 3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653480" indent="-1653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STATORI DI SERVIZI AGROFORESTALI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entrano esclusivamente i soggetti che hanno ottenuto il riconoscimento di Organismi abilitati dalla Regione a fornire i servizi di formazione, dimostrazione e consulenza alle aziende agricole e fores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ciari dell’aiuto: misura 111 e 331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ggetti attuatori: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i BENEFICIARI DEGLI AIUT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FFIDA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 soggetto proponente in base all’esito di eventuali altre operazioni cofinanziate dai PSR (dal 2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NSUSSISTENZ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i relazioni di parentela o affinità con dipendenti regionali“ (Dichiarazione  sostitutiva di atto di notorietà  (“Piano di prevenzione della corruzione e Programma per la trasparenza e l'integrità 2013/2015“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E MINIMIS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ove previst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1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2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ccia in giù 4"/>
          <p:cNvSpPr/>
          <p:nvPr/>
        </p:nvSpPr>
        <p:spPr>
          <a:xfrm>
            <a:off x="3929040" y="2571840"/>
            <a:ext cx="5716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mprenditori agricoli iscritti al registro delle imprese, dotati di numero di partita IV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peratori forestali, iscritti al registro delle imprese, che abbiano un’attività principale o secondaria con codice ATECO che inizi con A02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ggetti beneficiari per la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stinatari della formazione e informazione per la misura 111 e 331 (possono partecipare coadiuvanti familiari, iscritti all’INPS, e lavoratori dipendent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i destinatari con sede legale nelle aree rurali ricomprese nell’Asse 3) del PSR (zone C e D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2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6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Freccia in giù 4"/>
          <p:cNvSpPr/>
          <p:nvPr/>
        </p:nvSpPr>
        <p:spPr>
          <a:xfrm>
            <a:off x="4071960" y="3000240"/>
            <a:ext cx="785880" cy="642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Entità Aiu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9" name=""/>
          <p:cNvSpPr txBox="1"/>
          <p:nvPr/>
        </p:nvSpPr>
        <p:spPr>
          <a:xfrm>
            <a:off x="356760" y="1571400"/>
            <a:ext cx="85726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% di aiut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euro 327.4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 de minimi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3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euro 447.662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80 % de minimis </a:t>
            </a:r>
            <a:r>
              <a:rPr b="0" lang="it-IT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solo per consulenza forestale)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1): euro 1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2): euro 3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0" name="Rettangolo 4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ocedura (FASI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2" name=""/>
          <p:cNvSpPr txBox="1"/>
          <p:nvPr/>
        </p:nvSpPr>
        <p:spPr>
          <a:xfrm>
            <a:off x="590400" y="1785960"/>
            <a:ext cx="822960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zione domanda di aiu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struttor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rovazione e negoziaz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cess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tuazione proget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3" name="Freccia in giù 3"/>
          <p:cNvSpPr/>
          <p:nvPr/>
        </p:nvSpPr>
        <p:spPr>
          <a:xfrm>
            <a:off x="4500720" y="221472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Freccia in giù 5"/>
          <p:cNvSpPr/>
          <p:nvPr/>
        </p:nvSpPr>
        <p:spPr>
          <a:xfrm>
            <a:off x="4500720" y="30718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Freccia in giù 6"/>
          <p:cNvSpPr/>
          <p:nvPr/>
        </p:nvSpPr>
        <p:spPr>
          <a:xfrm>
            <a:off x="4500720" y="40006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Freccia in giù 7"/>
          <p:cNvSpPr/>
          <p:nvPr/>
        </p:nvSpPr>
        <p:spPr>
          <a:xfrm>
            <a:off x="4500720" y="485784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ttangolo 8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213840" y="1143000"/>
            <a:ext cx="86425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9" name=""/>
          <p:cNvSpPr txBox="1"/>
          <p:nvPr/>
        </p:nvSpPr>
        <p:spPr>
          <a:xfrm>
            <a:off x="357120" y="2071800"/>
            <a:ext cx="846288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“cassetti”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1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luglio 2013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2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20 settembre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IMPORTANT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: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entro le ore 12:00 della data di scadenza, indipendentemente dalle modalità di inoltr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0" name="CasellaDiTesto 5"/>
          <p:cNvSpPr/>
          <p:nvPr/>
        </p:nvSpPr>
        <p:spPr>
          <a:xfrm>
            <a:off x="166680" y="6510240"/>
            <a:ext cx="34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714240" y="107172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2" name=""/>
          <p:cNvSpPr txBox="1"/>
          <p:nvPr/>
        </p:nvSpPr>
        <p:spPr>
          <a:xfrm>
            <a:off x="142920" y="2287080"/>
            <a:ext cx="8858160" cy="38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presenz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la documentazione prevista dal Bando</a:t>
            </a: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documenti essenzial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altri document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firm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 legale rappresentante e coordinatore tecnico </a:t>
            </a:r>
            <a:r>
              <a:rPr b="0" lang="it-IT" sz="1600" spc="-1" strike="noStrike">
                <a:solidFill>
                  <a:srgbClr val="333333"/>
                </a:solidFill>
                <a:latin typeface="Arial"/>
              </a:rPr>
              <a:t>(ove previs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compilazione e </a:t>
            </a: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rilascio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sul portale SIAN.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3333"/>
                </a:solidFill>
                <a:latin typeface="Arial"/>
              </a:rPr>
              <a:t>NON RICEVIBILITA’ DELLA DOMANDA DI AIUT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3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Freccia in giù 4"/>
          <p:cNvSpPr/>
          <p:nvPr/>
        </p:nvSpPr>
        <p:spPr>
          <a:xfrm>
            <a:off x="4143240" y="5072040"/>
            <a:ext cx="642960" cy="571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590400" y="107136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6" name=""/>
          <p:cNvSpPr txBox="1"/>
          <p:nvPr/>
        </p:nvSpPr>
        <p:spPr>
          <a:xfrm>
            <a:off x="142920" y="2071800"/>
            <a:ext cx="8858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cumenti essenziali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odello SIAN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pia della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rta d’identità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 corso di validità del rappresentante legal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finanziari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tri documenti (in base al Bando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regime IVA e altri finanziamenti con fondi pubblic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“de minimis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urricul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7" name="Rettangolo 4"/>
          <p:cNvSpPr/>
          <p:nvPr/>
        </p:nvSpPr>
        <p:spPr>
          <a:xfrm>
            <a:off x="1940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2:33:51Z</dcterms:modified>
  <cp:revision>100</cp:revision>
  <dc:subject/>
  <dc:title>Presentazione standard di PowerPoint</dc:title>
</cp:coreProperties>
</file>