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473E-5CBB-4EE8-ACC9-3085A2CAB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F51D-EF5D-4E13-AEDC-CF7F64B9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70CC8-0565-4BD8-9A0D-24A9BFFB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FC0800-CCB3-444D-B6B2-3DA4A1DF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40D0A-AFD5-4254-953D-17374A60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BEAE5-27FB-4100-9BDE-5B60D6A1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0C832-DEFD-4266-9774-3A0FA114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3905F6-F8FC-405F-9D4B-3BC0888D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EE521C-1F08-4D9A-A472-AC2A9C58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87D72-003D-4E7B-889E-A23D33294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EEC0A-FECC-4B04-BE90-9659696B8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4E2DD-ED97-4BB0-BABE-0DDDEB6DF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1C1F-02CA-43B2-8AFF-DEA8051FF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5D0F2-BEF4-4B7D-860D-3F916E96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4029E-158F-4738-89E2-159B67EB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396ED3-3F2D-40F3-B39F-21342907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44B576-1993-4875-9FF9-B2C9DF55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CB81B7-2F99-4814-AF71-AD4F9455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C4EEC-01AB-4B3C-8B3A-FC090C93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6EC084-6F02-48E0-BD36-DF7AC64C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471E98-3355-4B11-AE95-599CC2CE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021453-0D7D-4135-A55C-6F709109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83CC7A-073A-4CB8-8E4D-8C4B8DBEC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6198-9B1E-484F-9D91-46AFD7605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569EE1-9F47-4F94-B9EF-E6C0AF7B0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5973F-F720-4B83-A060-634DD2DFD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6CCC5-36C5-478D-B15D-4F1B98C5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28480-0B2C-4D46-8317-BD2FCFD3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57B31-82D4-46F2-810A-D2A2AA9D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12D91-431B-4E19-84CD-23CF5A71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64A61-0A6F-4503-BEFB-BC5DAD2B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12A35-F908-4AE5-9B80-EE916934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1C04F-2473-48EC-BA8E-83FB3166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107D5-B56F-49CC-B986-9FBAAA40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F1B6-2FCE-4B02-8A9F-49FDA8FB4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03618-4B7C-4F4E-B8D7-B5E38135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29C9A-572A-4530-9491-47C055A8C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712A5-DCAE-4546-8291-1A563C638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7872E1-6647-4BDB-8000-4641FE864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E88080-A1C5-4953-A747-5556FC95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0B1F40-AEFA-4EA6-9D2E-73878991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60748C-4A8F-4D56-8895-FAA8C249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84D6B3-B5DE-46B4-9E21-515656D1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2F7155-BB2B-455E-A91F-CEBCE875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46D199-9C7C-428C-B54F-CA6B0AA6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92F5-1BA6-4831-932D-C5E0DAA1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5CE91A-6CBD-4481-B525-FBA65B91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3125B-3419-4F98-A99B-429568F3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64320E-2121-41FE-ACFA-841CD4B0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B63630-F9D0-42C0-BB15-B6B379B4C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2DB607-A18F-4398-A913-5F315135D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B06810-B57F-4772-B04F-41C56FB0C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6CCBB1-DD67-43B9-8340-BC3FB4B5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E9C0EF-0D98-42EE-B39C-0833780A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485628-0226-4750-B328-C0202EEB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E2BB31-7925-4533-B129-FDD818BE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9B11-D5B0-4D42-91C6-C0396A5B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18E1B6-6B82-435A-BD09-4CB9AD4A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BDABD8-E661-4C5F-8F6F-291D3028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29F544-2B68-4E49-995E-4A0AF9DA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A667A5-A471-4B30-A43E-BC7BB79F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91DB3B-6FE1-4A13-AD93-A66B3D29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3B0AF9-4C88-465A-B107-56671B6CF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C1ED56-1D8A-4F3F-B225-84C2B6E21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5F690A-7AC1-4737-987F-5512C52A9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52BBC1-3509-4EBD-B634-7B57C486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B554E0-398C-48D5-9100-333F7D21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0084-3A2B-4A77-BD87-D7FB9A83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241D75-A7A6-489D-9420-A2FA184C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E1C1DB-1789-4DAF-84DB-F456AC42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A0A204-0253-4DB1-B8B9-C97D0676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8CCC89-FB85-4229-8DDA-F738E31C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81222F-EE0F-4903-AF42-DE229A4C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8299F5-7450-4572-9288-C4BCF140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6D096B-ABC7-4A15-BEC6-0AAD376A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DE404B-B7B1-4C9F-9C91-92A5582C9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070627-D76F-40C5-BD49-861D4D9C8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AF095C-B293-485D-A758-08617B709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4E8D-8F24-488E-8D0B-71F17AC9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0ED7F3-E1A5-4FF6-AA67-464CD48B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AA45E5-2366-420E-8AF3-CAC683F1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6CEF4D-8770-4593-A64B-D59D4BED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D4FCFD-D691-4940-8689-A19FA433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80C1AB-BE88-4CF6-BCBB-7481429C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7178A6-8CF1-403E-BBF3-9C8A5170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3AE2D9-E80B-406B-AE90-CF31244C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96B337-5C78-42DC-BC72-2C1AC075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BAC8A7-92D2-4704-8416-28A52330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0EB90C-265A-478F-8CAF-F365A4F66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9CF3-429C-429A-B3EE-3286E54F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03EFD4-3A0A-4CCF-BE94-17FB91454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D2CF6F-83A7-4856-95A7-A3DD3095A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A11583-98E8-4407-BDC0-7F2EAB09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67C0ED-99A7-4895-8AF2-A0A7144E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30264A-21EB-4098-87E8-856AE1D2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5AA371-1DCE-4160-8412-14905F2E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68728D-32AC-43ED-8290-5B3DAC7F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1149FC-656A-422E-AB98-ED282E7C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EC64DE-BEE7-4990-BFC9-79FAD7E7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9426A3-51D8-4A27-B86D-83725D60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87EC-DD20-4FEA-93B0-F46380E0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211A16-9469-4558-AC95-0DBC2753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F1CA37-3B08-4EEA-94B0-5A848AFC2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5E91DA-4D3E-4096-B21A-C1D2B0D54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330F2D-E72C-4BF2-A531-D93A7D5C4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0A364B-1127-47F6-9FC9-3715488D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F6F0B5-DC21-4BB5-9125-787E4DAB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4EE1E5-0BC4-47FB-AB84-613A9F2E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FE80C2-13A7-484B-8A5E-75DAE0F2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5C55F8-3D42-4492-94C5-71F43C8A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1B3AC8-AE5A-4EFD-9D61-B6952223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4779-EB15-48C5-B272-8609D06D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F465-A13D-425B-99BF-6507E977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681186-A3C7-4488-BD38-6DBA233C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28A4E9-1BAC-4169-AE32-C78A841D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CEFC81-2938-4B70-86AD-3E5F9C38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B6C232-5F68-4FFF-91D9-C23E00668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79A8A0-8E81-4175-B02B-652157187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08A6B5-66BE-4C56-B030-68794CF4C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977CE5-231D-4634-8371-A77F2FD0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7EB047-494D-4902-BD31-B333D08E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870F6F-2D0E-4941-97F5-3590BC35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9A4343-F518-496D-AAE3-8A4333DB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07B5-FE22-4403-BBCD-118FECF2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615745-5634-4E70-BD33-E977B2B2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15F90B-8508-4971-9484-93466615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6185F4-192B-4351-8DBE-C8AA3EE4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7FE060-F609-43A0-B778-A768DFB0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6A5DF9-CBF7-4D55-B149-A78AC402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49F628-42F9-45F7-B84A-C6FFAF013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63C85D-9C92-452E-B987-B17DA4546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F78D27-2236-4667-8878-BB8BDAC06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66632B-81C7-4575-BF47-943C3C63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7F9B5F-4773-4872-B142-F4498B77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1390-AD4D-43A3-99A4-FDCF71F8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97A270-B6FD-46E5-9C48-36B5B31D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CA9C4F-5477-47FC-A8A1-F392764B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0F6926-D1D9-4689-A473-143D2F51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DDFA20-B82A-47F9-982F-2772F4E4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436004-6672-46DA-8B8C-14A3F74B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627FF9-F579-4B47-BB5C-D0290149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720543-D18F-4BD0-B968-B2DCB126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FFE550-DFD6-4AC5-AB1F-B3F6C17D0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2BB48B-1ADE-46DA-9B59-883C258C9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930A90-F4C5-4C5C-8A3C-AC52E00FB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7B2A-CE7F-4CCC-8154-40E7206D8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C73166-338C-4306-9CA5-5960212A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86468C-725B-450B-A5BE-3AC95779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8EB208-DCB4-47DF-8BE8-98635929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BDA48F-ED7F-4626-9FD6-BDF69352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88CEE7-AEC7-4D26-9D74-F7B61759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BC3603-6207-402D-92A4-E3CAD809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AF6729-EAD5-469C-9B6A-5FAF7CD9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1FC9EB-5269-4BB5-BDA1-8232184A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D4A4AA-7F68-42B7-B3DE-07EF256E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A16DBA-C585-4700-8A6E-9B716C645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2CF6-BD4C-4825-A7B4-B539EBF26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24A445-107F-4412-B5D5-955DCDD0E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509D7C-414F-4968-A409-4433222BE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865C31-84C1-410F-B602-D3C53970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36935E-BD01-4318-99D4-DA4EF6F2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CCF1C9-91FD-40E5-AFF0-CF077718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E8E45E-7B74-41C3-B30C-14A196A8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01FD7E-CCAB-48CD-9AB1-7BBE946A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EEB749-7C72-453D-9AB7-4C868C0B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4BC8E0-CF86-48FA-8B1D-567FCD6E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E3D7AC-9CD4-49F0-9122-5C6FFE2A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7466C-15EF-4FB2-BB65-2EBC3CAED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A870A6-C57B-4402-B64B-5A737B75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F19343-4C4F-48B3-9197-3161104A7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91E0D5-E3A0-415F-BD87-820B24201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568CBC-4231-401A-8999-7EA26F706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F86A4D-AE11-46D8-90EF-9ECDC782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F12D4A-C2EC-44A8-9CCF-0E5A5601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4E13D1-D1EC-4984-B31A-73D09417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3E2CA6-0474-44C6-B6B3-89B7442B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7D18A3-49EC-42C1-9A7A-F52AAED2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E2369D-2EB7-482C-A28D-9B7E8AB8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2FCB9-A229-403A-8E06-80C7026E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32235A-AB41-442B-B326-06201AE4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ED5FEF-1FE7-460E-A5F7-1F6BB605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FE79B3-D7B9-4FF9-8D6C-4994A6A2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323837-4AA5-498F-82B0-EF25E2032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85F4E1-A980-4C22-8B39-0FD612CBC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615219-3A11-4215-95CF-FAF3FAA68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748A99-710A-4D45-B15D-BF256C0B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E61C0D-6A2A-4A69-B58A-031D84B8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4F10AB-BF53-4B19-9D7E-43B14F33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B7227D-F375-45DC-BE99-400BB959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C465C-3BE6-4AE7-A351-F6E74749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2C8826-35EA-454D-8AD6-57452793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C42DBF-85BC-435E-B8F4-F30ED82E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52DC92-73A6-4714-9226-8C8DE17F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6D5F22-0C9B-44FE-A537-AB41D19B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0D9E8F-0CD8-41C8-8088-10B45E4B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9E92A0-C2AB-4DD8-8D02-1B5A6A192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DDA6E7-01A0-4D59-B03E-4B047F233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B27623-D5A4-4BBB-88A5-8DCB05EA4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969CD7-6FB6-494A-9E8A-7B54ED05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6CFC09-B2F5-4A0A-BF8A-A575BF7F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940C8-C089-491B-81FA-2ED1D87A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4A95F6-9BCF-4450-9987-1A9ECCAE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B7F168-BC78-4A9E-9DC8-9FB618BF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0AF19F-1C53-4033-8404-5E4DFA20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1EFB21-C88C-49AD-A4DC-22923F9C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6D54B2-C78D-4B00-A114-142A62ED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F65B43-2CD9-49F0-9236-6EBB490E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4B338D-5947-4B06-8456-446DDF7A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44EB31-F313-4154-BB77-F1940604C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5C2AFF-3D93-4CD3-9549-1535D1BF0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83D8D-818D-4795-8E1B-84D99378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C68D-5CAD-481C-8D6C-80C95EDB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43755-47F8-4E25-BFDB-AE50E7F2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3C465-1DBF-4FE2-889C-2024C233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76D67-3F70-493D-BFC3-BB450C43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4FB3E-D668-4E1F-8756-9AD15B63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F7D21-AC89-4671-8389-C3F53B20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21B43-3BB3-4F80-80A6-39025E2AA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5B2E7-45F2-4104-A764-E5CAF640E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56446-259B-4AFD-9ECA-D8F4D9410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C254E-561B-4F8D-BAAE-74AF540A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FE269-B2D8-4F18-B68F-83CFB6F9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9CEA-C7A1-418D-A85F-3EEF8F4C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35873-355D-4DE4-A56C-1745B16B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38D2C-1D5E-4753-A73F-8929A1EA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5C6E4-FC72-4D09-9336-B048C38C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539C5-D966-4119-BF81-DC3640B5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8A8F7-1589-4C7F-AFBC-801594A8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B8769-A2C9-4E2E-B781-A1C8A470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DD32D-9A20-4B6A-A2B5-A4D6A256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3B635-F6E4-4E37-984F-98B75F6E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E1813-5FAC-4636-A8D0-4D7C26C84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62CC2-72E3-42ED-ACF3-F21325E22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46C7-3560-4FEB-9FBA-B1DBFAD1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57E55-C9EB-4301-A624-DD2934A5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1C77C-AEB1-4082-9C54-0A25BEF4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E04A4-D0F8-444A-9307-B18BF040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45043-124B-4E40-B77E-6FE461D6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165FE-524F-420E-B95E-917FFED5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FC9E0-6E5F-4567-9A63-618852CE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B7ECE-B765-42B0-8376-9BDFF019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39887-3C7B-419B-8724-D84CFB79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32648-A40B-43ED-B5C0-51F4929B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E4983-5946-42D0-A6D6-CA2A3FAD1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7AA6-71B0-4220-AC73-B5D0A433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02C19-CD50-4EA9-9BE5-B8B5A41FF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44D56-163F-49E2-A100-ED13DD823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5382E-AA39-4BEB-96CA-FF736DAA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282E1-46D6-48F7-A560-253932C3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9D185-1341-466F-9793-16ABBB5B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2D6A3-86BD-412C-B781-9B914257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8C13B-D888-4230-B2A6-E4E1915D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BC3B9-30BE-4BAB-A409-8950F568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A35D0-7A0E-47A5-8B70-7F7EB9DC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600C3-9F7A-4E52-8237-2D71964B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6BE9-BE2F-44CC-BAEE-17BB587C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A31F9-97E1-4049-81FB-35372933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3B5A6-FE77-43F4-8CAB-287BB773A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725D9-DA7A-4394-BD6F-14334993F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D4620-56B9-4163-968A-110312CAF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1B2FB-9799-47C4-A2E2-D18AE527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DFEBC-67D0-4AFD-93CF-CE4D2F01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FC80F-5AC3-4A7E-9189-8673E3C6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D70BC-C291-4092-9180-61CF24B2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74EC7-5606-42B7-9905-5AECA701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28EC1-F1C2-4A9D-839C-82DC070C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E5A8-F6D5-4891-A56E-BA27F114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268A8-60C2-4B1D-A7A0-EA53BB1E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A8D39-8DE4-4DF5-A566-0116F4C0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78CCA-3E83-4240-A987-98CB270A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9B2F5-7E3F-4F97-BC01-636DFF556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D1B68-F779-4A46-BD4E-2C7F6045D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B02EE-1F36-4F79-8A7F-90C3BD473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D7D41-9E83-49AD-9F5C-EAFD4226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27706-E261-4F97-B0E4-4DBBDF6D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DB9B3-601D-44C3-ABDB-1E4498D9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1F122-3C51-4188-B741-34A0D70C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5ABD-E35C-4925-A694-1C15D200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CF9A1-9D10-4196-B2FE-926271A5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FF01B-DE4C-43F6-98CB-CDF0EF13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B5572-B1D5-48DC-9BB9-468E17A7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27FB6-A6D6-493F-84F3-E6ABE206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F29AB-1850-41B0-B912-5F492D7A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3AE54-EE38-4183-A1E9-031889BF9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4BF29-94CA-4303-8CA8-A6067441C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4E5F6D-C6D6-4D4D-943F-6540014A2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EEB3A9-F292-4215-9A26-A9C46177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F7B37-7AD6-4E93-A3C1-9947E811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94D4-4EF4-4E49-B0CA-3120449388A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2836-B894-4A47-B36C-33107F7C2B6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53F6-B08A-4905-9E24-4F5F28F5CD3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0D12-55BD-4D1F-8865-6482688E361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C5AB-4666-42BE-B4D2-C5BDA7496C6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8161-E29C-4E50-B97E-797EEF3306D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6D15-5A78-48E8-A93A-51CBEB3986B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D03B-5887-4D8D-B3C4-CB789A19672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F081-F31A-4773-B281-ADB66681E9E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87CF-DE85-4542-8AB5-95CA18E6FEC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7298-D665-4D8A-9005-CD58FD44055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8FAC-5C22-44DB-B251-BE14590E558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1D50-564D-4202-8EA8-C0D2AC561B6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600C-43E4-4B0B-A2C0-261C15C26CF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60D0-308C-48F2-AACD-C427E90861A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4C45-B936-452E-AD80-F21611FE900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A029-3D54-4A13-B9DC-3268A795F13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46F2-9561-4FA3-83DA-F8420107D35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4A69-0611-4F3D-B104-6ADC37C8F15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090B-3ABB-4785-B1E0-C5B014B2CDB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A30A-B437-4F6C-AD5F-111A87241C8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9F6B-0D26-4488-BC6A-132958EC96E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2651-CCB6-4F21-8004-4A6547BD6A8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76DF-657A-455E-8675-8DB0D4F1655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1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e b) “informazione”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ETTI DI INFORMAZION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che devono prevedere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incontri inform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endono una serie di riunioni collegiali, di durata non superiore a 2 ore, aperte a gruppi omogenei di partecipanti, in numero non superiore a 10, rappresentativi di specifici settori produttiv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seminari e convegni divulg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iziative informative di approfondimento per un minimo di 11 destinatari e una durata di almeno 3 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’ ammessa l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e/o la distribuzione di apposito materiale informativo (facoltativ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i finanziabi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BANDO  (apert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ggiornamento sulle politiche comunitarie agricole, forestali e ambien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roduzione e trasferimento di innovazioni produzioni con particolare riferimento biologiche e ecocompatibili e gestione risorse (risparmio idrico ed energetico e uso di fonti alternative, protezione suolo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portell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 solo progetto per prestatore di servizi (indipendentemente dalla temati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fine progetto: 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3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ccia in giù 4"/>
          <p:cNvSpPr/>
          <p:nvPr/>
        </p:nvSpPr>
        <p:spPr>
          <a:xfrm>
            <a:off x="3929040" y="328608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entazione delle domande dal giorno successivo la pubblicazione sul BURL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condizionalità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sicurezza del lavoro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 (euro 4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stemi di qualità e di rintracciabilità (euro 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etto per tematica (per Prestator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– graduatorie disti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l progetto deve svolgersi in un arco temporale non superiore 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mesi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ntro il</a:t>
            </a:r>
            <a:r>
              <a:rPr b="0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31/12/2014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7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ccia in giù 4"/>
          <p:cNvSpPr/>
          <p:nvPr/>
        </p:nvSpPr>
        <p:spPr>
          <a:xfrm>
            <a:off x="4000680" y="378612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progettu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per ciascuna azione informativa) ovver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co dei destinatari nel caso di invio informatico delle newsletter e dei bollettini (previsto nel 2° band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 del progetto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4.000 per singola provinc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15.000 per progetto regiona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al Settore Ispettorato Agrario regional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gola iniziativa informativa (preavviso di 7 gior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 il 1°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disporre un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ort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iassuntivo contenente i fabbisogni e i risultati attesi (settoriali, territoriali, filiera, etc.) dalla nuova programmazione di sviluppo rurale 2014 – 2020. (da inviare al Settore Politiche Agricole entro i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)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3:44:54Z</dcterms:modified>
  <cp:revision>146</cp:revision>
  <dc:subject/>
  <dc:title>Presentazione standard di PowerPoint</dc:title>
</cp:coreProperties>
</file>