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  <p:sldId id="25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2BA0C-ACF9-4941-ADB9-8271EF302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65AE5-707D-49AB-BACC-BB514C8BB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860325-EEC5-4A87-8AE0-7C2A694D6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EA7108-38DD-47EE-8375-71173C99F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B9F0DD-4A36-4397-A2BD-B09869A66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ECE7CB-2F78-4DC4-8863-914ADAEE3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189E29-E5C6-473A-8024-5FABC2CD9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60D67D-4270-4CE1-B06E-FC56CAF6F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E60DCD-2E6F-447E-B9ED-6EA692E22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8AE265-AB07-4CEF-9484-106501CE9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4AECC5-258D-4797-A7BA-098B1B814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6D77A8-5F55-48A5-A8C1-3A5DD63B2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96254-6156-407A-B7C3-39CDF56DE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95BCC8-EF2D-47AD-9771-2DE739EE2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350FC0-B546-4B5A-A18E-4A5959E1A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E504B5-813C-43DB-A31B-CE00E913F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5964D2-97B9-4715-A005-F40D47E01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5EDFA9-5C3D-46B2-AABF-DBC8E7719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36587E-E903-4B9C-865E-5C79525A2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AB6FE7-26F2-4DEC-A834-E3EA384C2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F2808C-ACA9-4566-87B0-1F5FE4F67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F7BE12-55E7-419E-8D7E-ADFB1F333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196E58-15DB-4BE9-8FEF-74600C129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5130E-0666-4C23-94A7-1AB211679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65EA1C-0814-41DC-91A4-DF9619E4A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082A48-1012-4187-8926-21CD41BC2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BAC2BB-C356-4F6F-934F-5D1E3CF8B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6198EF-36B3-43D0-B441-8BD78215E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3CD4BD-1D8F-470E-BFCF-EEC07556B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EB1CE2-813F-4D71-A176-0857454F1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2BC99C-6526-4777-A973-2FFFC1B54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F28FC1-6FA3-4079-B598-D1DBDAAE7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EEBCC8-1890-456E-B35E-BAF21A819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77B777-C090-4975-B8EB-85E394B74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8A2BD-86C8-4C3F-80D3-7A2342A32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DEF322-90A5-4FCC-AE3E-ABAA4B3C1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098262-B656-4831-AF3D-67D12006D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BCA777-52F4-400F-89B9-81A4EB741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283365-9618-4A8F-ABB4-6C7ADCBFE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20EC43-F0D7-4BD4-B096-DA47FAA40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DE382D-1770-4D87-95EE-4F4D996EA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10A02D-14EA-4C9F-86F6-AA19FAFEA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BAD9B0-1DCE-415E-8C70-C4C21448B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BD8ED3-D246-4F95-91FF-3DC91C1C2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3E0163-2247-4333-B69A-451C4A818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E0944-5C61-4562-9B5F-25684D0DB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4AA3F7-0E17-4484-A331-9EF0BCF3E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29C4AB-EA3F-41C2-ADC8-3984D5888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6CB05F-550E-4002-98A9-35AF79094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1FB8F3-22F4-4EEF-9FCC-8793DB397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D51964-E4B7-44FC-B9EE-69F7444B1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4743B66-6AD1-4756-A5E2-8438C7AC0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46B8551-20F5-43F5-B6A1-F9A2B605D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21441C2-4C18-4D8D-B5FF-9075D3560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E11726A-7203-4BB1-A291-FB01AFE96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0CEB99D-1AD6-4A5D-A03E-D94046502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AD9C6-169A-4823-AAC7-49CB63C08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6B875B4-79A2-4647-835E-A148039DD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657F149-1F31-457B-BEFD-2E59D5589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D859AF2-71F4-4FE7-8A18-2039D6227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E9F83A7-C700-4211-ABF8-968C0ABBE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B9C1D01-5BE7-4D99-932B-826C3DB7E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DCAC336-B427-46F0-A2AA-CCC63063E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07717C6-B088-4F49-A30C-801F685B4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B0220C4-589B-4BFC-96C6-6E41AC010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DAECE5E-929E-4E8D-B2F8-985FC80C9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7A8E5CE-B7DD-4843-851E-73301D3AF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3F9AA-A23D-4F0B-A618-82303CE61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C72CD0C-581F-4E04-AA2C-044CDFD43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53EDA94-54C8-4FA8-89B5-A07ABF75C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CD3A001-907C-4909-8A5C-F550A6402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FFFE81A-90B4-4A41-96FA-49837559B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4C2D860-F97F-427C-88DD-04B473687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2A2A69A-B887-436A-8683-5F1ECBEE3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FA1BE8E-4315-4E89-98BC-31EEBED52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43F973B-E215-4A3A-9112-8AFD4A493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1E7FE95-BDCA-4801-8665-E3D05FE37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BDBF0AD-F772-4CDA-A77F-0C47FD21A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A45B8-8C3C-471D-8482-AD1C20B86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F040647-5139-4810-903A-4C0106588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60AE5D6-C58D-4F84-B9E7-6D8F4ECE5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631D81F-2C12-4440-BF06-71EEFB35F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F0A144F-52E3-4E8C-9B8C-48605BB61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42700BC-DFB5-4B5F-B100-490F87052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0272BFC-9D8A-4CC2-9494-B1D9C1B87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2E63EE6-2BE5-4CC0-BB68-7394D2A7D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3E357A5-FE0E-4BAA-8903-180AB1AC6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4A682CF-FA79-49D6-B8F2-6670052EB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451502E-B0E1-4616-BFAF-D4B26CA9F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37EB1-791A-46E2-907F-934CA7E2B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EB58152-BE0A-4157-8FD0-4E66798CB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760DE21-21ED-4546-A307-B1374AD52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43FDB6A-321A-4388-8EA8-A07B00C33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9CAEA20-D649-4848-9ED1-13E451739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9CA6236-7C70-4213-9A06-50A889C20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4DCCE5E-431C-4BF8-A9A3-9B4198A08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C890CED-ED7F-4DEE-AF71-CB4122382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C7172DF-4316-4DB8-818B-16C4503E3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A8259A8-A978-4C10-98A3-1CEAE3775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B65CB8F-F55E-4A08-88F4-13F99F29A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8B66C-995B-4066-A106-AA3F173E8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59FF6E0-E262-4A71-9C54-7274F50DA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9181F09-0674-41FE-96F8-1DCC6C4A1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C3B9FBD-C121-4EA2-A190-ADA2266DD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01D405D-3896-4EF1-9599-7B1871331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21841EE-D49F-4360-83DC-72342C09B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EB8F2DD-17D7-473C-8F81-848328B75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72725B5-D753-4DDC-858D-F4C52907D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23A7A3D-0BDD-4E77-AE55-43E433D51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6A7E88E-558B-47FC-AAFF-E3683B50B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3C78A9A-ED88-4318-8F26-1D1D8D054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26047-9EB3-4101-BEAF-C537C0FCC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9AE19-1A9B-48C4-8116-A77C8F169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7047942-40A8-4031-890A-4932A232D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D97CC7F-787F-479A-B8D7-D53A308D2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9A8E373-0D67-484C-995D-B5BD8BCAF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D103049-09CF-4A8A-B152-619ED8C9B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2F1EDFA-6442-40A9-8583-094E0FC00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49AF724-890A-44DA-AC04-0658BCCD7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48631E5-3281-4D2E-85BB-59E89B442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B2A56D9-8DFB-41EA-9B7A-2D962ED0B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856E39C-31F5-474C-B24E-64C85F8E0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C49691D-00C2-4EAF-AA82-879B279CE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A89B6-5F6E-488D-846F-7262AA404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43792C7-1A8E-44C3-83B9-A88870829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3593094-1E5C-4182-A00F-C80DC38A9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B4EF0CC-7786-4F26-A78D-F9F8A342E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83EBDB5-3D47-4003-8478-154C70E00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36B3745-2713-4631-9DE8-9C2E56FA2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9591EC6-0631-48DF-84A0-A4E702691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D3D0085-AAFB-4AFD-858F-1AC0EB671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4358135-42C0-4F29-A6D1-9B866E7C5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D290F39-CA9B-4042-A451-BE375C86A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E88F8D5-DBAB-41C1-A8D2-0ACC814F6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E507E-2A9E-43CB-847D-F024DE42E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D2205A1-BA3F-4E53-A0FD-2A47A5DBF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4D1B5AA-A896-4D54-8B8D-1331CBB85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58B836D-7173-49F1-A41B-D35FBBCCF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6293102-A984-47B1-B91E-A6C6A38A1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4196CC6-AD92-4B56-9B7A-E70C24AE5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11E1E75-1DEE-4961-8192-CF95AD5F3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446E742-9B3B-426A-BB88-FCB89AE22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2B98CED-672B-4DD0-B8CA-04CB98892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8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84932E2-F3A2-4CE9-8D08-2F574E83B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0F98298-56E4-4224-AF5A-951AB34B7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BE2EC-8458-4C2A-B378-BC4850277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F6383C4-3DF1-4D87-9164-FC3473B05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D14DE45-2481-4156-99C0-BF34B007E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3BDEC89-EF72-47C1-B239-A02C05372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560DCA7-6180-4E0C-B454-F02C2028B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E24B843-CF07-42C1-8DB4-774790D00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A7EDE8F-1761-4B0D-BBBD-6AE2C1557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1228FEF-A5F1-49A1-9806-F0F42168C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0F79933-9B93-439A-AD28-8EF226163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112C970-133B-43E3-AC48-344C5043C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D2A13A0-B5B6-419C-9BB5-4E40C4B78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1362F-3807-4636-BDA7-3948A0F82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0DAC78A-0329-4CA6-8DA3-10356DD94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810A02D-366E-4AA0-BB49-34A649C45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D573B9A-10A9-4C07-9D7B-703B66500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0DD74C1-DBCA-42FB-8853-73B7AC2A9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F811ADD-5CEB-4709-8A0A-1C8263D33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BBD304A-77EA-4E62-BAAD-703C75C31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D245F8C-9D72-4ABA-A645-27D0DD7C0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C39EF71-FDDE-4061-A2AD-E9DD29E10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3BF5865-48F3-44D7-96C8-CD220DC7C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B68C81F-BF4A-4D29-8B53-43EDABE8D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9A6E0C-CA1B-4E8E-9D6F-17A89DBFC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D53FF94-74AB-41CA-9E4E-EE6E51E31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1D0DC14-D317-473C-9F6B-40430E2AE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AB5D7B7-5CE8-4CAB-B728-7389F3882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65CAF99-04A0-4F5A-91B6-339025A64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DE421E3-DCAC-487A-B47F-0F6BB348A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1339B7B-64B4-4A31-91ED-314370609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6B5E640-FB64-499F-850E-EFFD9F79F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C932A45-2039-4A05-BDCD-ECC28CF56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2232F11-0A5A-4EEC-A7AD-B0C186740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40CE58B-9375-4706-810A-5238E5F3D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74967F-420E-4535-83FA-38E02B98A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E22205B-6665-41DB-B86F-3C72C1464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8F61677-D8EA-47FA-B6F3-FDC8AC5B1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3E08746-C68C-4CAF-AC84-65372AFAC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E898844-77E9-4935-8481-0DD8B1A53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0DC470D-C410-4815-B890-0115D8312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5DE04E2-2D54-498A-A442-908059A71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18B6570-F2E4-486F-A664-4EFB03D45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12E3934-0760-4303-8C50-A352BD288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D6D6233-84EA-4771-9262-5D948086C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CE9B94C-6059-4D98-9FE4-6DCA1D2B8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D45CA3-E3BA-42AB-8503-C417B5C53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0137569-28D0-4076-9E70-3A697B8B7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7C91DD2-4A11-4BC0-809A-5985B3B99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111E9F3-62CB-495A-A7AC-92B552941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B5B4E5C-688E-4463-AA1E-57764E1DB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E8DB1E1-9575-4773-9618-77F7B78C1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E390188-C48D-4FDA-9C2F-58806A364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088AC62-5C3E-42CC-904B-27D10CADE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325DA97-3A2A-47CC-ACA1-5D1B78D98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B826E3D-69F7-4C54-9583-531D92B35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0CEC28E-3910-4B27-97CD-06B9E406C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CBA6A0-74E9-4740-82DB-8B4A02A5F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280B2D6-95F5-4CF2-85DF-0B7514878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B3123C8-F9E5-462B-8895-0B55A71D5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100F159-73F1-4FA0-9B58-B35695B03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D254841-7884-4306-9AA0-B2052329D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A9FABA5-2C10-4B80-906F-4235F3E8E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C4D241A-852B-4DFA-A5A2-3B9273E41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13B7417-9B19-4182-9EDA-25C04FAA2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E6B4976-3478-44AA-8BF8-52FED774E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6D7C8F2-BC80-4DEF-BD61-D1503A9FC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B493FF-3074-4048-92DB-369A6B1EA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972D5-8509-4F12-85EB-BA9DD6CB9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7B92C9-65E5-4D3D-A928-2CFE0E108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E65501-6426-4AAB-82B6-21044A076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50C111-1ABE-45CE-8EE5-C25E83C0D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15BD79-8ACB-4607-A2C3-402F27084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FC8002-325F-48E9-BE89-7BE03EBE7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B7F2C1-F17D-4EAA-941F-4F54F592D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1740D5-C5E8-4BB6-A4BA-914BB409F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88E3DC-DF4F-472C-8187-272EC858C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5AE633-B4CE-4A58-A72D-7A8EF3D84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6FAFD4-38A1-41CA-994B-281068D5D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201E4-53A3-41B0-9E0E-9CAE73A03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47064F-D9F8-497C-A218-5F1360BE3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866A57-58EA-46EA-83B1-5FFFFA950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DD43AD-0734-4097-AB48-7D14B684A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8D0E5D-3752-4FDE-A06D-3752805DC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8A3DD2-4512-41C8-BB21-794813799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CFDE56-B1BC-4C34-A95C-8D05280C2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54796F-E5D9-4D09-89DA-45E186197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EBF5CE-66FC-4057-A26F-D6D3A6B9F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1A16CF-20AA-4759-B701-87CA7A73E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BC538D-15DF-44F8-8A2A-2F50704A5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2C89F-6F5A-42AB-B6DD-19A3B96F7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901913-F73C-4196-A899-266FCB934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604DD3-10A6-461A-9716-33FC5C38D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334DEE-38A6-46FB-A9F5-399C08AEA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E88459-19B8-46DD-8667-84E39A0A2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9AECCF-81BF-44BA-8A8F-FBF242EB2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E83C2E-BA40-4C2C-99E9-425F672FA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4B450E-A8F6-4984-A94C-CB7322267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84308E-22CD-4085-ABA4-253F206C6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4F056E-8FE2-4F68-941A-4DAA5F8C0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CE33CC-3194-4E9F-BB5F-F5FAFDEC0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F6913-58F4-4D3E-B476-1D42BBE2A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32AC55-0D25-415A-899B-501853B57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DA0215-AFB1-4E0E-9A82-9950D0B99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C4FDBD-C6A3-498F-8456-7B2D392FF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F2641D-626B-4279-84CE-B9D4242C8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779C0E-F5CF-4B3A-B6AC-6ED0B39A8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728E68-385D-4323-88FD-96345544B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0722CC-7561-42EA-A11A-E9670E16F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722F63-C89F-4FDC-9455-A1915EEE0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8B3908-4CC1-4F7C-9815-547DB7378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C76007-71FB-46A6-9622-DFDD3AEE3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666AA-7C7C-4D69-B203-7DD285A97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9A124F-4D29-4421-9586-8C54D7A04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C19B5C-3669-46FD-BA0E-08B56AC44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DCB930-35C4-41A0-8E75-41BCA77B2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120F22-14AA-4792-B8AA-29B18B137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107EA2-D05E-4C80-B5F1-3CD69A176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CD1CDC-688B-4417-AD78-6BF8E493E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F5EECB-F5BC-4CE5-808C-524F980F4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467591-5822-4448-928E-6F68F9421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B3CDF7-4F5F-42EA-A746-74DC74120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AA2EC0-38C2-4734-895B-51FA7277A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9C111-E518-4DC1-B698-D03EA92B9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B89B68-35E0-4DA3-80B6-DCF8A6D0C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11003C-2486-4863-966F-7AE62489B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7238D3-EE13-4B11-9E67-22589C1A1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C90BAF-44A4-4475-AF82-07E224071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86D187-988E-4774-8E98-BD794FC99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D0C4C1-B694-4859-AE61-081B9D9EC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DB5298-07AA-4873-B5EE-E7E166CF7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4802E1-93FC-4430-8AD4-3B12BC7AF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63DBB6-10AB-4EC2-850E-FB888252F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46C115-49D0-4737-9CC0-D2027D6EB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F568D-16A8-4F12-BD41-4A1B2E6EF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93A0B5-5A31-453D-9162-F1FB06C74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BD9B03-F253-455D-8796-813D39E30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7BF224-5185-463E-A67F-E95492261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50DABA-5692-4547-90E1-CA1E9EDF5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C73C17-8FC9-4951-AE19-61BE3A7B0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2EC512-FA07-4B81-BC81-5FA3A775D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FFCBFC-7E8D-4455-8500-5A0E7424E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6B6BA3-80AD-419E-90AC-BA524104E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8CE366-1196-44F7-99AB-9DCBA09FF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6B055B-B0DA-4630-8D8F-D4B17DEB2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D8614-2D7A-4779-963E-96416C2CEB39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D4D1A-4ADA-45C3-9FDB-79B073F1D282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2AFD1-C0FE-4E3B-BF0F-8F00E0AA1AC7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BF5E5-6CF9-45A8-8F79-01A6E1B1CCAA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80BFD-3D1C-448E-A79F-ED2828247D37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55F89-CC6E-4C52-A0D5-927E0B83D46E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59A3B-51FE-4E79-8F55-55D1230D3F3F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4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18E4A-715C-421C-B75C-5A2D9C2462C1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5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94753-1939-49EB-A460-BC7728BB9181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dt" idx="5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ftr" idx="5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3EED3-B6B6-4E63-B9E5-6FB3F91DA283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 type="dt" idx="5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 type="ftr" idx="5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615C1-E115-45F9-9087-E0BA46AFAE4F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98813-43E6-4666-9C71-77AC584EBC55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 type="dt" idx="5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 type="ftr" idx="5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2DAC8-7946-4E04-A69A-4C17D169EC8A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 type="dt" idx="6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 type="ftr" idx="6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079F9-A930-4727-B297-D3EFE3A22868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 type="dt" idx="6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 type="ftr" idx="6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 type="sldNum" idx="6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2D2EB-CB74-48AF-8D1B-E7A63B5ED4D6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 type="dt" idx="6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 type="ftr" idx="6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 type="sldNum" idx="6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9BF44-5FB6-4AA0-B284-2E7591613229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 type="dt" idx="7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 type="ftr" idx="7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 type="sldNum" idx="7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5484C-45E5-46B2-8B14-B2F5F93C24C3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80F04-BA12-435D-825E-923F2CF8EED2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CDB80-721C-41A4-9C15-ADC61DAC6950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62C90-B3F6-40D2-A824-D5B63EC5D495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2F19C-9C35-4688-8D79-81F55F418922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03A63-2F43-4FB3-AE9D-47AF000062D2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C19C0-E37F-4CDE-BA14-BB12A32A0E14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0EE89-54D7-430E-B870-2F23C45DA289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Rectangle 3"/>
          <p:cNvSpPr/>
          <p:nvPr/>
        </p:nvSpPr>
        <p:spPr>
          <a:xfrm>
            <a:off x="0" y="1066680"/>
            <a:ext cx="9144000" cy="20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 baseline="12000">
                <a:solidFill>
                  <a:srgbClr val="669900"/>
                </a:solidFill>
                <a:latin typeface="Tahoma"/>
                <a:ea typeface="Times New Roman"/>
              </a:rPr>
              <a:t>Reg. (CE) n. 1698/2005 del Consigl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 baseline="12000">
                <a:solidFill>
                  <a:srgbClr val="ee8f04"/>
                </a:solidFill>
                <a:latin typeface="Tahoma"/>
                <a:ea typeface="Times New Roman"/>
              </a:rPr>
              <a:t> </a:t>
            </a:r>
            <a:r>
              <a:rPr b="1" i="1" lang="it-IT" sz="3200" spc="-1" strike="noStrike" baseline="12000">
                <a:solidFill>
                  <a:srgbClr val="669900"/>
                </a:solidFill>
                <a:latin typeface="Tahoma"/>
                <a:ea typeface="Tahoma"/>
              </a:rPr>
              <a:t>PROGRAMMA regionale di SVILUPPO RUR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 baseline="12000">
                <a:solidFill>
                  <a:srgbClr val="ee8f04"/>
                </a:solidFill>
                <a:latin typeface="Tahoma"/>
                <a:ea typeface="Times New Roman"/>
              </a:rPr>
              <a:t>      </a:t>
            </a:r>
            <a:r>
              <a:rPr b="1" lang="it-IT" sz="3200" spc="-1" strike="noStrike" baseline="12000">
                <a:solidFill>
                  <a:srgbClr val="ffff99"/>
                </a:solidFill>
                <a:latin typeface="Tahoma"/>
                <a:ea typeface="Times New Roman"/>
              </a:rPr>
              <a:t>2007 - 20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Rectangle 4"/>
          <p:cNvSpPr/>
          <p:nvPr/>
        </p:nvSpPr>
        <p:spPr>
          <a:xfrm>
            <a:off x="225360" y="4869000"/>
            <a:ext cx="8701200" cy="12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669900"/>
                </a:solidFill>
                <a:latin typeface="Tahoma"/>
              </a:rPr>
              <a:t>Genova   -   4 luglio 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Rectangle 5"/>
          <p:cNvSpPr/>
          <p:nvPr/>
        </p:nvSpPr>
        <p:spPr>
          <a:xfrm>
            <a:off x="2556000" y="6541920"/>
            <a:ext cx="3671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857160" y="2857320"/>
            <a:ext cx="7772400" cy="128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MISURA 331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"/>
          <p:cNvSpPr txBox="1"/>
          <p:nvPr/>
        </p:nvSpPr>
        <p:spPr>
          <a:xfrm>
            <a:off x="142920" y="1714320"/>
            <a:ext cx="8858160" cy="45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peratore sanitario alimentare per le aziende agrituristiche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euro 120.000,00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ggiornamento per fattorie didattiche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euro 35.000,00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orso base per fattorie didattiche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euro 80.000,00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ggiornamento per le aziende agrituristiche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euro 82.400,00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50920" y="981000"/>
            <a:ext cx="864216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Tematiche ammesse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0" name="CasellaDiTesto 5"/>
          <p:cNvSpPr/>
          <p:nvPr/>
        </p:nvSpPr>
        <p:spPr>
          <a:xfrm>
            <a:off x="166680" y="6510240"/>
            <a:ext cx="361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PSR - Misura 33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590400" y="91908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Obbligh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2" name=""/>
          <p:cNvSpPr txBox="1"/>
          <p:nvPr/>
        </p:nvSpPr>
        <p:spPr>
          <a:xfrm>
            <a:off x="357120" y="1571400"/>
            <a:ext cx="8462880" cy="45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are il “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o con fogli firma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entare </a:t>
            </a:r>
            <a:r>
              <a:rPr b="0" lang="it-IT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ra i documenti essenziali 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’elenco dei partecipanti 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i corsi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ispettare le norme di antinfortunistica e prevenzione degli incendi nelle sedi di svolgimento delle attività previste (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obbligo di stipula di assicurazione contro infortuni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are e far compilare ai  partecipanti alle azioni formative 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questionari di valutazione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unicare le varianti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partecipanti devono frequentare almeno il 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%(75 % corso x OSA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delle ore previste dal cors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gli aiuti per la formazione previste dalla misura 331 possono essere concessi nei limiti del regime “de minimis” di cui al regolamento (CE) n. 1998/2006: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 suddetti aiuti devono essere riferiti ai destinatari del corso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verifica preventiva del cumulo degli aiuti complessivamente concessi alle imprese partecipanti, previa acquisizione di una dichiarazione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3" name="Rettangolo 3"/>
          <p:cNvSpPr/>
          <p:nvPr/>
        </p:nvSpPr>
        <p:spPr>
          <a:xfrm>
            <a:off x="276840" y="6488280"/>
            <a:ext cx="157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PSR - Misura 33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6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Caratteristiche cors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5" name=""/>
          <p:cNvSpPr txBox="1"/>
          <p:nvPr/>
        </p:nvSpPr>
        <p:spPr>
          <a:xfrm>
            <a:off x="356760" y="1571400"/>
            <a:ext cx="8358120" cy="45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514600" indent="-251460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2514600" indent="-2514600" algn="just">
              <a:lnSpc>
                <a:spcPct val="15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ndividuazione dei partecipanti (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no ammesse 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 spese per l’individuazione 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i partecipanti,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stenute antecedentemente alla presentazione della domanda di aiuto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2514600" indent="-2514600" algn="just">
              <a:lnSpc>
                <a:spcPct val="15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esentare  </a:t>
            </a:r>
            <a:r>
              <a:rPr b="1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due domande di aiuto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corso) per tematica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2514600" indent="-2514600">
              <a:lnSpc>
                <a:spcPct val="15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osto massimo per ciascun corso: 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euro 25,00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er partecipante/ora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2514600" indent="-2514600">
              <a:lnSpc>
                <a:spcPct val="15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numero destinatari e ore durata : variabile in base al cors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2514600" indent="-251460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6" name="Rettangolo 4"/>
          <p:cNvSpPr/>
          <p:nvPr/>
        </p:nvSpPr>
        <p:spPr>
          <a:xfrm>
            <a:off x="348120" y="6488280"/>
            <a:ext cx="157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PSR - Misura 33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CasellaDiTesto 4"/>
          <p:cNvSpPr/>
          <p:nvPr/>
        </p:nvSpPr>
        <p:spPr>
          <a:xfrm>
            <a:off x="4429080" y="1643040"/>
            <a:ext cx="4429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514600" indent="-251460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14600" indent="-251460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14600" indent="-251460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14600" indent="-251460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14600" indent="-251460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14600" indent="-251460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14600" indent="-251460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14600" indent="-251460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30T07:38:51Z</dcterms:created>
  <dc:creator>lavagnino</dc:creator>
  <dc:description/>
  <dc:language>en-US</dc:language>
  <cp:lastModifiedBy>Capurro</cp:lastModifiedBy>
  <dcterms:modified xsi:type="dcterms:W3CDTF">2013-07-08T07:04:42Z</dcterms:modified>
  <cp:revision>143</cp:revision>
  <dc:subject/>
  <dc:title>Presentazione standard di PowerPoint</dc:title>
</cp:coreProperties>
</file>