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83C1-5F04-4A15-9D10-F412D356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1A2D-E80C-4946-887A-ABE551AC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D19B3D-E399-405D-94BD-F259F1A6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F4CBB0-816F-4F6A-BF8F-8DA24F9C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F0F7FF-9BFC-4851-9945-BBED2FD8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B714A-0715-436F-BECE-15FD5F77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DF3C7-626F-4194-A25A-D084FB6D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2B09A-358B-45FE-9BEF-16742634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66779E-22EB-4683-8949-6F4B20BF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123E55-9D87-4DF1-82C8-489A82624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B759EC-72EF-4846-95B6-3A2163B2E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AFB34-D425-4371-B7A2-19257AA82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AF20-C5D7-447C-9A0E-1BD28AA57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C58C16-5D4E-493F-9A97-20FF94D2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9F40DE-A4CE-4C5B-83D6-370954E4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BE6C82-5BF0-4519-A14A-4A090711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DCB9C6-09E7-4267-BD27-15A8EF0C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3810EE-BB3B-418F-A962-4E0A4CD8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BC0ED3-C419-4962-9D98-193F8C59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02D237-F882-48C0-903D-BC1DD671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96B040-2325-447C-8383-173BFB02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E9BC93-9FD9-4164-A988-5E50D300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330879-027E-4D99-8026-90E2C84C2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C7DE-3893-41EF-8867-73E105280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36E01C-882F-4433-9DE8-C6F244684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95E42-CFB9-41A7-B9B1-CC688FFC5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7D4AA-5FC9-4149-9249-F4F9FFB3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2DE33-5687-4B20-A1E4-C1BB61DB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19326-8DC9-4145-B2A0-D9D1020B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E872F-BD21-4CA3-8615-9F5EC27C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E968E-7612-45BA-9035-4F7698FB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99B42-4339-4C1E-B572-4C76BEE7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FCE95-BD02-4B42-AC5B-2D014297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14AF9-F4DB-47A3-AE26-59FA1857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C313-D4A0-41B3-A97D-DE8497BCA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1EE14-A5E1-41A3-90D3-D94A0CCB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17032-C6B1-4A76-8DBB-3EFF6CFEC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FB313-68C9-4981-A144-8F3A81345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9B8FB8-FD46-4DC3-A365-1C735970D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58AFB1-F0CD-44D6-9119-34D5B7C4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A7148E-548E-4DD6-8D7A-9CED0D3E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FA56EE-78EB-487C-A594-5B9F382F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5C8DE4-4F63-4F14-A666-28FA3912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142122-F50C-44C3-A4EE-DCF4A402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0FA35F-91E7-4C13-9449-82C402E7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2FD9-CF52-4DB4-BC1A-A54E5B53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13102B-0405-428A-949D-1585022A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AE323D-0011-416B-BDBD-F01AC554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C70D27-56AD-4C21-9B92-87C73CE0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5E8965-6EAD-4734-BFBC-2C0DC32F8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8BAB69-F9B8-4D9E-AC74-9AE9F256F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294875-5331-437F-8F47-1AF2BFD13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3B5F20-46F3-444A-BF73-5E489CB7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2C676A-1FC5-4C89-A4D8-DE0BC6E6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AFE593-E7F1-46FD-BDDF-8F6DB478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3EA3C9-51C7-49F3-A200-BCDE340E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4798-F576-400A-AD15-C9582E24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23B7BB-B3C6-4E5D-ABA3-0E634841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793460-E54B-4357-9E1E-11EDF1CF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8737A6-85CD-4737-AD31-5BFE640F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9ED64F-E9E0-47F4-963A-FE5B1969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04CBFE-BB14-498E-B1A3-B8921878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60C60D-B6EB-4343-BC2E-BE29F5586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9C43BF-4CC2-4BE3-95D9-5CE68CC13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1BB35C-63C5-49F2-968E-5EA7A92AA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87F4B9-AC8F-44C1-A943-1A4C1E60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82703F-F921-43D6-A5FC-C1B3A96D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F1CA-02AC-41FC-B135-37F79F75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44F2ED-5025-4C6F-AE21-9533F998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37CE32-EE4C-4ED6-B520-15D4FEC7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9545CD-B1F7-4AE2-A56B-6900ACD6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D45F73-76E3-4B42-AF59-53964CF6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A9BAB7-F72D-4741-9612-CF111509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A939D9-8B44-4378-979D-737FA5D6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758D5F-871E-4CCB-A2D1-7AD9ABB5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C6BCFD-A67B-4651-9EE0-904772F9D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064709-430E-45E3-8BD8-2B2401B7C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E8E9B0-E94A-457E-8B9A-D27BCAC5B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B35F-8A19-4109-9008-6938B8D6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04D769-E417-497F-AA3F-D1D05684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C311FD-549B-4219-90B7-79614E8D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B99888-A6DA-4DB8-9FBC-25F06C05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0962E6-1149-410C-ACF4-14538F03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5541C5-87D3-45A7-997D-A56C0571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14E6EF-F906-43C1-8380-E29039FE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0C39A1-DF9A-4699-BE51-DEDE8C04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783DA0-EB34-46BC-B040-EF26A476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7E5B04-5D2C-4237-B603-DC97F90E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5974B4-2203-4051-87C8-E88AA7037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E6FDC-6992-466F-A483-A7395D90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D9002B-6119-4E46-A7CE-9A4929561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A78D9F-55E0-4A1F-AD60-E26391621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FF13F9-B229-43C8-8C93-445AC32C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AC372E-6DEC-4014-9B00-99588593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F970A8-0108-4B80-B2E9-19653C21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442CC9-45E0-4818-93E2-02EE21EB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F07B74-2AAA-4114-BD9A-60359F57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EFBB03-8F50-455E-B5E5-64DD6B6E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3E5E4D-77F1-492C-852C-DB9E5C1F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A512EC-734A-4CA0-A2C2-6642CD09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CBDD-CF10-4B51-8C45-24106868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56EEA7-E65B-4BD4-B1B8-46AD666B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B07320-9C9F-4EF4-BF0A-768E7DAF0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30DDBF-28BB-4A9B-950D-28E0833EF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DB0BD7-A050-414C-990E-694CF74FC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21D23C-4597-4F51-9244-17CF4499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CB2F91-9F5B-4C13-93ED-664B642C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56F23F-C753-4468-91E8-CDDDF7A2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941496-4955-420C-955B-9E9AC3C1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940DDF-790B-469D-96AB-B5759A3E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435C3B-A745-41B1-AF40-37F48AF9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6734-1B50-4F78-BED0-606080D0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F3F9-1457-4580-BBE5-B76B5194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DDA265-62B2-457D-ADE1-BA9A7E81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016826-B617-4278-9B79-F7DC052A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E3D070-05E9-4C46-B13D-8C302C0B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F9C65B-585B-4CF9-B46E-3CDE599E7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987402-48DC-429D-9842-47D8E7079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441F0E-D222-4F8D-A762-E17A73057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99B4A9-C2D6-4CB3-9E31-A9F302C5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1021D9-BE83-4403-A89B-FFBD7714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B6B37C-A2F0-473E-B3D1-F8D6604E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E1E183-DB4D-4A55-A568-8C2BB6F6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D7A4-5FD2-4BF1-A5A0-F99CB673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1F5D06-A816-4039-B361-0AB45A5E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424679-927C-4850-9CCD-437F13D6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98C963-AE80-4644-91B9-FC538CA2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35376E-3750-42C1-A37F-A16DB0A8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E63B82-016F-44C8-9C71-B2BCE2C5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FC9EC6-0632-41CE-A720-3AB976230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E9A2A1-4CE4-428C-B50B-506C43195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FC080F-D8D3-4A89-BCBE-CBF2C5D3E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AC9E77-4A6C-4B31-ADEB-D82DC860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D2E086-2795-4344-8C76-40DB5BF2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53E3-7B74-499A-B63F-AF3A228E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A9625B-6A16-4060-A322-D09E624E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46BD38-DC7E-46BF-B4D7-C3256CC5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1E6E9B-A25A-472B-BA72-BC8CF95B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92BACF-BC7F-4C1E-84F7-97BE357B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3B698E-2777-4F07-962A-BD90E488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7F3661-687A-4690-9136-C9CD6B02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5C101E-4264-4BE4-A866-EECC9D1E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B700AA-D400-4EDA-90F9-5D317C36E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C8ACA6-BC0B-44C0-A7E8-BF92E7A50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971192-5A10-4236-9AE2-7D6C4C5C9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9E907-D62C-4CE7-AB30-65CADE1C8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784065-EE53-4D3D-96F8-DF930047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A8B62B-8062-4653-9885-E67037D7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720120-3E02-4B67-B9D1-C3C181D0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0EC214-DA1B-40FF-A16D-C3DD53F0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595E42-3B0D-48A5-A980-760345D7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3ABB71-AF3C-4BD6-8A5F-D5BC9EEB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BCA13B-A786-48A4-8E78-8B6A2A74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BD3BD6-67DA-43D6-8EC1-F0AA1B38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20F69D-6B78-4A96-9941-3419BBF3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CE474C-E2B3-460C-91C7-ACB2332C2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2731-2C21-4CBF-A1C4-08DC622E7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787FA9-2B3E-4A01-AB6A-4CD8D1BDD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DDD713-8ACC-4A16-9EAF-321698C1A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26B421-3B42-48F7-A62E-11FC9532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1DA74A-CE22-47E7-87FB-79C33ADF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66C53F-BCAB-463D-96E2-4C87D629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7E238F-CCA9-4038-B7AC-29CB4F18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4D15BA-7BFD-4C32-8B28-C574785B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A6C10F-2B62-47DF-878A-5C6348B2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E8B428-90F4-49D3-BB90-0EE55917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E792C3-C36D-4401-813F-21D3A7A0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ED1C2-C858-48D1-BAF3-B38E496CC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932834-AFA9-4CFB-B09B-E9DFB363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107DB5-3706-46E7-9EF5-12FB0C86E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8E42B6-8DE6-405D-99B1-662FC1AED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93347D-CECF-42BC-AF47-6ACD88DCA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594FC2-E7A1-4073-9EC0-B8D334AF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768212-CB7A-47EF-A622-E2961BFC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607317-B4FC-4988-9800-E11E33AD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8E64DD-3194-479C-8FE0-EC2212A8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FC4DEB-71D6-4AFD-8252-B0B3660C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349A49-96D8-4EBB-9D2E-A6BFD1F4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DDD1B-F937-43A9-9B3F-21DF2E76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C8161F-7659-4B52-A79F-B55A053C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2B8ADF-600C-43E0-931F-F3AEB5D3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98358C-2AA6-4F6C-B0E9-2E8B2D28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4512BA-DFC8-4BED-A52E-853EB9535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EEB705-32A9-48CE-9C56-5D56120EA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441047-2A96-4350-A462-9A0C015BF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38FD0D-3898-487E-BC32-0423D4DE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C3A7A1-4D99-4E9D-9BEC-6B169A1E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AAEEF7-636E-4C39-BADF-6949B6F8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296A91-2980-41C4-8E09-FFFE8664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D7FF5-B4B7-4ADB-8E5A-6B900C22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D4D6EB-BC03-4FEB-B618-34EED3DF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9E1326-0A18-424E-BA4D-74651EAC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3948DA-EF3C-4E8B-9A33-60BF85F5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46E61B-D880-405A-9174-64E76AF4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D71D52-A576-4712-95D3-E8B3FC78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2DEC07-0AFC-420D-BB3C-49A17D237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601B5B-71D6-46AB-B7BF-61E9DC91E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650515-E88F-44A4-8C8D-E227305B2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BB7A2C-987D-4ECC-BBB8-C754EB5D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28C269-EC37-46FE-B8B5-A1340608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B6B52-5F38-40AC-9763-E4B3200F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8351A9-48ED-4572-97B1-7FA0F11A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306B93-F27B-4E3B-9D1F-FA8CD795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FB1D74-5AE2-4B28-9245-3A28CC47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81A79D2-86BF-49DE-9C99-DF016160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E762F3-4163-48CC-8626-F7A4D727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B1A801-8F9D-448E-A833-4E597F58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9A3220-258C-4E21-8E58-E849C1E2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C5B804-CBE7-4F1C-BFE4-29CDFE537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BBC961-696B-49F3-BF51-303840B76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B3BDD-6D23-4FD4-BBDD-57AE9817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608E-2E8E-4AA8-BE4F-37142957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75076-F060-42A1-8397-D1043783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E8659-458F-45CE-8F25-30693FE6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80B4A-3EBA-4242-AF94-3C48E048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DE3EC-E603-4E1D-B820-F0020640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EA42F-5676-4ED3-A62C-B81BE480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BD928-F93F-4443-8F7C-DEFE46E19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8537C-D748-4AC7-904B-DD0327CD5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DF57C-322E-4F65-8503-D494B142A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E82AA-B8AB-49D4-8C7C-E21AFC2F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03486-0994-4E8C-BF77-7745A0DF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66BE-418B-48B6-8B80-AE5A2B91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5677D-4C7E-4C8E-A198-4DC05F2B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83067-823E-4853-BD18-F393F7D6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7EA6D-011D-4247-8299-C9B18994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88015-492F-4A81-B529-8E8E6CB8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E8629-F428-4446-BEEE-C040E7EB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3A55E-3038-4310-9A80-E5572219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CFB1A-30B9-4CC6-BEA4-29F5C3A8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8EC09-AA57-4E38-AD12-2AD750A63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479F8-56FA-4173-85B6-F87FEAEEC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1A928-2476-4EA5-90F5-52DE78052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3BFC-4A99-4583-931C-D388F71F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C426D-18A7-48F5-B159-AA73BE0B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21B29-6B4E-4962-A380-0B7B8E1A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5E4FE-B667-4528-93E2-85B59821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0D451-6009-4E27-ADC7-F010BBC0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82F29-1F3A-45B1-9368-1CDD50ED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E5427-2B56-444F-A9CA-B6FF029E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855B9-9122-4446-8A2B-49A15C60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BD01D-5A86-4DF0-A6FA-53DEC852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D3104-D678-4CD0-A58E-FD0D5CE9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AA5EB-1024-46FF-B509-A2E49A085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9246-E896-442C-AD73-DC075238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B27ED-5C5D-40A9-8488-DB9296936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05216-30A0-42D7-93CA-32F5DB3B0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357A0-4CCE-4554-AEC6-D4013405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34834-2EB4-40BF-AD61-33DA68E2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4A4E7-5D6B-4493-A093-BAF164F3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6B33B-F053-4E2A-B9CB-D9D8222F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130D2-9A36-47AF-9305-AB88E06A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3FB02-32D9-4CCB-BDC9-0E594E1E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8494E-9114-4DB6-9EC1-63C10129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C7512-76AF-470D-A22D-1C716E4D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BF6C-E41A-46E3-AA07-48B65605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D9006-2BE4-42E0-90B1-FF6A7E5F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9A809-F7C4-412E-B6B9-2B1A9D465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C9AF0-537C-4C19-B4A2-AC78D1D48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AED24-89F2-4886-B432-40131509F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FE2FC-D78C-4AD7-B780-C7D94719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3E35D-DA6D-4FD3-AEDE-E540C499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FCC69-816E-444F-A878-52807DBB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BEE2D-A227-4688-86C7-EF495E12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7F3D1-4EDD-41F1-8778-56A1A00B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4A957-3364-4ECE-AB7D-C7DC9963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E3AF-3E34-4E18-8D05-1D1E5A09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47431-D6DB-4238-83DD-7A98C8FA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E1C43-7FF9-41BB-9573-90B75FF4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12AAD-5D79-4C10-A1E2-C8B15401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30F85-1346-46E9-80A2-918FA5147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B11EE-0E0C-4219-A683-D00107105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E60F1-471C-437C-BE97-689696F45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C5A4E-1763-4D78-88D3-F19CEEFB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23C46-6865-4DA1-BEF4-0D299C13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6E8DB-FEF1-48E0-AEFD-7215F309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94CC0-CBB4-441A-883F-1285D238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8A80-50D7-40BD-9F08-6E124BF5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DC471-76F8-44F1-9A54-00A959F9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53AEE-8C22-43CC-914C-8D7A0858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FA4A7-D841-42C3-88D4-D97AFE43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40808-286E-4619-B9B0-09E61269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C303C-1089-419E-9E7A-3BCFB934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A0DFE-8ECB-4E3F-AEAE-D2EF1AAFD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F2694-5074-43B6-9D35-E03EE4577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47E3A-5071-411A-8BBA-42F145BAE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36E82-2DCA-4632-AAB2-A11042D0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1097A-7883-49E6-A1BE-91799628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C0A5-099B-4197-9CAE-53A50FCB653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5AFA-2F50-4102-A699-117D7C286DB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165C-2B5F-4AC9-B516-E056715CE32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7AF4-EFB4-4725-87B3-5C6D8D2FC56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BEE3-926F-428F-836D-3B2C871FD46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587F-5347-469D-BDED-5991A683C81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DB89-977C-45CF-B7EE-7999257C747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EBF4-9286-4E0B-BC78-B1C723C6FEA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9E57-CBC0-470B-AFF2-4AFC1A3AD47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D647-FD7D-4348-BF28-C35BA479798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9E27-CAFC-4188-A2BE-77D2BF7E97A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04F1-58AB-4C2D-B503-40BCEC3B4DA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BE9F-4A0E-4DAE-817B-4DB57900361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0028-7D64-469D-B8BF-761E4B95737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8BA9-1687-4D44-BD19-5C6BD4F187A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00BD-92E5-4557-823B-EE42A7170F8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2B50-1A71-4E2D-B82B-878622481A2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7AE4-6135-4344-A9D2-FF41E3AD9B6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ED2B-E934-46B2-A2C5-3540D165CBD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235E-817D-40EF-8AD3-4BDECEB36E4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BAC3-E854-4DDD-B3E9-CDF49C0E55A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7559-9A94-4A44-8915-4305BC2952B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11A7-23FB-4A85-B504-1D578A5E7A6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50CE-390A-45EC-9F13-287C6F99AEE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331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ore sanitario alimentare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12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35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so base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2.400,00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o con 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e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 i documenti essenziali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lenco dei partecipanti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cors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e far compilare ai  partecipanti alle azioni formativ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questionari di valutazio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artecipanti devono frequentare almeno il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(75 % corso x OS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lle ore previste dal cors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li aiuti per la formazione previste dalla misura 331 possono essere concessi nei limiti del regime “de minimis” di cui al regolamento (CE) n. 1998/2006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 suddetti aiuti devono essere riferiti ai destinatari del cors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preventiva del cumulo degli aiuti complessivamente concessi alle imprese partecipanti, previa acquisizione di una dichiarazione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3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cors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356760" y="1571400"/>
            <a:ext cx="83581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14600" indent="-2514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dividuazione dei partecipanti (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ammess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pese per l’individuazion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partecipanti,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enute antecedentemente alla presentazione della domanda di aiut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re  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ue domande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corso) per tematic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sto massimo per ciascun corso: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uro 25,00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partecipante/or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mero destinatari e ore durata : variabile in base al cors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Rettangolo 4"/>
          <p:cNvSpPr/>
          <p:nvPr/>
        </p:nvSpPr>
        <p:spPr>
          <a:xfrm>
            <a:off x="34812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asellaDiTesto 4"/>
          <p:cNvSpPr/>
          <p:nvPr/>
        </p:nvSpPr>
        <p:spPr>
          <a:xfrm>
            <a:off x="4429080" y="164304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8T07:04:42Z</dcterms:modified>
  <cp:revision>143</cp:revision>
  <dc:subject/>
  <dc:title>Presentazione standard di PowerPoint</dc:title>
</cp:coreProperties>
</file>