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76A3-34C1-4416-8FB4-72066A864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C15B-BA8E-426D-BC17-D7EA6236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BF8AA1-5CCC-4BC0-93A6-A5A11FF1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EE0401-55A7-4A50-AC23-F7A94D6D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D9C980-111D-482A-8FA9-9865236E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9517AA-6CF6-40D0-B674-62757B4A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C3AA58-68B6-4E8D-A495-35B3EE58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8863B6-23D6-410D-B13B-29820033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54E195-7553-4F2E-BB52-8CC9CD75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FDEC0-D8D5-4DC3-9383-FC36C091E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5D0CEA-5F28-4D49-ADE6-F53312907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72E19D-60ED-4B66-8AEA-ECB5A1A69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23F0-AB01-4188-B981-ABA6651EE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489A0D-C410-4DA7-82D3-9BA78B1C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BB472D-EC23-4CA8-B03D-E8F7CB19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25F89F-7AEF-495E-989D-D2F470F3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E8E2E7-CE3F-478F-B098-DF501B8F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7E7713-E07C-4B1F-9152-BF382FFE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0BEFA8-8498-4BDD-90DD-6E4D12DA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7366A2-A2CA-4D92-BBA2-558333DD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815FB7-8069-4CB3-8038-997E8B28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6C7700-BA1D-449E-93D7-97FC9120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7A1FE7-E469-4209-94FD-7E6AB51D1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F098-156B-4882-ACE8-313249287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FFE0A8-C4B3-4138-AD69-6384BF9ED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7B9EA3-818D-4599-84F0-5615571C1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E1B4E-4291-4315-B6FF-802590BE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306C67-EA82-4A5B-9CEE-2C9223E6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2838B1-67B7-448B-A795-4E2C8C32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EDF93-D519-40A3-A430-ACC702D8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CD144-70AF-4BFD-A4D8-4F37D6EC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121FAB-F614-4A98-884B-27938756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38FED-C1E6-4543-BFB2-EBCEFBFF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CE97A6-E791-44F9-9FA0-48563572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DD1A3-9361-46C8-8D5A-1F3092D74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CC5F9-C5AE-40FC-9126-16CE7E95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55206-E53C-49E9-BB08-FE39D12B5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ACD87-A67F-434C-B8BF-8806301A4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ED4056-A127-4360-A7A8-335AF89F6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9C0746-4C2C-497B-A010-0F4A2E25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52E567-B5E4-461D-86E6-006B8621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0C3E5A-F2DA-4D87-9891-A32B97E3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94A211-9A7D-4529-9F82-DA665791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7E0F7B-983F-46A2-A01A-E2A2AA20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565116-B865-449D-9B2D-75A377FB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B0F8-7460-4F67-B8F5-9296A928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F1430A-A5FB-46BC-9169-0CD51C19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57B0FC-DCB3-4885-B631-21AFB203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B7D9DF-C62A-4F11-9510-94068669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107C4F-900B-48EF-A28B-73B9F0815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FF9E48-8A4D-4F7B-B142-6F2D8C4E0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F33811-512E-4A34-82D9-54B8052D9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4EEAB2-D3A8-42B1-B42B-6B94A8A9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B21CDB-23FC-42C1-8BE3-D144B6BB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60301A-A2E1-4891-9BDC-29792F65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6FFF4E-DD37-45C0-A7A8-4328C355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658E-8AD1-456F-996A-710D6156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2E35D1-05B3-4982-8468-5523662B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637EB1-48C7-40FC-A205-1CE0B948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F9CA44-6F4C-4349-A3DC-3F1BDA3D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BB010E-08C9-4531-AA3E-CB70FF09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2DA2EF-90D8-48E1-AC84-5C066575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AD6C8D-0A4F-485C-8684-531E84B0F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B1C988-CFA2-4FA0-9636-E7FA8C3DA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D3312C-4A53-4BD1-B00B-2B9054328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FF88CA-8672-40B8-9FD4-32FE5F95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8D56F1-648E-429C-BB26-C8ED1825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4C92-2BF4-4F71-B364-C9F6A454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A68F60-E40E-4C3A-B2AD-2E182BA6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874E5B-84EB-4598-B59F-F607509E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EE53AA-61FE-4A90-94C9-890499C7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13612A-78BD-4F51-BF26-74D3F78A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66B69F-45D4-4942-84BB-6E42E7B0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75A142-2734-4441-85D1-11F7A7D0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BB34F3-6C41-4032-BC83-75FD156A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4B9C4F-A1A4-4462-890A-D0EEDBBF6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2E1544-2438-4186-85B1-F1445DC36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8EC0D8-002A-4A82-9CCB-7B3BBD5B6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12C3-4B06-4149-A8B0-446252643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DABAD8-F301-4A2C-922E-2C7124E1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3E5BA7-1C2C-4F7B-B801-082D12EE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309547-3A09-465A-BC7E-FDE7EC95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A2CC43-A88D-4BFF-9B4C-45E59608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BA6A4B-4315-4F2A-BA7B-0482906D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E040FF-DCE3-4BD7-A7D9-F0814D8B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418601-18CA-46B3-8243-365D2877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2EF385-AAB4-444F-856B-96819E8E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32F305-8C99-4877-AE9C-811B4291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C9A232-147D-4E26-936D-8EA99B07C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E9E2-A9BE-459F-B859-42CC4845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4C31BE-C2DB-4B49-9E31-24C67DCA9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2D8D92-F052-4453-B787-43C680DBB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25DB3C-D061-4FC4-9FFD-03A76A6A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12FDB3-13AC-42D2-9ED4-4CF5C4C0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C44F5C-36B8-4E66-B271-3B7B0AD4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58BE16-AE5A-4EEB-8CF2-8B7C72CD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3944A5-5286-4812-9C5F-A90DA27D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F30953-63AE-469B-9C28-7A71A1CF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AAFDF3-37F5-4692-80B5-41203749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3D8424-FD9E-4BB3-9282-53F4F4EE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6476-C50F-41BB-911F-D645348C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96475A-53D5-400B-97F8-6A5CBE3C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82A0C6-EE08-4A7F-9F45-1DC5EE683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5E5324-7AA0-480F-802E-C4F636468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94C4DA-F810-48E2-AC72-B688E5471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A06A81-FA38-4BAA-BD49-FA22D4AA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04543E-8AFD-4D8C-ACBD-3F77995E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0E661A-1C26-4464-9D9F-972EB71B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814197-8502-433B-BBFA-18F2640F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6A10F1-3C3F-48DD-93C7-29847A81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125E63-6AB5-4062-AF03-32350E86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1F5B-9CEC-42D9-A211-5F26BE6F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82BE-94E7-4FC8-B40A-62AF1C47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BB6BCC-5929-4A69-89CD-778F7F4C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9C7E45-44DD-4972-A2EA-4BEA0A46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44A293-6E9E-4589-A12E-6D096C71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68F10F-9F19-4C14-A9C5-5447AA4F5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D14E93-0F3C-4CA0-9977-60548017E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70A1BB-C913-48A0-B42F-F754A1F64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842509-7298-4814-8F78-BFEA5FE2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02644C-ADDE-4103-8AF0-B67EB3EE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28A0AB-0B00-493C-8079-5C1FAB4A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9E1AA9-C63A-4B1D-886E-103B6DD9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3F1A-1A91-4573-858C-A2DF4D74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DF3A39-C406-4023-9292-7A504085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254DA3-A957-49BA-83D6-4034D65F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6705E7-DBE9-4180-90B0-B6A831D6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23B363-8582-443A-B817-8D2245EC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8A893B-470D-484C-A1AA-D52BA0E7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3E0324-4D12-4A3C-BE73-0650BB004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6F84CD-185D-461F-8FE6-E6D5ACA3F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868E9C-A5B1-49EA-BBF4-8D42C55FC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76DC0A-0541-4CA1-9E02-ED076E55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68C7A4-91FA-4655-AB7E-C80B60BB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A34D-0C15-457F-86DD-68F5B8D5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8C3C4E-CB6B-46A7-9D25-B1DE86CE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38EFD8-C941-4846-9182-C37DF8A8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D9624C-8C96-4AF2-98FF-0A4E5FC9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761505-3541-42B4-B9DA-E08E5928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47B47A-FFD9-40A9-B3F5-EF592EDF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E67601-2195-418B-81A7-0504D1D2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EBBB6A-8138-4CEE-BFB3-99BD7783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BA5C51-1253-4DA9-99A7-87B4E0F67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BA49AA-4DBF-46FE-B88B-DFB113E65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FB9ECC-A3B2-4384-AB85-6EA62F877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AD85-4F7C-4EFD-904B-E6D236244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DE25E3-8F25-4C76-8FCB-2BA7CFB5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92D1CE-1EBD-441D-925C-3CD79519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A43B9E-F88C-4313-A106-3C5DF622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FF5B6A-3DC7-4EF2-AACA-6812ADD9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BC2E5B-C0D2-4860-B0D1-68102B35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26649A-5956-4EC4-A8B1-B7AD4DDD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2DDDCD-FDFD-4A10-A308-E8ABB1B3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D13974-7AC2-40AA-B909-EB653D20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BB7A54-6CBB-4569-8310-548F645A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D7E931-2F4A-4A4B-A9D8-B29D9219A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8435D-8D4F-4337-A133-EAD2B1EF5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EBF0A6-4509-4ECD-9B0A-E285D097B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363BCC-839F-4934-BA67-838CF282E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119E4B-8BB5-4A5D-AD25-94D49BBC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01F28D-BA0A-494F-A593-296B8C0E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05FCE4-B0EB-45CE-AF30-64106CC8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F8B0E3-3774-4758-A7DC-9AA9010A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1EF694-9C5F-487D-9277-4716F12B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947FD0-7051-4628-B578-7C8D00E7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E5852C-3630-4B2C-9613-9B6F746D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BEC973-1F48-48E5-9904-8D85F19F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260A3-8FE4-48BC-B7CB-B86E3E311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F16853-B2C3-4681-BCD5-4780E998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2036F3-EE18-4231-AB2B-711A6F33B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5BCA9D-6FE3-452F-8552-C8599280B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3F0F33-213E-4B98-B27C-C4F38D3F9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B6DFF3-6FAE-45D1-8F6D-985E43CE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D72012-84A0-432B-8C5E-0608BC5D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D6902D-241D-449D-8681-891E0144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A4D5CD-FD50-41DB-9323-042AA69E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AAC9FA-6D1D-4F6A-AB94-79F2515E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C1BBAA-6E3B-49D7-8EE9-A2057170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39209-CA16-4D32-BD4E-A0C1FE0F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05031A-D994-440E-AF71-EA4772BD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2C451F-2462-4599-A2DE-5B9F39B1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D154E0-882B-49C4-B1A6-48299407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3F3F1E-0A89-427D-A3C8-1D5093B5E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6AF3C0-045C-49FE-9317-4DB81BC53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23DD3D-6AAB-40B5-BF3A-3EE36A85C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26D15D-A08D-478E-BA0D-1FC78CE9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CD2E7F-23B6-4E4E-B543-B9BD34FA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AB70C9-41BB-4EA3-9E07-579E44EC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BE3CFB-3BC3-400A-9248-DA489917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BBC82-A8A5-4468-A2FA-AEF52AA7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6A090F-8759-4CF6-AEF2-9E379CF8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9116CE-8D21-4DF7-B2EB-8D6CC10D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64C185-BEB2-48C8-9F80-4519CB4C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78219C-DBE4-4251-AB8B-FBD836D1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1D7D89-C87A-4589-A6A0-A75FC729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8F813A-32DB-4B55-8FD6-9A5F92734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06DEB6-29FB-47F2-B71E-DE601DD11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4EF984-5875-4CB0-AC70-827049334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8959BE-6C42-4BC2-94AF-3108A24A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D6C1F7-45AA-4A35-A83C-159BAAA5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29C6E-5EBE-413B-8909-F6DFE8EB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81AE56D-9EF8-4B7F-BB99-74D7573D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25E03F-6AD7-43E2-A6DD-8BF5AD14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AB9F14-1650-4995-93B0-DC4ACDDD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AC6D61-78A1-4E26-8B10-36371FC7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05264D-192E-4F58-A5C4-321A48B9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660B4E-56F9-4195-9170-51B34749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B22522-F796-4E65-9443-6D31182C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8A3670F-E9DD-495F-BE25-6F8B5D13A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79F811-7F49-4CC3-861C-421D8E13A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9D7DF-A3EB-45EB-8FFE-93F3307C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199B-0B04-4EC9-95F2-5EF28D01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9DEB9-DE6E-44C7-9F97-2FCD22C1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AABEC-1ED4-4A89-8932-8252DF3D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8A098-7974-434B-A0B2-BF69EF53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5CB8B-196B-42A1-BDBC-37E0ADE3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794B6-B072-4684-B82D-5F260B2C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BD0F1-4530-41CB-983B-00BCEC523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2D589-A7FA-4AB2-A0BF-64AA29662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A0E39-B2DF-482B-8D97-AD35ECB8A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7C0C3-0BEB-4803-BC9E-9495B5A2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8E08B-72CE-4C25-B158-8D293E92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F474-6EEE-49C2-A091-BD25B576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79FB8-3C19-4623-B214-0A92CAAF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3394E-E29B-4762-A9E8-985D9BC1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D1A8E-5545-40F8-A9C8-6D316FB1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0AF5B-5F8B-44AC-8416-D1F7B4B1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9FD2A-5AB7-452D-9398-2F595B6E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A0497-F0D3-4E3D-AE94-5A59F7E0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16E59-0B2D-4BB7-87E0-CA9623EB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61A98-9182-4CF7-8C66-43686F8D7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57783-3D6E-47BF-B648-2805026BA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53198-C21D-41CC-A2F3-B52B35ED1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369D-1C90-486D-A71D-5A8D747E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1FDA2-BD01-4968-9EC4-500943E8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FCD47-C021-46AE-9FF9-618CAE1B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E4B7D-FA0A-4C60-AC29-71FF493A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6F43F-91D3-4022-9957-765AD599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52E84-98AF-47A9-B778-FD3C64B9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D1440-B62B-4C0F-BE53-E44B1696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C25D4-1771-4246-AA0D-2DD31CEB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FA033-D355-423B-B702-D27E3759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FE3AE-EEA4-4718-9BF2-CE9CC065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C08A6-89C7-4FB1-B58D-DA1D49915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91E0-709D-45B1-9ACA-A6594DC7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AB8A8-A1ED-44DD-A07D-940F633B6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7421E-A3F6-47E9-A99A-D697E2B4C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FC3D3-6A83-430B-9F6C-83E7F836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736EA-909B-4140-B87C-91C2EE4A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5902D-A3D9-4F14-A957-51E3D91EF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D54AE-8EB6-4E7B-9103-587A3B7C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04B20-876E-40E0-8C01-506DA7C2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7E93C-FB92-4ED6-9FBC-F286F7D1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A320F-C38C-4F5C-8FE5-97BBEC85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B73B8-7402-4CC9-B696-F5C50956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D790-CE37-4832-A9B1-EA76398B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315D8-616D-4391-B1EA-7BB5DD3D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04B3D-3F87-42F6-9BD2-732630EEF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A87B6-44BB-45D5-8172-C7AF18182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44C08-180E-40A5-8176-AFBAF590E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37FC3-562A-4D17-9E68-9314EAAA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C8342-3D36-47A9-A5C3-FD1226E3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01B79-9B3F-4F99-83FE-C567B3B0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17A65-AC81-4B9F-A2D3-18EED98F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15F8A-E2E6-4374-BCB0-369D63BE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68E18-B58A-41A3-BA47-1E068D3A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FEC3-2CE7-4BCE-B919-79E0133A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108AF-4B88-4B24-9AAE-5DB475CE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63078-EF9A-4A88-8361-AB68901F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30088-4586-4353-8F0F-209DE7B4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EAB84-9C22-4323-BCEC-D0FA55547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43792-4BF2-4DD9-880B-5244A9A77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A4A54-6BC3-4885-A066-9174A95FF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9C8D2-6F3A-40C3-B0C8-685A8E79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9B9F5-713A-473B-B01D-B982ECF2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F59FE-22DA-4088-9BA3-97D3D8D4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70525-C1A2-4310-A534-0F23EF11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01EB-8A51-42DE-B478-EE4C2306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3F7D1-0585-4F9A-B1B3-A2467C4F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8B7C5-C075-4A40-86A2-962A3CAC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5F6AB-C57C-4043-87C8-BA818974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03B1E-ECEE-45CB-81C8-57873D18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C6438-7D4F-4C91-9679-CFE463AD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50866-582E-41F4-ABF2-077CA2A4B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1A932-330D-4990-BF1B-E1A9A0698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01C83B-038A-4837-BA99-EBD1E1154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7867F7-84AF-437C-A81F-4690CC5F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E8CDC8-622A-4926-AFC2-EF90EC6C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7A370-3BB0-4DD7-911A-EEFE078D630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266A-B417-4415-85D3-FFDF1CDFEB6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29B2-2D2D-4110-A5FB-506F539A6AA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144E-9A5E-4993-9398-C569112CABA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174B-7374-4F1B-BD92-4040161717F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E5B5-540A-4F00-B476-9BD26BED763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A032-DC92-4551-8C3A-D1A8285B3E9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F548-DF36-463F-A495-7A7087F1795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F4B0-1804-4971-BC09-7BA9E394B29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69D3-322F-4C80-BF90-5BEED9191E5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0DF1-E462-41F5-94BB-D7B6FA599CA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A7F9-5734-4E7D-BA10-2B7A842A257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C1E4-2CAD-468B-8576-A7BBF5B311B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F967-A939-418A-A3AF-E3B2CE40127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D9C7-E99E-41EC-88ED-7F7725C0862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AC9F-1C2C-438A-A697-75B6E943EC5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A7A7-C4C9-4EFE-A5B0-66D8BF2BB4D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D782-EAB5-4A4C-8136-0C3128054AE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60EB-A84A-4D9F-997E-C04F390D474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5117-FF40-4CB4-A034-B18D03BF9B7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63E2-AD42-4844-8EB3-9253BBF156B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5E07-0F1C-47D7-9D56-675B6288DB5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C1A7-A780-423C-A179-5E83DC1C0A7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D62B-FE3C-4D65-89C4-8540EFC53D3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1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e b) “informazione”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GETTI DI INFORMAZION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che devono prevedere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incontri inform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endono una serie di riunioni collegiali, di durata non superiore a 2 ore, aperte a gruppi omogenei di partecipanti, in numero non superiore a 10, rappresentativi di specifici settori produttiv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seminari e convegni divulg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iziative informative di approfondimento per un minimo di 11 destinatari e una durata di almeno 3 h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’ ammessa l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e/o la distribuzione di apposito materiale informativo (facoltativ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i finanziabi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O BANDO  (apert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ggiornamento sulle politiche comunitarie agricole, forestali e ambien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roduzione e trasferimento di innovazioni produzioni con particolare riferimento biologiche e ecocompatibili e gestione risorse (risparmio idrico ed energetico e uso di fonti alternative, protezione suolo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portell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 solo progetto per prestatore di servizi (indipendentemente dalla tematic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fine progetto: 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3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ccia in giù 4"/>
          <p:cNvSpPr/>
          <p:nvPr/>
        </p:nvSpPr>
        <p:spPr>
          <a:xfrm>
            <a:off x="3929040" y="3286080"/>
            <a:ext cx="64296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O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esentazione delle domande dal giorno successivo la pubblicazione sul BURL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condizionalità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sicurezza del lavoro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 (euro 4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stemi di qualità e di rintracciabilità (euro 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ogetto per tematica (per Prestator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– graduatorie disti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l progetto deve svolgersi in un arco temporale non superiore 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mesi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ntro il</a:t>
            </a:r>
            <a:r>
              <a:rPr b="0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31/12/2014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7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ccia in giù 4"/>
          <p:cNvSpPr/>
          <p:nvPr/>
        </p:nvSpPr>
        <p:spPr>
          <a:xfrm>
            <a:off x="4000680" y="3786120"/>
            <a:ext cx="6426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progettu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per ciascuna azione informativa) ovvero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nco dei destinatari nel caso di invio informatico delle newsletter e dei bollettini (previsto nel 2° band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 del progetto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4.000 per singola provinci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15.000 per progetto regiona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al Settore Ispettorato Agrario regionale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ngola iniziativa informativa (preavviso di 7 gior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 il 1°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disporre un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ort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riassuntivo contenente i fabbisogni e i risultati attesi (settoriali, territoriali, filiera, etc.) dalla nuova programmazione di sviluppo rurale 2014 – 2020. (da inviare al Settore Politiche Agricole entro i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)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3:44:54Z</dcterms:modified>
  <cp:revision>146</cp:revision>
  <dc:subject/>
  <dc:title>Presentazione standard di PowerPoint</dc:title>
</cp:coreProperties>
</file>