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</p:sldMasterIdLst>
  <p:notesMasterIdLst>
    <p:notesMasterId r:id="rId38"/>
  </p:notesMasterIdLst>
  <p:sldIdLst>
    <p:sldId id="256" r:id="rId39"/>
    <p:sldId id="257" r:id="rId40"/>
    <p:sldId id="258" r:id="rId41"/>
    <p:sldId id="259" r:id="rId42"/>
    <p:sldId id="260" r:id="rId43"/>
    <p:sldId id="261" r:id="rId44"/>
    <p:sldId id="262" r:id="rId45"/>
    <p:sldId id="263" r:id="rId46"/>
    <p:sldId id="264" r:id="rId47"/>
    <p:sldId id="265" r:id="rId48"/>
    <p:sldId id="266" r:id="rId49"/>
    <p:sldId id="267" r:id="rId50"/>
    <p:sldId id="268" r:id="rId51"/>
    <p:sldId id="269" r:id="rId52"/>
    <p:sldId id="270" r:id="rId53"/>
    <p:sldId id="271" r:id="rId54"/>
    <p:sldId id="272" r:id="rId55"/>
    <p:sldId id="273" r:id="rId56"/>
    <p:sldId id="274" r:id="rId57"/>
    <p:sldId id="275" r:id="rId58"/>
    <p:sldId id="276" r:id="rId59"/>
    <p:sldId id="277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notesMaster" Target="notesMasters/notesMaster1.xml"/><Relationship Id="rId39" Type="http://schemas.openxmlformats.org/officeDocument/2006/relationships/slide" Target="slides/slide1.xml"/><Relationship Id="rId40" Type="http://schemas.openxmlformats.org/officeDocument/2006/relationships/slide" Target="slides/slide2.xml"/><Relationship Id="rId41" Type="http://schemas.openxmlformats.org/officeDocument/2006/relationships/slide" Target="slides/slide3.xml"/><Relationship Id="rId42" Type="http://schemas.openxmlformats.org/officeDocument/2006/relationships/slide" Target="slides/slide4.xml"/><Relationship Id="rId43" Type="http://schemas.openxmlformats.org/officeDocument/2006/relationships/slide" Target="slides/slide5.xml"/><Relationship Id="rId44" Type="http://schemas.openxmlformats.org/officeDocument/2006/relationships/slide" Target="slides/slide6.xml"/><Relationship Id="rId45" Type="http://schemas.openxmlformats.org/officeDocument/2006/relationships/slide" Target="slides/slide7.xml"/><Relationship Id="rId46" Type="http://schemas.openxmlformats.org/officeDocument/2006/relationships/slide" Target="slides/slide8.xml"/><Relationship Id="rId47" Type="http://schemas.openxmlformats.org/officeDocument/2006/relationships/slide" Target="slides/slide9.xml"/><Relationship Id="rId48" Type="http://schemas.openxmlformats.org/officeDocument/2006/relationships/slide" Target="slides/slide10.xml"/><Relationship Id="rId49" Type="http://schemas.openxmlformats.org/officeDocument/2006/relationships/slide" Target="slides/slide11.xml"/><Relationship Id="rId50" Type="http://schemas.openxmlformats.org/officeDocument/2006/relationships/slide" Target="slides/slide12.xml"/><Relationship Id="rId51" Type="http://schemas.openxmlformats.org/officeDocument/2006/relationships/slide" Target="slides/slide13.xml"/><Relationship Id="rId52" Type="http://schemas.openxmlformats.org/officeDocument/2006/relationships/slide" Target="slides/slide14.xml"/><Relationship Id="rId53" Type="http://schemas.openxmlformats.org/officeDocument/2006/relationships/slide" Target="slides/slide15.xml"/><Relationship Id="rId54" Type="http://schemas.openxmlformats.org/officeDocument/2006/relationships/slide" Target="slides/slide16.xml"/><Relationship Id="rId55" Type="http://schemas.openxmlformats.org/officeDocument/2006/relationships/slide" Target="slides/slide17.xml"/><Relationship Id="rId56" Type="http://schemas.openxmlformats.org/officeDocument/2006/relationships/slide" Target="slides/slide18.xml"/><Relationship Id="rId57" Type="http://schemas.openxmlformats.org/officeDocument/2006/relationships/slide" Target="slides/slide19.xml"/><Relationship Id="rId58" Type="http://schemas.openxmlformats.org/officeDocument/2006/relationships/slide" Target="slides/slide20.xml"/><Relationship Id="rId59" Type="http://schemas.openxmlformats.org/officeDocument/2006/relationships/slide" Target="slides/slide21.xml"/><Relationship Id="rId60" Type="http://schemas.openxmlformats.org/officeDocument/2006/relationships/slide" Target="slides/slide22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 type="dt" idx="10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PlaceHolder 5"/>
          <p:cNvSpPr>
            <a:spLocks noGrp="1"/>
          </p:cNvSpPr>
          <p:nvPr>
            <p:ph type="ftr" idx="1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6"/>
          <p:cNvSpPr>
            <a:spLocks noGrp="1"/>
          </p:cNvSpPr>
          <p:nvPr>
            <p:ph type="sldNum" idx="1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98FF4-1901-45D9-9579-66B9803A6A5B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C88B9-3AE9-493E-BEBC-3649EC5889B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B30E-9425-486B-A318-CB2FA8396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ED0E-7589-41D4-9635-D95D05D7A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501596-F7D9-473C-B24B-4012774E0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46235F-2CA8-478E-891D-4788CE041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4DF119-EECA-45A2-BF77-3B2EEAF78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B0E012-CFB4-4F3D-AC42-0D9DAEB1B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827E50-78BE-4EEA-867E-59AADB1F9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BAFBE5-C0C9-46EE-A094-FD9D60102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EC8A93-726D-4A4C-8159-78C87B018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BD2178-70B2-4C0F-AB8A-773599603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FC13AB-EC7D-43BC-943E-188621F11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2DE09C-A9B4-40A8-8AAD-896E6472F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D663-FE95-4F8F-9B71-074A1718A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930E6F-B815-4E88-A4D4-7B281B31E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8407D6-6F0F-4F54-B379-9684E6674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D4E3E1-942E-4779-A6E9-7054255CF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1C2A58-C5C3-4C10-ACD0-9FEA64B4A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5B696C-952A-423D-9259-222856A50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30E759-2BC2-4664-AD32-17E87848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FDC0CD-EFDF-4506-9538-0ADAF053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6BFC30-EB3D-4230-94C9-4B2A0B83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833B73-3F6D-4861-8C91-F93F26879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6D0B3E-55E0-4999-8826-A9DC335E5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4CEB-CEAF-43A2-A4C7-2606C96D2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B11778-ED6F-4C61-ACD5-471A7661F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C12B57-DC60-4AC6-B835-5EF498174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9D5851-3631-42AB-9725-10E42059B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9A36B3-BC9C-4BE2-8C99-4800BA0E2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861403-5B0C-4618-9F09-5E37BEEC9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FEA29D-C2A2-4097-86EA-C223308F3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1A88C1-11B4-4E08-A51B-6750B17AB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4F1766-F5D3-424C-A384-4F8555F28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30799B-F28F-45BC-A883-3471DAA6D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AF25D8-E2A0-4C54-A070-0F5726429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10604-C5FC-47F3-8133-8C9A6C2CD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9E0A55-5A5F-46A6-AAA7-9AD5666C6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272D8C-F566-4BC8-80FE-C882FBB4F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05BD5D-20B9-4160-B8EE-B0B3F618B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B035C4-5846-4B8C-96B7-A5030B4CA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FD5E33-8528-4FB1-9678-707BF6613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5CE83B-F41B-4E3C-AD91-E259B5558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2F9DA9-C54B-44FD-B65C-9FD34D6ED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129069-6282-4798-B916-DBD6FDC71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BE538D-17A4-4A41-A2D6-EE54BA3F5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197FF1-9C3F-4C92-AE85-DC07187C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646EE-B9A1-4721-AAB5-A85EC19CA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47FC16-06D9-499B-ABBF-CEF0A577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ABA401-E23A-44D4-A451-57F3B450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FF88E5-2868-4D91-ADD2-FA8EB8E9B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24AF15-10EB-4571-A90A-2AD2AF19E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27ED80-C0AA-4071-BE1D-C42997C4B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D7F5EB-4388-4DD7-B4E3-64E873A00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6F4E11-FB84-42D1-83F5-9AB368380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BDF5EF-EE68-4DC4-AF7F-41EDCA76D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756254-81FA-4142-A99A-616DE12F4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30F19D-AFA3-4104-B5DF-7857CF2FF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CA85F-5A5D-43FC-87F2-BC1659585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FC5A1A-FAE5-4D15-893F-2EA076DA3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F457A3-DCD3-4E5E-B500-469DA5E8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6EA8E3-4B87-40DE-B2BC-60B0FD658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733638-72AD-4722-99FC-281E84368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5DD06C-C22C-4A3F-86AC-DA655BF7E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A38F03-A63F-44DE-A10D-CA62A0CA5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B173FD-9FB2-4795-9D2F-F2A33EC83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A16B97-F896-4601-8E0C-9C16222B7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9375B1-3B1E-441D-BED0-2A8BD3467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0DD64E-7BDC-47E9-8D93-1CCD120D4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CBD10-2EAC-497E-BCE7-B5B910AD8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1D8A15-5E81-4E3C-B71C-B3CC4BF38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D0DE10-8852-4055-AA16-DF201BB44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106D4D-D5BC-400D-8AB6-DFF1C5BB7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8C7C2A-5384-402C-89DD-67D7E57CC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52CF76-4B0D-4945-AC2D-8B11E841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FB6589-696C-4506-AA1A-5DEF2D94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D8B29C-8945-4491-BB93-69463AE14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BEDF04-DE15-4E29-8A68-E07621847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3AC832-84EF-4C20-9570-F18C73DAA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3E32B7-0233-489E-9FF6-908C10D5C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06543-7202-4259-AB52-1AF9828DB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1A3AB0-2BA9-4336-8C7B-2495751CE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A4E795-A70D-4EC8-B7BB-B6A503E3C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26EF4C-6238-44BF-B9F0-5334EB1E1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09B9D8-3128-4485-BAB9-156BA9F14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8FAAA9-2AA5-4AF9-930D-8D450D091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8CAF96-2F06-460D-A33A-F4A591BCB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B65B48-FC8D-4018-8C39-DD6073B7D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52E251-A995-4289-A553-D31646B3A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E6E525-A472-4D26-AA12-C4A857608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0098F6-5389-4283-BF3B-11B9CFB41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BC762-9CB5-42E3-90B7-14C345ACD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7E426C-9729-478A-8D13-F7C73996A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386EA7-3755-4917-AC05-BCC767C8E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B8C67B-9B2C-42CB-9C06-19BA1BE35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9804F8-C972-4515-A226-4B38ADC9D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BAB90D-DADC-4E7F-9344-13E771218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5B8467-9C1E-4935-8EB0-7C4191FD2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154BE4-BC7A-4867-A7C9-679C98730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B7F36B-DD8D-4964-94E0-B965E0E9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F57527-9B8E-45BA-80D6-EC4F3E745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45B996-E726-4831-9C77-453837F1F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65D95-6A02-4318-BF82-E194F9D8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79C15D-C72C-4753-8216-4ABC8A594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4DADFA-CF01-4CD7-BE73-C0D7374DB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238765-B53D-49F0-AF16-E09F720D1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ABC08D-587F-448D-8B54-6C8C51C38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CA23C6-461D-44AE-B40C-79D3D2E90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EC0CD1-43DC-43A9-8393-813301359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C8A09D-2C68-4E73-8C5A-5EF429340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B8C31E-1214-4165-BA9C-87FEE8F4C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D2FCAB-49CA-4428-A6AB-A91D8FCAF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82ED97-23F4-4289-8D36-41B534AEC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9C80-AA25-4A13-8FD6-F2746F150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DE69C-A6E7-4152-9B97-034D7C1B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65C3C7-76E4-4D2F-8AE6-21F6D6220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4350FC-1D6D-4B97-8C83-1356F09A4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B807C2-7863-40F3-A49B-FE1539B74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5D7601-75C6-41AF-A0AE-19BDB7A4E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C7C37D-479A-4A24-A131-244030F52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809C57-815F-421E-AFF2-0D87027C9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1C5BDB-707E-4E77-8C1B-0799FDD05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A5FC17-B7A3-410E-A2B5-27227CD51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00E660-64D5-46F7-9F1F-99114C3F8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593C60-28B3-46AB-B229-51C63D412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36A10-09AA-425A-8AA1-89D1444B6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B224DE-B300-4D66-964C-53368A1E8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3E6351-64D2-4D52-A83B-1F9771C4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6C33E7-41D9-48CD-BC82-070D7770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D2C3C1-0301-44D9-BC13-AD74E3DBB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B95536-CEEE-42F3-8728-F059A1C1C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048364-0FC4-4A04-B1E8-FBBE7BF47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33792C-4CEE-40F1-A304-4938445E1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28190A-8B43-48F1-A34E-59B319A5F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24CF17-1808-4BA6-A3C4-5BFFEB59C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E59AC9-C06C-4D84-966A-3AEB32BCF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B1B70-55C1-4B2B-A15C-69F906A50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FB240F-1197-4994-B499-754F40342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11C869-6691-4D09-859D-F67217874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3166CF-1689-4B94-BA5E-FB88AE76D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6169F1-84CE-44FC-8ED7-A61C9E97C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02FFC8-387C-4BE9-B6CD-B3806104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72CC35-A2AD-43B4-8C0F-BB20614A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F71C65-B34F-44A1-A037-5506996CB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514C59-200E-4271-BE98-419AB43C5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4520E7-6494-4B91-AC0C-A1D84175B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DA93B7-599C-402C-B4FC-A01511D63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D78FE-AEE8-4DFB-B48C-EE92D8939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41BE4D-9090-4280-8259-D7811813F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AC8917-C40E-4996-BDA6-D7D20E98E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6384B8-8F9B-480E-AE10-53B5BEACB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2808C8-D5FC-4A8A-B0DF-F71F88FE7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03ADC9-7E58-40E7-994A-1FBBCBA93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AAAAFB-7D1E-41D2-AABB-8499A7CA4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ED09EE-D29A-4060-A335-65D85D455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55F296-3C37-4972-B1D8-214775717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92B2F4-2EF1-48D4-A0FE-07F08AA4B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FE082D-FDF8-45A8-95DC-A28DF0A6C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A9FA9-133C-497F-B522-8B6753E0A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01B017-6D44-4AE6-942A-95F725D74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6EDA5F-DCAF-4D9F-897D-62B5D6E7A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C0DF41-F149-4D28-B945-46F708068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86D433F-DBFB-456A-85E1-40D118877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E179DB-E9E0-4D33-BF8C-94DDE21C7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23F62F-48A1-4E3F-B97F-F963BD465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8026C5-44BC-486A-9396-6B23057F4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639528-792F-40B9-A7AE-89B265B28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FF2598-063C-4F3C-8E2B-3825B263E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F7A084-C700-4E8E-AB51-399914F9F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689BF-8C90-4B3A-A905-427CECB30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F72D3A-7F89-47A0-9C8E-B06A845B1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3C584E-C353-4A47-A93E-E0C2A5EFD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DBC6E3-99F0-4415-9DA4-42C60011E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2798C69-DDAB-43D8-83DC-3525A0A4E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C7D2943-2842-4585-829C-0CEF91B55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E02555C-6A9F-46B1-937B-971CE7968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300DC48-553D-4877-A511-935CFA89B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EA50209-D38B-4F55-AB8A-5E34062F9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0DFB2B8-AA46-4C70-A184-ECC6DBA1C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91DB8C3-27DD-44FC-8D68-5D1C9062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3A191-4A14-4EB4-B608-C23B0A0A9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10908AC-A203-4120-8EA1-B11CD9AFA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432F1EA-9934-47E8-BD87-EB3491F9E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2DBC068-41AE-47E6-A7AD-0D8825B46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E8D8AD1-31D3-4CE1-8056-6574B1B09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CADD136-CBDF-4A88-969F-4431DCF54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2261C91-4D42-4EDA-B881-2ACEBDF9E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2DA648F-3737-4A0B-B749-B9C8F8639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A8ECDDC-6175-4B05-8CF3-2629546C3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6DAA847-2B73-44B2-A450-1DDCFC7E2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C7A8A98-0ECB-450C-8A5F-58774DFB2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55354-76FD-4137-B6CC-A5DD7D15A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2A47CE4-03EC-4753-92DB-96D37D821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66C7009-EBA0-440F-9225-24D6C984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B6D19ED-3426-4B47-AD46-38BC5B39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1662614-36F7-48FA-97CD-E315BAAB8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3B984DF-7BF0-4E73-90D1-CCF335478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84B265F-9E2B-4B3C-B71C-0B5F418D7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A2FB17F-1AA2-486A-812E-83A71EFD3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D901C34-A24A-4E45-9887-5B3611EF4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D800192-5752-4EC5-8E66-466AD7193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78AFC5D-E256-409D-AB0E-5CC2A562A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93830-FC90-47A4-9FCA-602DB1CDD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799EA2A-285D-44F4-A8FE-D512837B1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BDAF887-B481-434D-AE46-A92D405F4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A850BFF-5707-4F39-8938-536168087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4232954-3610-473D-9CE0-A30D0276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C355AFF-E0C4-4683-9B0D-86E0DECD7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E826BB4-327C-483B-A221-C7EE497AB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145D30C-D654-4965-BDC8-4007AC896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6E3E9D7-74A1-4753-A424-A5856879D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39074E9-DCBF-4286-8E80-9B1822499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F870722-84CF-4BCB-B295-DFFF04CF7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A4DFF-EE02-47BA-96A3-25976D4AB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5E64563-D2DF-4A64-AF5B-23AEC01E7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E1D10F2-E418-4237-AEE1-CC8668384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772D99B-BDDD-47DD-8578-6CB182594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AED93F9-5E38-4B27-B955-FB1B9694D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3828A68-E38F-49D1-8AC0-ECAB72827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D5B613D-4AA7-458A-88B9-DC0876E57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04296C0-97EE-4D87-843B-E8932BCF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CDF46B9-28E1-4AD4-8262-9523056E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F669635-0550-4004-8FC0-4CCCBA832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E95427B-D22E-4139-98B0-0E7AAC968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2272-B52D-4F69-A773-5340CE161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C64F7-5B6E-4306-94B1-B5174DB0A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0BDAC15-0774-40E6-93FC-DCEF53795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1C21324-E8EA-4E99-8A80-59C14E160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10E4666-84AA-4A1B-BE3B-67EE369D1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51C7931-375D-4BE6-8BEE-839E37A6C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26F1E41-FEB0-4DFF-88DF-1CA94F8D4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0199BF9-8DAF-4CFD-8B04-5D2E4B406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4DC7934-5378-4602-9959-E1C2D7AE5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C86E5FF-44B3-474F-B746-899B2F8C1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650CC82-DC9D-4609-B760-7DC6167B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41D733E-868E-4A28-AB6F-0F24391C8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8CE35-DC16-4378-B322-98D2A4BBE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031CC7A-3656-493D-B3F6-ABFE041CE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75C0E42-1249-47B7-871C-3912B7C4D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76C6092-2CEF-412A-8649-D2CA15FE8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4E9B6D1-CAE3-4A37-A9D2-6B5ECACD8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0DDEFD8-54C7-4576-A359-765683A8F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BC83E43-FBAB-45A7-A3E6-6608744D7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DC29419-5460-42BA-9E40-B5BD3B9B8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CBC7A15-A057-4D75-AB2A-91C94F922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87A9EA6-A03C-4A1C-AA4C-AE368DA58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5FDC3B7-DA92-4D59-BE19-A7BEE274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78B48-EB3A-42F7-B4B0-BB8A78A8E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E27FC57-C157-48C5-BEEA-1F4E6CC9F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5AF392F-B338-46E5-ADF0-FC0105FA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AE02186-CBC1-462B-940D-C7BD9A70C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6FF8D9F-DB78-4FA1-AA79-DA5E78398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66F8C18-2EEE-4036-84A7-BF63CFC75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5C3519B-872E-413E-B48B-6FB997A47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6BA7123-6939-44EE-9C45-4BFC9251F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6862C39-A377-45F3-ADBD-E6111A209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8291E84-4C87-4863-86F9-F02126ED7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455005C-61D6-4368-9916-4ABDAE80A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4A850-0552-407C-84AA-F666C4867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4500A38-1D1C-4871-867A-7063D9D11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DC51A79-E316-45C0-A3CA-D3E533BA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4C62576-372E-476B-A124-782217D2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4910446-96C2-497A-ACA7-C7F2ADC07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FB9BEA1-E9F7-4F36-86F6-4814FAAB0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3F68B32-AC72-4AE3-9B13-6C667DFBF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4A08492-4989-4AC1-9E8D-EB8D43F1C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FC2714A-B488-4438-A8C1-7893F542C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1C6C5D3-FF2F-42CD-ACD7-D39F0820F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712F59C-375E-486A-9539-1960444C1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81C14-9D29-48F7-B9E2-CCBF455D4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48421C1-4649-4EC8-B5A8-165D544B6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5DE25DA-A2BF-4760-894E-F82BD553F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BFF5CBB-0ADB-4254-BBE1-41DA43D57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621485A-D6AC-42D2-88DB-A204EF2F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56066CB-6FD4-46C3-92E6-FE7EE341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504521D-3DB5-410D-810C-15C42E65A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B895DD7-FC0D-4DD2-B7FE-E5FE001BD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976657A-9E72-452F-AB82-820B38E4F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985266B-62E5-4EB6-A94B-FA0A27C7C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328BB37-B529-4DE1-B4B4-29EC7D105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1EFA6-F395-429E-B6FB-E5484B42E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760F534-064B-4229-A1DA-F0E8A0DE2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0625AAC-E256-4DE8-BF02-7061B2776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16C5121-7B5E-479F-AC9F-88423EBFA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F4308D8-0058-4A0D-8409-91A95935B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8DC95B7-3C51-425F-B190-4269AA601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50DC691-ACDE-4BF8-A938-21FFF0D57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87CDD39-5F45-4D53-86C5-61692A9F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E38AA44-EABF-4E05-8FFE-5B8800CDF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546D4CF-0503-4CB1-A1D3-DF9032AE0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E9F7ACC-268F-42D9-B214-2C123CD82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F2C19-67CF-4600-8DA2-58876BFBB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14FB18E-5685-4D6F-8D38-95373A9F8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A7F35F7-A7C7-4CE3-8197-8D22966C0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0287553-31AA-4DE4-9EC2-923842369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81CE638-D5BA-4770-B0C2-EE548850A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1827EC8-78DC-4063-9963-E4C2C890B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D692A96-2C50-447F-BE42-36940E19D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5DF2028-3736-4CF4-AD03-0DE690002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AA9859E-B7A0-4426-A8A2-766EF91B5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DEDA8DD-8163-4060-80FD-7EF9DFAC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09592CD-1F91-43A5-9A56-B2116912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BE694-B83E-40B1-B6A0-D3FF3C96C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043B23C-F391-4501-ACFF-50CE4780E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B754B4D-9004-440C-8836-9FFCB45D5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EE33E28-4019-456E-9963-91D78AD06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AE02DBD-CF34-41E3-BE7C-779AE1018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6DBCB55-CFA6-49AA-9A0F-7E580541C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4766BD8-98BD-49D1-9BA9-A7528B161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87D9BBF-9991-4999-A484-08AD3EBE4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C041ED5-8A0F-4BA9-A9C1-0EBC52458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46F90BE-C922-4C82-995A-88C29D9BF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007D88E-A86E-4934-933F-85EE9CF4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D1D2C-7266-4B0D-A20B-493D61996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3A94E5E-3ECD-4538-B7E6-318C98260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7323D27-8558-4AE3-8425-5ECF8C9C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13871A2-487C-41AA-A422-F3A5E37C8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A508B92-6E4F-42BC-A12A-20BE75BF4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8454873-F539-4513-AE6F-76559B0C2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C6F53B8-09EC-48F8-9F0C-F1DADAE54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9723E19-5B4C-49AC-9F4C-2614E462C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825429D-9426-4429-9479-85FB3FF9A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5D25622-DCB8-48FD-B813-D9352B4B0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40C64F8-26D3-4553-8A92-5787E5C3A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F4CE4-67EB-483F-83E5-537A7D443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2635800-B411-4832-BA72-FDA929A19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EEF3136-3FCF-4BF1-BF11-00AE891C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A2F9D41-DAF9-46AB-910B-5462D6BEC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485929F-13D1-4572-AC39-E32B36F0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46A142F-6D68-447F-B13D-8605EB853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7E34619-D6F0-4711-9B69-CB8E07258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402B8EF-B49C-4D9C-867A-C6A51E4FB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08BBB64-657B-4932-8EB6-6A438370D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FC2787D-1FD7-48AD-BFBD-BE4CF7E6A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EE07C52-8AF3-4393-ABE1-9AE9B4D0C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17DD-163A-404A-BD1C-171E078CA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1DB91-53DB-4DC6-B293-6C493B7A1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5D9306A-6D1B-4F06-B66F-D6C35321D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E563543-9623-4192-BF8A-D9F877353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1D78093-55D5-4D33-99F5-E21F1C38C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A65E1CC-C50D-4065-8098-458FF2D45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FE80480-EBBA-4D44-A399-9D3EA7B5F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3C3964E-F270-4379-8213-BF02CC05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ED8192A-5A11-4A25-B30A-D4AFA742C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CC07B21-6072-477F-A9DC-F74F6C286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CAC3C5B-E3AD-4C46-8E43-68CB0C28D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3D37296-E68A-407E-9BAC-D87FC76C0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07B1E-A598-481A-B72D-4703404C2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E77D37F-75BD-4B5C-9A5B-B38188EC6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5C80573-00D0-4D82-A9B2-E594E184E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634B2D9-E546-416F-8D31-D4CAD467A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813B306-FD3B-4327-B6BE-7C71C98CB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4D34991-F68D-403A-8D35-C66DD8FB8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493EE7E-5978-43E4-B1FF-2CD1FC7F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7A75EDB-5900-4922-92B2-F16752FA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777D79D-5AB3-4BD0-B76C-4103EE33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A72DADB-B1B6-4A0B-8CE8-92376AE94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08C0B90-95C8-456F-8D6A-730A32732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DE9F1-E98C-4D8A-B017-43071F6AC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EE6ECE1-AC44-4981-940B-39C0D1ED3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6F01678-70CA-4C65-BA69-096AF5454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EFA6F97-FA55-4C0B-88CF-50F89A4C9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CF75C24-94C1-4186-A0A1-6CFFB3DFA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4F060C9-DABE-4302-8FB8-BEFCF9614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7552C4E-35B7-435C-98DA-87CDC29C5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68320B3-5C7F-482F-B3AD-7F3DFE6E9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B7423CA-DC88-4E9C-9DEC-BC8B3AF3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34CB1B2-F748-46F4-BDF1-794B34DC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381CB91-FA80-4702-97A8-33D228FE5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A7321-803B-4E5D-9261-6AF3A0E7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0B839D9-74F2-4D26-B3C1-5AD58604B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8387262-6624-43BD-A5E3-E1E582F53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FA721E3-3A7A-4120-A7AA-65A541288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5B787-E6A1-47D9-B6F8-868A123CE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E8639-69D8-439F-8F63-37F5A3FD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B6FA1-96CB-46BF-ADD0-72F68AC34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06E38-8B14-4E10-A3E5-71FF50910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38E0D-64DA-4D41-B252-D82833C4C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275E9-A13B-4D60-B343-EB7F2F6BA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B395-7F59-4DDF-B743-7699A80B2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5D0DF1-55A3-43F4-BEAF-B35F1448F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57C66-6E1C-43E0-93ED-4443AF0BA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A24DC-3AD1-4598-B1F9-F505BEAE7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A7880E-BB4C-4429-A181-9B7B2ED24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7338E-1E48-4B7D-AB42-8658F2558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3C716F-68B7-404E-9668-A3E6EC05B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0B682-E823-4C98-960B-BD3A67C4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6F4DA-7798-41C0-AA16-8B9991E3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165BDA-C733-4A78-83BE-27635479F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C2226F-EAFF-4D9A-B1F6-E468A079D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2C04-7F5E-49C8-B11F-48C2971AB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723D0A-9539-4B81-B4DD-AF1FE38E0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126D6D-B0B1-4806-B300-8EE67B9FC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FCDE59-BDBE-459D-8002-190133466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849AA3-2B6A-469C-9B54-A17E67165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ACFB2C-85AC-4D3E-A177-8A3D77808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6DCBBD-52DE-4C14-9F00-BD53A6A8E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9DF2A4-A168-4658-8C16-ECD5A0A9B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9D78F0-0F87-4C75-A162-2551589E4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994302-A906-435E-875B-28A6205A9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394A75-72A6-4561-969D-FA3F536E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2472-74BF-4478-8A2F-41BA328C4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4E7314-6BF5-4301-A266-3A0868693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78A1E2-FAF2-489A-A9E6-04B263F91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A0F886-3CB7-4B06-9F01-9993C540C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58B603-1EE7-4D26-BB7B-41EA6A739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D02BE8-AB66-4801-A58B-C8B09EAE4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3341B5-8341-44F6-B150-D1298D788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C8F61E-C0DE-49F7-9FC1-9ADB132B8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3AA85A-516A-4CA7-AAB4-9135865AF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38D823-8EF8-4E07-99AF-E8BB2C60B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EA338D-731F-42D1-A740-6E64ECB14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0435-C9BD-441F-A973-056F84E07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400A7B-BC2B-48E1-A44E-C20E770B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15A18E-6E2E-4BD5-8457-D65B0295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4E8943-7153-4097-886B-EAC5C6CCC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0453A9-D06E-4235-9EED-3B48591A8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309F42-B472-4D92-941F-D457D6C35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8DA817-A4B5-4017-8F5C-8B52DC973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14EACF-E33F-480F-90CA-6CC19E2CE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A1E9C9-613F-4A0D-ADFC-DE2A63E83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65360E-DFD5-47C3-8C6D-F56046FC8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E3B67D-35F9-4BC7-9B83-2C68E9BF2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D5F6-F063-420C-AD60-74DDB70C8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B01033-9E99-428B-94C6-8C1E63CFC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DE27FC-E823-4443-8A46-519BB3D01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64094E-FB65-4FF7-BCAF-DC3E668DB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A42B12-4664-408B-83D0-8CD19DF8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F6BBC3-2960-467F-A1AD-DB1E56B1A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E0E9A7-331C-4E5A-BE3B-5E5A2A56D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76D2FF-F895-4240-B01A-ACD326616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8D3CBE-293C-472F-B935-C919EAB4F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B452D2-DD7C-4B04-8351-4AF62962E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50858C-39D7-4698-8BFA-590F41A4E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F1E0F-D514-435F-B91B-DC734CFA6D0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C988E-A17A-4070-95AA-3AA4A946F4D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EBD8A-7EF1-456E-B6DD-FE22D1B0E5F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6EDE7-E123-4DD4-ABA1-5758E323C4E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D250C-0EDE-4534-AC16-DD8824750DA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F6E3B-F12A-4E7E-8AC2-BC0941C6C6A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BD66B-C78F-4CD3-A2B9-C2C4A33703B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005B5-92BD-437F-AE30-B093E04FC42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072EE-1C73-4413-BD9F-FFAA487A833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EA509-298A-4EF0-BAAD-4C33B5E7E29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11D70-3F78-41BB-ABBE-2C5D3735631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48927-643D-4032-8044-58267DB3244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417B6-3B81-458C-8250-7D40AB8BADD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83B63-6969-4E6C-B034-E0E9E7BFE75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4B312-3E3B-4ACD-8474-577A5757234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3434C-06E5-4ECE-974A-EC75EB45277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C8D6C-64AC-4060-8336-C0A3FE14187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45C3D-ED34-46A5-AEDC-78E8374F0FC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CC6BA-E23B-4BEA-A2F6-35AE39C4C37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890EF-3253-46F1-8921-B5E10850BA7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A9299-5BE3-486A-A3CA-045FEC86C8F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46850-047D-4386-9DA7-EBB3A45C858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A83A1-9150-42C6-AF69-F6012DE1BEC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3502F-C511-4399-A4E5-73CA90898C2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7C81B-B484-44B5-8B41-FA6C0FBB1AA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F14F1-02C4-4550-8EFE-9F6DDF9B94E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27647-4FB0-455B-A4F2-23D410B9EB8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36BC5-5253-44C6-A8CB-9ABF4C0ADBE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F90F1-2D55-413B-A6B6-65ABD8B5456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7C68A-C480-4135-9DFA-F700CF8862C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1B0C5-8B25-4FCA-AEE9-8B6F80446B8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A80A1-0BAD-45CD-A742-21148411934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CEB9F-3476-43D8-89D6-82A054778B1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84ABB-D4DB-44D6-8883-C43BE3FCC4A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9220D-D32F-496B-AD7C-C66FA9CDFEE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96A4D-7DC8-409A-A933-0FD79F587F3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3" name="Picture 2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7848360" cy="3868560"/>
          </a:xfrm>
          <a:prstGeom prst="rect">
            <a:avLst/>
          </a:prstGeom>
          <a:ln w="0">
            <a:noFill/>
          </a:ln>
        </p:spPr>
      </p:pic>
      <p:sp>
        <p:nvSpPr>
          <p:cNvPr id="1484" name="Rectangle 3"/>
          <p:cNvSpPr/>
          <p:nvPr/>
        </p:nvSpPr>
        <p:spPr>
          <a:xfrm>
            <a:off x="0" y="106668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44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48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Rectangle 5"/>
          <p:cNvSpPr/>
          <p:nvPr/>
        </p:nvSpPr>
        <p:spPr>
          <a:xfrm>
            <a:off x="1428840" y="6541920"/>
            <a:ext cx="65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SETTORE SERVIZI ALLE IMPRESE e FLOROVIVA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9" name=""/>
          <p:cNvSpPr txBox="1"/>
          <p:nvPr/>
        </p:nvSpPr>
        <p:spPr>
          <a:xfrm>
            <a:off x="142920" y="2428560"/>
            <a:ext cx="885816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Arial"/>
              </a:rPr>
              <a:t>avvio del procedimento -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art. 12 e 13 della L.R. n. 56/2009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notifica delle </a:t>
            </a:r>
            <a:r>
              <a:rPr b="1" lang="it-IT" sz="2000" spc="-1" strike="noStrike" u="sng">
                <a:solidFill>
                  <a:srgbClr val="333333"/>
                </a:solidFill>
                <a:uFillTx/>
                <a:latin typeface="Arial"/>
              </a:rPr>
              <a:t>comunicazioni di avvio del procedimento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333333"/>
                </a:solidFill>
                <a:latin typeface="Arial"/>
              </a:rPr>
              <a:t>il portale agriligurianet nella sezione PSR – sottosezione misure/;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333333"/>
                </a:solidFill>
                <a:latin typeface="Arial"/>
              </a:rPr>
              <a:t>il Bollettino ufficiale della Regione Liguria (BURL).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0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Freccia in giù 4"/>
          <p:cNvSpPr/>
          <p:nvPr/>
        </p:nvSpPr>
        <p:spPr>
          <a:xfrm>
            <a:off x="3857760" y="3714840"/>
            <a:ext cx="714240" cy="571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571680" y="92844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23" name=""/>
          <p:cNvSpPr txBox="1"/>
          <p:nvPr/>
        </p:nvSpPr>
        <p:spPr>
          <a:xfrm>
            <a:off x="142920" y="1714680"/>
            <a:ext cx="885816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cura del Settore Servizi alle Imprese Agricole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erifica della ricevibilità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o dei termini e delle modalità di presentazione della domanda di aiut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za della documentazione (documenti essenziali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za della firma del legale rappresentante (ove richiesta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struttoria di merito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erifica dei requisiti dei soggetti proponent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mmissibilità oggettiva delle domande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zione del progetto/corso/servizio di consulenz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ttribuzione del punteggi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ventuali prescrizioni e proposte di azioni correttive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4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26" name=""/>
          <p:cNvSpPr txBox="1"/>
          <p:nvPr/>
        </p:nvSpPr>
        <p:spPr>
          <a:xfrm>
            <a:off x="142560" y="1785960"/>
            <a:ext cx="864396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331 e 2° bando Misura 111 “informazione”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creto del dirigente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raduatoria delle domande di aiuto ammissibi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lenco delle domande aiuto ammissibili e finanziabili in base alle risorse disponibi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dempimenti per le domande non ammissibili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ACCORDO tra Regione e Soggetto beneficiario</a:t>
            </a:r>
            <a:r>
              <a:rPr b="1" lang="it-IT" sz="16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114 e 1° Bando “informazione”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ullaosta (Atto di concessione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7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Freccia in giù 4"/>
          <p:cNvSpPr/>
          <p:nvPr/>
        </p:nvSpPr>
        <p:spPr>
          <a:xfrm>
            <a:off x="4143240" y="2071800"/>
            <a:ext cx="42876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Freccia in giù 5"/>
          <p:cNvSpPr/>
          <p:nvPr/>
        </p:nvSpPr>
        <p:spPr>
          <a:xfrm>
            <a:off x="4214880" y="3571920"/>
            <a:ext cx="42840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DURAT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590400" y="2000160"/>
            <a:ext cx="82296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inizio e di conclusione del progetto/corso, preventivamente indicate nella scheda tecnica e definite nell’accordo/nullaosta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re nei tempi previsti dal progetto/corso approvato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ventuale richiesta motivata di proroga (escluso 1° bando – misura 111 informazione”) non superiore ai sei mesi sulla data di conclusione (compatibilmente con le scadenze comunitarie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2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34316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Attuazione Proget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214200" y="1928880"/>
            <a:ext cx="86248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pese Ammissibili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finite nel Bando (punto 7), in particolar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confronto a consuntivo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tra n. 3 preventivi (non richiesta per beni altamente specializzati e per acquisti di beni - importo di 500 euro x domanda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V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non riconosciut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seconda del regime IVA e per gli Enti pubblici</a:t>
            </a:r>
            <a:r>
              <a:rPr b="0" lang="it-IT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ategorie di spesa e voci di spes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previste dal Bando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mmissibilità delle spese è valutata ai sensi della DGR n. 372/2008, e ss.mm.ii (DGR n. 1396/2008, n. 317/2010, n. 580/2010, n. 815/2011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grue, conformi ai prezzi di mercato e coerenti con il progetto/corso approvat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uantificate e giustificate (preventivo e consuntivo) - distinte per categori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5" name="Text Box 5"/>
          <p:cNvSpPr/>
          <p:nvPr/>
        </p:nvSpPr>
        <p:spPr>
          <a:xfrm>
            <a:off x="0" y="6524640"/>
            <a:ext cx="29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Text Box 6"/>
          <p:cNvSpPr/>
          <p:nvPr/>
        </p:nvSpPr>
        <p:spPr>
          <a:xfrm>
            <a:off x="0" y="6491160"/>
            <a:ext cx="40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Rectangle 7"/>
          <p:cNvSpPr/>
          <p:nvPr/>
        </p:nvSpPr>
        <p:spPr>
          <a:xfrm>
            <a:off x="0" y="65214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Rettangolo 6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2868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Times New Roman"/>
                <a:ea typeface="Times New Roman"/>
              </a:rPr>
              <a:t>non sono ammesse varianti</a:t>
            </a:r>
            <a:r>
              <a:rPr b="1" lang="it-IT" sz="20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minuzione del punteggio attribuito 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dita dei requisiti di ammissibilità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del progetto/corso/s originario in termini di obiettivi e di risultati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sostanziali tecniche ed economiche della singole tipologie di intervento approvate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umento dell’onere a carico del contributo pubblico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1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609480" y="99972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142560" y="1500120"/>
            <a:ext cx="871524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 Black"/>
              </a:rPr>
              <a:t>Per la misura 111 e 33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Costituiscono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arianti in corso d’oper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immateriali di carattere giuridico, tecnico ed amministrativo (es. cambio di sede di realizzazione dell’intervento, adeguamento del crono programma, sostituzione del personale coinvolt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materiali: riduzione della spesa prevista per la realizzazione di un intervento ammesso all’aiuto (a causa di economia o mancata realizzazione, parziale o totale) e contestuale incremento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riazione in aumento fino ad un massimo del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0 %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l’importo inizialmente determinato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tra le diverse categoria di spes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es. spese di personale, materiale consumabile, etc.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</a:t>
            </a:r>
            <a:r>
              <a:rPr b="0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simo una variante finanziaria per domanda di aiuto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richieste di varianti devono essere preventivamente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municate (preavviso di 10 giorni) e autorizzate dal Settore Ispettorato Agrario regionale (prima della data di scadenza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5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213840" y="1714680"/>
            <a:ext cx="864396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b)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costituiscon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ariante in corso d’oper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(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n comunicate e autorizzat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181080" indent="-18108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 riduzione dell’importo (per economia di spesa) in una o più voce di spesa ammesse all’aiuto, senza contestuale incremento di altre voci di spes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181080" indent="-18108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le modifiche di portata minore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 non determinino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tra le diverse categoria di spes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un aumento superiore al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 %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l’importo inizialmente determinato per ciascuna categoria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9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34316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Domande di Pagamen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609480" y="178560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domande di pagamento e le relative rendicontazioni tecniche e finanziarie devono essere inviate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 Settore Ispettorato Agrario Regionale (competente per territorio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ntro la data di scadenz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misura 114 e misura 331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ntro 60 giorni dalla data di scadenz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Bandi misura 111 “informazione”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ulistica predisposta dalla Reg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tati avanzamento lavori (se previste) e saldo finale (non ammesse anticipazioni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Le modalità di rendicontazione e di pagamento sono definiti nel dettaglio nella DGR n. 372/2008 e ss.mm.ii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3" name="Text Box 5"/>
          <p:cNvSpPr/>
          <p:nvPr/>
        </p:nvSpPr>
        <p:spPr>
          <a:xfrm>
            <a:off x="0" y="6524640"/>
            <a:ext cx="29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Text Box 6"/>
          <p:cNvSpPr/>
          <p:nvPr/>
        </p:nvSpPr>
        <p:spPr>
          <a:xfrm>
            <a:off x="0" y="6491160"/>
            <a:ext cx="40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Rectangle 7"/>
          <p:cNvSpPr/>
          <p:nvPr/>
        </p:nvSpPr>
        <p:spPr>
          <a:xfrm>
            <a:off x="0" y="65214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Rettangolo 7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iolazioni di Impegn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285840" y="1571400"/>
            <a:ext cx="855504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fattispecie di violazione di impegni e dei livelli di gravità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entità e durata per ciascuna violazione sono disciplinate dall’alleg. 7 del Bando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DUZIONE e/o DECADENZ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cuni esempi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tardo nella presentazione domanda di pagamento, non conformità del materiale informativo, variazioni varianti, comunicazioni di varianti, etc.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atto salvo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uanto disposto ai sensi dell’art. 31 del Reg. CE 1975/2006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’inapplicabilità di quanto disposto al presente articolo per i casi di forza maggiore previsti dalla normativa in materi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’applicazione di ulteriori norme comunitarie nazionali e regionali in materia di illeciti amministrativi e penal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9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Freccia in giù 4"/>
          <p:cNvSpPr/>
          <p:nvPr/>
        </p:nvSpPr>
        <p:spPr>
          <a:xfrm>
            <a:off x="4286160" y="2214720"/>
            <a:ext cx="642960" cy="571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669900"/>
                </a:solidFill>
                <a:latin typeface="Arial"/>
              </a:rPr>
              <a:t>TITOLO</a:t>
            </a:r>
            <a:endParaRPr b="1" lang="en-US" sz="3600" spc="-1" strike="noStrike">
              <a:solidFill>
                <a:srgbClr val="669900"/>
              </a:solidFill>
              <a:latin typeface="Arial"/>
            </a:endParaRPr>
          </a:p>
        </p:txBody>
      </p:sp>
      <p:pic>
        <p:nvPicPr>
          <p:cNvPr id="1488" name="Picture 4" descr=""/>
          <p:cNvPicPr/>
          <p:nvPr/>
        </p:nvPicPr>
        <p:blipFill>
          <a:blip r:embed="rId1"/>
          <a:stretch/>
        </p:blipFill>
        <p:spPr>
          <a:xfrm>
            <a:off x="2357280" y="1268280"/>
            <a:ext cx="5346720" cy="2519640"/>
          </a:xfrm>
          <a:prstGeom prst="rect">
            <a:avLst/>
          </a:prstGeom>
          <a:ln w="0">
            <a:noFill/>
          </a:ln>
        </p:spPr>
      </p:pic>
      <p:sp>
        <p:nvSpPr>
          <p:cNvPr id="1489" name="PlaceHolder 2"/>
          <p:cNvSpPr>
            <a:spLocks noGrp="1"/>
          </p:cNvSpPr>
          <p:nvPr>
            <p:ph type="subTitle"/>
          </p:nvPr>
        </p:nvSpPr>
        <p:spPr>
          <a:xfrm>
            <a:off x="356760" y="3929040"/>
            <a:ext cx="8643960" cy="2214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 Black"/>
              </a:rPr>
              <a:t>Seminario Informativo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 Black"/>
              </a:rPr>
              <a:t>nuovi bandi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111 “informazion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n. 677/2013 e 672/2013)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114 “consulenza aziendal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. 510/2013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331 “Formazione e informazion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. 531/2013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Revoch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accertata falsità di dichiarazioni sostitutive di certificazioni o di atti di notorietà contenute nella domanda di contributo o allegate ad ess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ancata realizzazione del progetto/corso/servizio di consulenza ammesso a contribut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zione del progetto diverso da quello ammesso a contributo o diverso dalle varianti autorizza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manda di liquidazione del contributo irregolar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rave irregolarità dei documenti che attestano le spese sostenute dal beneficiari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dita dei requisiti necessari per la concessione del contribut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nuncia del beneficiari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3" name="Rettangolo 3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Obblighi Genera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285480" y="1857240"/>
            <a:ext cx="864396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zare il progetto nei tempi che consentono il raggiungimento delle finalità della misura in conformità agli obblighi derivanti  dalla normativa vigente e dal PSR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zare il progetto in modo conforme e in coerenza con la proposta approvata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tere a disposizione  della Regione e di ogni altra autorità pubblica incaricata dei controlli, tutta la documentazione necessaria a svolgere l’attività di controllo, anche nel caso sia detenuto da terz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ntire l’accesso degli incaricati dei controlli ai luoghi  dove si trovano i documenti oggetto  dell’aiuto pubblico ed ai luoghi dove viene svolta l’attività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rvare  per almeno 5 anni tutta la documentazione (lett. C, art.7, c. LR 42/2007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curare il libero accesso alle iniziative previste a tutti i potenziali destinatari, senza nessun vincolo di appartenenza a forme associativ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6" name="Rettangolo 3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Normativa di Riferimen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356760" y="1642680"/>
            <a:ext cx="864396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ali adempimenti e gli obblighi sono previsti da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golamenti comunitar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gramma di Sviluppo Rurale 2007 – 2013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R n. 42/2007, in particolare l’art. 7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BANDI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attispecie di violazione di impegni e dei livelli di gravità, entità e durata per ciascuna violazione, ai sensi del DM 22/12/2009 (all. 7 del Band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1038 del 10/09/2010, relativa all’individuazione delle percentuali di riduzione in base ai livelli di gravità, entità e durata delle violazion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1233/2008 “Disposizione in materia di pubblicità e informazione sul sostegno da parte del FEASR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372 del 4/4/2008, e ss.mm.ii  (DGR n. 1396 del 29/10/2008, n. 317 del 9/2/2010 e n. 580 del 28/5/2010, relative ai criteri per l’ammissibilità delle spes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9" name="Rettangolo 3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653480" indent="-1653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STATORI DI SERVIZI AGROFORESTALI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entrano esclusivamente i soggetti che hanno ottenuto il riconoscimento di Organismi abilitati dalla Regione a fornire i servizi di formazione, dimostrazione e consulenza alle aziende agricole e foresta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ficiari dell’aiuto: misura 111 e 331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ggetti attuatori: misura 114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i BENEFICIARI DEGLI AIUT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FFIDABILITÀ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 soggetto proponente in base all’esito di eventuali altre operazioni cofinanziate dai PSR (dal 2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NSUSSISTENZ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i relazioni di parentela o affinità con dipendenti regionali“ (Dichiarazione  sostitutiva di atto di notorietà  (“Piano di prevenzione della corruzione e Programma per la trasparenza e l'integrità 2013/2015“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DE MINIMIS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ove previst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beneficiari e destinatari (1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2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Freccia in giù 4"/>
          <p:cNvSpPr/>
          <p:nvPr/>
        </p:nvSpPr>
        <p:spPr>
          <a:xfrm>
            <a:off x="3929040" y="2571840"/>
            <a:ext cx="57168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mprenditori agricoli iscritti al registro delle imprese, dotati di numero di partita IV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peratori forestali, iscritti al registro delle imprese, che abbiano un’attività principale o secondaria con codice ATECO che inizi con A02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oggetti beneficiari per la misura 114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stinatari della formazione e informazione per la misura 111 e 331 (possono partecipare coadiuvanti familiari, iscritti all’INPS, e lavoratori dipendent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331 i destinatari con sede legale nelle aree rurali ricomprese nell’Asse 3) del PSR (zone C e D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beneficiari e destinatari (2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6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Freccia in giù 4"/>
          <p:cNvSpPr/>
          <p:nvPr/>
        </p:nvSpPr>
        <p:spPr>
          <a:xfrm>
            <a:off x="4071960" y="3000240"/>
            <a:ext cx="785880" cy="642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Entità Aiu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9" name=""/>
          <p:cNvSpPr txBox="1"/>
          <p:nvPr/>
        </p:nvSpPr>
        <p:spPr>
          <a:xfrm>
            <a:off x="356760" y="1571400"/>
            <a:ext cx="85726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orse disponibi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% di aiut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331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euro 327.4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 de minimi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34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4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euro 447.662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80 % de minimis </a:t>
            </a:r>
            <a:r>
              <a:rPr b="0" lang="it-IT" sz="1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solo per consulenza forestale)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1 – azione b) “informazione”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1): euro 100.0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2): euro 300.0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0" name="Rettangolo 4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ocedura (FASI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2" name=""/>
          <p:cNvSpPr txBox="1"/>
          <p:nvPr/>
        </p:nvSpPr>
        <p:spPr>
          <a:xfrm>
            <a:off x="590400" y="1785960"/>
            <a:ext cx="822960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tazione domanda di aiu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struttori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pprovazione e negoziazion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cession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ttuazione proget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3" name="Freccia in giù 3"/>
          <p:cNvSpPr/>
          <p:nvPr/>
        </p:nvSpPr>
        <p:spPr>
          <a:xfrm>
            <a:off x="4500720" y="221472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Freccia in giù 5"/>
          <p:cNvSpPr/>
          <p:nvPr/>
        </p:nvSpPr>
        <p:spPr>
          <a:xfrm>
            <a:off x="4500720" y="307188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Freccia in giù 6"/>
          <p:cNvSpPr/>
          <p:nvPr/>
        </p:nvSpPr>
        <p:spPr>
          <a:xfrm>
            <a:off x="4500720" y="400068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Freccia in giù 7"/>
          <p:cNvSpPr/>
          <p:nvPr/>
        </p:nvSpPr>
        <p:spPr>
          <a:xfrm>
            <a:off x="4500720" y="485784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Rettangolo 8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213840" y="1143000"/>
            <a:ext cx="86425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9" name=""/>
          <p:cNvSpPr txBox="1"/>
          <p:nvPr/>
        </p:nvSpPr>
        <p:spPr>
          <a:xfrm>
            <a:off x="357120" y="2071800"/>
            <a:ext cx="846288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orse disponibi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adenz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331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band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graduatoria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luglio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4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sportell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“cassetti”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luglio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1 – azione b) “informazione”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n. 1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sportell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0 luglio 2013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n. 2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band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graduatoria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20 settembre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333333"/>
                </a:solidFill>
                <a:uFillTx/>
                <a:latin typeface="Arial"/>
              </a:rPr>
              <a:t>IMPORTANTE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: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Arial"/>
              </a:rPr>
              <a:t>entro le ore 12:00 della data di scadenza, indipendentemente dalle modalità di inoltr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0" name="CasellaDiTesto 5"/>
          <p:cNvSpPr/>
          <p:nvPr/>
        </p:nvSpPr>
        <p:spPr>
          <a:xfrm>
            <a:off x="166680" y="6510240"/>
            <a:ext cx="34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714240" y="107172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2" name=""/>
          <p:cNvSpPr txBox="1"/>
          <p:nvPr/>
        </p:nvSpPr>
        <p:spPr>
          <a:xfrm>
            <a:off x="142920" y="2287080"/>
            <a:ext cx="8858160" cy="38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presenza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della documentazione prevista dal Bando</a:t>
            </a: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documenti essenziali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altri documenti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firma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del legale rappresentante e coordinatore tecnico </a:t>
            </a:r>
            <a:r>
              <a:rPr b="0" lang="it-IT" sz="1600" spc="-1" strike="noStrike">
                <a:solidFill>
                  <a:srgbClr val="333333"/>
                </a:solidFill>
                <a:latin typeface="Arial"/>
              </a:rPr>
              <a:t>(ove previst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compilazione e </a:t>
            </a: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rilascio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sul portale SIAN.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333333"/>
                </a:solidFill>
                <a:latin typeface="Arial"/>
              </a:rPr>
              <a:t>NON RICEVIBILITA’ DELLA DOMANDA DI AIUT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3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Freccia in giù 4"/>
          <p:cNvSpPr/>
          <p:nvPr/>
        </p:nvSpPr>
        <p:spPr>
          <a:xfrm>
            <a:off x="4143240" y="5072040"/>
            <a:ext cx="642960" cy="5716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590400" y="107136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6" name=""/>
          <p:cNvSpPr txBox="1"/>
          <p:nvPr/>
        </p:nvSpPr>
        <p:spPr>
          <a:xfrm>
            <a:off x="142920" y="2071800"/>
            <a:ext cx="885816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cumenti essenziali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manda di aiu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modello SIAN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pia della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arta d’identità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 corso di validità del rappresentante legale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tecnic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nche su supporto informatic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finanziari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nche su supporto informatic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tri documenti (in base al Bando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chiarazione sostitutiva di atto di notorietà, relativa al regime IVA e altri finanziamenti con fondi pubblic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chiarazione sostitutiva di atto di notorietà, relativa al “de minimis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urricul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7" name="Rettangolo 4"/>
          <p:cNvSpPr/>
          <p:nvPr/>
        </p:nvSpPr>
        <p:spPr>
          <a:xfrm>
            <a:off x="1940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2T12:33:51Z</dcterms:modified>
  <cp:revision>100</cp:revision>
  <dc:subject/>
  <dc:title>Presentazione standard di PowerPoint</dc:title>
</cp:coreProperties>
</file>