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F9C6-FDBD-409A-B0EC-28184F5B7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CA98-CFDA-4AF6-A158-AB0C1AB81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95642F-4915-4650-9947-72DF92A33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DF395A-479B-4B7C-BEB4-A109ECA1E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C8E39F-BD5F-48EE-B1A8-6D6502C33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32E672-4DE2-46BA-AB1A-DF268EAC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73BCCF-25D7-4B23-8375-200C2F8CE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EAE942-0D9D-413A-A321-079DC5B7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E85AE4-5854-458F-88A7-FB58F05F0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2C2EEA-4A12-40FB-8580-CA04DB9BC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EF1DFA-5CBF-4CC7-AC18-9D1319FEA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56C2EA-9F87-4B5D-885D-66CE95B58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C870-58AA-4493-B724-D04D56B14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A64B1C-3230-4D20-91AC-041135913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B75940-B532-406B-BCE5-DFDE552C0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F00B13-3AF1-4975-93B6-B17D136EC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BF4B71-2264-4DB7-B1DF-3DAB27210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103D9B-6AAB-4556-8724-19462C86E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6DFD1A-CCEA-4818-9726-B17EC7435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A8B259-948E-409D-9049-CB409D8F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649548-4632-4051-82EB-DAD341F85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1711ED-7914-4389-8DC4-3DBE0861E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633F20-4041-4271-A1B0-4C6A0792F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FCC6-C871-498F-931A-279D08C88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AF869B-6266-494E-918E-5E93E17E6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600EFD-9D27-478D-9022-EB8BF8CE4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3F5E86-0561-4EBB-B21F-051679E7D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35CCE1-664C-46C3-B6CA-D39F5C611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31E0D3-DA9E-4DB2-B965-6E6277C36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D7E135-12EB-452D-A7F6-6BB59F630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AD6111-416C-4AE3-988A-F273B2F0D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E26BFA-CC4D-48AC-9F1D-CDE97DBB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FA7790-88C1-4308-B95D-3E904D203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AF7B9B-5AF0-4172-9FBB-4923ED292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38FE9-F1E7-4150-80F8-C9C702475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13D4E2-6FEF-43F5-AB16-6BB5E9779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566DAB-EC19-48C6-B8FE-A35BC281F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D36B10-E861-416B-A2D0-9677C1B4E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82A9B5-711E-4E75-8351-992E02396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02770B-3509-47A7-B2F8-B54080C5A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0F4ED0-4632-4870-BFA7-8920B6AAC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48A08B-2BDC-49B1-B9A2-B506CDF76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1875E2-1155-4C2B-B22C-D2140B19D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8BC009-8B65-49E5-BA5B-584829E2A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950206-A729-4117-A66A-9F7AEDD2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3ACB5-FC20-4F79-849A-5080D930E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C0868F-CABD-49BA-B1D3-C4EED1337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0E17F1-93B7-4E5D-9E94-3024E450E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4DE04C-342A-46AE-8CED-CFE311B1A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3CF3E3-21DF-4139-ABF5-F3467263E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2FD4C4-8E0B-4890-9CA4-78093DB8D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BFE54C-45E6-4065-88CC-BCD22E8C6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6A84FA-AABF-4D3D-9A5B-AA2581496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BCC178-47A2-46AA-83A9-B23F0F213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431738-A4C6-40C9-8D07-96DBBF904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902ADF-4916-44D5-BD72-699194007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243CC-3466-4ECC-AF22-916DC0DAF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1E5B9B-BA7C-42EB-AF2F-6F4149C62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FD2861-E394-413A-8161-C57BAEF6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1408B8-A0E6-4CFE-9B27-9C75B859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B10CD9-8E36-4415-9789-1B0EA974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E3512E-32D7-41A1-A93F-D7610A84D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2042B6-6B75-429A-B675-2F3FFA79C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1DE9CF-8099-46E6-A1A8-F62AD9938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4F5B37-B7F7-489F-955D-B1410E0AC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74E089-E1B9-4C2E-9653-E07AFF1CE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89964B-0406-4E28-A172-628951DF1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8AC1A-4617-4D47-9C76-F689B71D2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103551-D392-471F-821A-F8D2B9354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BFE665-B573-499D-A9E0-0D0B624E6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7F3B63-5973-4977-B630-0B0D9EB95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122BF0-DAB6-4A92-BEBF-7D7F4F33A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8924C5-1612-473C-801D-3935AFFB3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F563EF-C062-4CD3-9A1B-747A38AB4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3F9739-E3C0-47FD-96C4-34B52C5F1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3C7676-6BD0-4D2B-99C4-1C4DAA825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254ED5-0992-4F21-A6C9-D3676A43F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6BFC6D-1454-468D-88F8-ED9A20EE0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32D5E-BC9C-4E13-8F62-1495FC1DE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891936-9F8D-4C66-AE91-405186949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E4E1E0-C32E-4C11-9FA5-BEB4F580B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0569BE-AC37-48C9-B04B-B6AB09DD7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65598C-2C08-4474-854B-FAD3E97A2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55899D-C962-4D66-95B4-890A1C458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D2173D-A6EB-40C6-83EA-A9B71C6E4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2D8B5A-E864-4FA2-B8D3-4CD7E5FB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E0A7C1-C6F9-445B-B814-2E54E377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BEA693-A801-445F-906D-337126C8F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1BC199-D2C0-47BF-A71F-629585AC5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466A3-6B12-494F-AFBF-C89EB2005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2B0767-7343-4C82-B46A-BC6761CBE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794D0D-D868-475D-9E83-570D0A06D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95446C-7EB6-4344-ABB1-EC4224B10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2F13C1-9480-4EBB-8396-DA2DD3DCF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C7C7D5-084E-4DF3-BAAD-FEBCC078E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7DC979-AFFC-4616-BC2B-ADE82CD02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A98094-A63D-49F2-B4C7-4C5C84F85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9CEA7C-8C9D-4E8A-8125-DE3ED9BB2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0DCEDE-5D3F-4E53-80D0-F663177B5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19C2C4-73D6-4DE3-BF5E-DBF78C22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239A1-E358-4FBE-8906-F85110648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F332A0-5C3C-4E1F-8FD2-3796FD882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560715-4627-46B3-BDAE-763572782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BA1018-1273-4BCC-91E1-C16DC5058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650475-6E31-4418-A7E5-D80E8CC43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E97BC8-90CE-4BE7-8223-8FF062BFE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75AF32-F240-40E5-B904-818995418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11DA34-4900-4C82-8C2E-417764624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2D4798-1C32-4830-BB93-6E6550A6A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CD0235-45B5-4F33-AFC0-26326DA3F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143690-DC95-4A6E-AE99-26A23C7D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BBE0-0497-4FEF-8208-45E9D784E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1EEF6-4F29-4B12-9E1E-00086097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3D0CAE-83E1-4F1C-8EE1-FF87BA187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148306-BB4B-441A-93F9-D0349A58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3F35F4-0216-4984-9F54-ADC5502DB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74368A-645C-42E2-AF3C-33E7EA4FD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F43755-9142-41E8-A710-5B8908C7A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013CD4-656A-417A-A4AF-82F221CA6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3F118F-973B-4861-9ACD-E51657651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3EF8DE-1026-47AD-BC1D-57A6989E4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63C356-CCC6-4911-B37A-E9088BB6A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7CED72-D602-4968-A685-F140F6A28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8846B-73DE-4171-8C47-361751DAC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227C94-4EDA-4B4B-9800-19043109C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22FFD9-E8E8-4424-B604-C5ECC0703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DA0F81-2C70-44D5-BB4C-237FB219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ACACA1-F05A-48C5-8E5A-4E8567B26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90B523-7C28-4CF8-9CDE-61B69D270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FE9FE5-48A4-4F0B-BE95-29969535B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780FB6-4D05-4300-9553-2307F5CF2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6D6CF3-1729-4FF1-A604-AF3D8615E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18337D-2EB9-4B67-8667-7A97A49AE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D04860-B43D-472C-BCAD-D7AF3C3B2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37B7E-488B-497D-8CA0-B301E5B69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B0D062-C10E-4C86-894D-0066F63BB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E84E38-3EC2-4934-B1C4-2729C4DCC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191086-E742-446F-BA40-601DB65EC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C1AE1C-71B5-4279-856D-DDB9CF87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D085EF-F6DF-4755-A6F1-89FFF656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BA165F-2C14-45E3-8A72-5965D5254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C215AA-1EF0-4A57-B356-CF73EECFB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749A6A-50BF-45F7-AB2C-6BE40A63D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48818F-2A14-4C84-AA1C-D9F39B9F8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0EACC0-7DFC-4CED-8FB8-74DE842EB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ADD35-B916-478E-80B6-6D3C3A64C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9FED31-A13F-4B9E-847F-EA0389DCC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6757F8-44B4-49DF-8FBC-2CDE703A3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B82163-4E7E-4A69-B25F-D6CBB2391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1BD76F-B1FC-416E-825A-C3A8E7E01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1F4A92-D1F3-4EDB-92F5-6FEBF9F5A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37B8D2-732D-42D2-8807-49F3419FF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52E854-301B-4994-8B41-66AA51153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2C192D-1ECC-4EDD-9854-55F52FFEB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934F4E-566E-4027-9E61-09D996B1C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647A05-D439-4094-9194-1E87AFE29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B5E3D-8A08-4225-B1D7-22DA4132F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D91C68-1C69-4C61-AD86-3AB90AF66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1EB89B-8E09-402B-A448-D2BAC72C1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E24140-1D39-49B7-BEAB-1C75C3421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4169EA-A3E5-4DED-B528-0CF7FDD51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254CA5-65FA-4B31-81FD-A8AA50270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A8C743-964A-49D0-BE2F-6EE019307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47B6F36-8A9A-479A-BED0-EA0B30748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5496CD-ED8E-4323-B150-1C040391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464817A-AD20-4C05-8882-C679A3183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FD3ACA-B4B2-4337-81F2-D429A3DC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BB293-B027-4CC1-9E25-28306C025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CDD324-45EB-431D-BABD-F4923305F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399FB0D-FF9B-4D05-9AD7-C51B88271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616456-608D-4E0D-8E89-A43816734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C100761-02F9-4A1A-9AEB-D09E5772F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EE8E46B-D05C-48EE-A908-C7F86021F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8CDB639-DC21-4BEB-AC27-6886CB067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4AAAA9A-B14E-4D57-AC56-0E10D52B8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DA48846-6996-44F0-8CFA-18DD810F4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A0496B5-C7C4-47C4-97AE-194819AB1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2E97824-BC43-40E2-98CD-BB3E94F42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77B25-F97B-45A5-8F5B-634C9E53D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9B06E28-BD08-4CBB-AD78-4261DBD8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FC0F3B0-D6B3-4E38-A7B4-14270C86E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77FE148-2EE3-45F0-B9A6-684D24CC0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C6435E0-F1D5-46A4-843B-DA4FF2F50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16CDF98-AB23-40D6-82B6-FC9565A3D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BB975E9-E225-4958-907B-417819957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4667945-290D-489A-9DB4-E4E7DA0F7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F84F1A4-B8B9-4B4E-BB9C-73485A9A8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BB3F118-1B90-4132-B799-E0C2E3E73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25F94E9-0488-42A8-99A7-C83C071D4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AF62E-F14F-4E88-9724-B51AC6C28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454427E-C548-4CA7-9256-3AC56D0E0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2BCF20C-023E-449D-8733-91E66879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4333869-426E-47F4-B4AA-87F7D1546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FB45B48-EF48-4456-A550-490441783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CA5970D-4A6B-4A61-A1B1-EDC9C83D0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5CDF159-57ED-42B0-855C-D10BC4B4E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91AB731-958A-4799-B82C-C44F88E53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49F7D3F-F355-4CF6-84A7-50ADC82E7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964245C-2C9D-4EBC-A8B9-27C44DEA3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34FE182-3BA1-4CDA-8856-DA4B1EE37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B39D3-63AD-4339-B02B-8C3349028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D810306-DEEF-4B08-AD3E-E75241F44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00FF9B6-1969-47F9-9377-29FB06F9C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99E1F14-369F-4D6C-B46C-F0F17291A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4487347-F688-417E-9CFD-20C509396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934A4CD-6FF6-4587-BFAE-EBBB8723C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73338A6-E25E-4EBB-A8F5-A68AAFD38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0AA20B6-B959-47AD-B827-5571919FE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B9A258C-8A07-49EF-B2A6-FCCB0D82C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773DD3F-4FC7-4A4B-84C8-8DB551C02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CB206-83CA-4CDD-A286-4E381ABB2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811C-5085-47F6-ADA7-6D1CB0640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B40D9-0E59-4BC8-AC1D-3D451EBCB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70D99-E91D-4C5C-92DA-5EDA5ADC3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C7863-F4C1-47FF-ABFF-C8F5C6C23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EE812-E471-4C14-B162-DC97F730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37DB7-7DA2-4114-8124-C47B0BA01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6E8EF-704F-4383-AB00-8EFACE4D5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2C191-E2CC-451C-A987-8C698CF43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3FA91-9AA3-4BA4-B7FA-91F46C9C2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83842-CF09-4661-91A5-F057BAED1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30E82-B049-4233-9A18-37F851D3F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C01D-E1EB-4409-A826-AAF82C190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B13FA-B0A4-4926-AFED-79AA50AA0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F9556-9F2A-4E8A-9277-545992DB3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C9289-B893-4928-8076-798082E07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C7AEE-470F-43BF-AC83-6479A6AE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AD7E7-1898-4834-BB89-A8098A549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0D0A5-844A-4497-B49F-71F9168A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64498-A3D0-4B08-9147-16FC0B55D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D2452-88C4-4222-84E6-ED3ECEAC2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E5815-B28B-44A4-8EC0-50AD9ED92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87F359-80E9-4390-806B-55467DE22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421D-060F-426A-87A9-F60CF42CE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643B5-D0A8-43A6-9553-BE310ABA5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B0E52-33D9-4FA9-98D0-017D64060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DB8AB-4A27-49BD-B233-CB33F59D7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91BC6F-6A1B-4E9E-A80E-216B38BAE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CF4A16-0F31-4E59-9F45-90D999BC9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582FC5-CBE6-4D58-B8EA-8DDE1985B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5AE521-6ACE-4D73-A4DD-951DF2E9B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F617C-456B-4463-B61A-FB131843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340A2-2722-494A-BCC3-5356575EE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8384A-F576-41A4-84DF-8E78E28E6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9EF2-47BB-43D6-8685-B943E2AE5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6B2CA-14A1-4D76-9260-92E274D29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7DEA29-5823-43DC-858B-3259A2320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D5FF43-EB78-4F75-B747-7E8A0753D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D29883-FFDA-4E26-949D-774DAD4BE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D40CB7-9ECA-490D-B052-9FE0BC21F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C70FD9-6DA9-4948-86F6-DBF319B45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C7BDC1-7A0F-42B6-A2B6-45805B847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4F72F0-01C8-48EB-B2AA-502B13E6D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3989DF-CCA4-496D-91BD-07F4F0EC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1A7922-127C-4805-93A7-4D689A07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9785-E787-40E7-9C15-21BF565F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65628E-17C7-4418-95D2-1C38B78A0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0FC336-26B9-454B-8601-416C21983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727C5F-1CDC-47C0-94F0-61C6B42CE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9ADD8E-9601-4420-AA99-F4E9483BF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80EEE3-02F4-4317-BB4C-657968EA2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C87B08-E98B-420F-B595-EDBAAA9DD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2A24D3-80C7-46CA-A153-371913D56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00E1BB-F98B-4EDD-A4CB-8B5F2D1BE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24E31D-EC38-440D-B55F-1D0A98D53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C18103-AD42-490B-B5AE-CDEFB6B9A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144A-A7D4-41DD-82FC-71DBD50AD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0C5F47-D57D-4503-BD3E-FB4EDA387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4AC8DF-D28F-4ADB-8840-118A510F1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5AF1CC-D572-4FE0-8BC1-8EA6FDE8C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786DF1-252F-468A-A3EF-02B17E975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C311B4-0A2E-4F1F-8AB0-AED686085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E7C4BE-9B90-485D-AD33-7A84FAB53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A9F0D9-DF5D-4C68-831B-DD82273F6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48641C-2995-44D5-9A6D-667FCF171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A051E8-94FB-422C-9021-391344827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7C08F4-F431-43E3-AB87-09ABD7667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7567-F989-4E88-B073-9D3328D3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44C874-84EC-4AEC-B417-2C640C464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030E73-F18A-4430-86C5-CF940A2D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982C4D-70F6-4795-8BEA-4ADB52AD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4482F7-7981-4F1F-BD01-AED96875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98F174-FB2D-45D2-B10F-04B10F0A5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B0765B-B1FA-45BE-A6E6-C72B4BE96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9701BA-6391-4196-B54C-6A1AEE15F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472F09-071C-4AA8-AE3A-1EB386C8C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6C110A-BEB3-41CB-B369-721E80E9B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67A092-AA47-4B84-BEFE-72F63BC3C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80762-9A91-4A40-9A62-90E6DCC750E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1356B-A77C-44F1-B9BC-3CD135A2FEB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6FD45-6258-4FB6-B124-9A533CA98AE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EC760-349C-4CBD-A305-86D52D12B3F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84B51-4BDF-4161-AC81-14BE19B2F63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F698E-5353-4A31-ACD2-A145FC1E4FC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112C3-4F01-4B82-9B52-26298D22C4B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8E072-8CEB-4A5C-AD7E-3C810A2FAD4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57F9D-B4EC-44FC-A6C3-311B703966C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51401-D199-43AB-8466-C735B3060DE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CF725-E873-4E7A-9690-7C92A6F66C7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76185-0407-4F73-9003-68DBB1DC261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F8ED8-0A48-48E6-A68E-9EA4148C907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BB38F-3EAF-476F-95FC-D2251D78DCB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3C8ED-BEC4-4A74-BF01-0FCB613D64A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3AB92-0B3E-4CFD-81D8-C5C9A1EB91B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7258B-7729-49F6-978D-5B7AE1E04DF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B6CFB-DDC2-477A-9AD3-2DC2650A221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6C316-A8AD-4421-B8BA-81DAC301FD0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E8CA5-D5C1-4F20-A0A3-BC847E6B8E3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D95F2-62A5-497F-97E7-6BFB3565A21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6A355-5424-4E12-A25D-497CDFE8A98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42D0F-3F47-4F73-B615-DD18971D7AD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6F219-5F5E-4B29-BE04-4F1A60DF6F3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111</a:t>
            </a:r>
            <a:br>
              <a:rPr sz="2800"/>
            </a:b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azione b) “informazione”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GETTI DI INFORMAZIONE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che devono prevedere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rganizzazione di incontri informativi (</a:t>
            </a: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bligatorio)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tendono una serie di riunioni collegiali, di durata non superiore a 2 ore, aperte a gruppi omogenei di partecipanti, in numero non superiore a 10, rappresentativi di specifici settori produttiv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rganizzazione di seminari e convegni divulgativi (</a:t>
            </a: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bligatorio)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iziative informative di approfondimento per un minimo di 11 destinatari e una durata di almeno 3 h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’ ammessa l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zione e/o la distribuzione di apposito materiale informativo (facoltativo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Azioni finanziabi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IMO BANDO  (aperto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ggiornamento sulle politiche comunitarie agricole, forestali e ambienta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alvaguardia e tutela del territorio e dell'ambien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troduzione e trasferimento di innovazioni produzioni con particolare riferimento biologiche e ecocompatibili e gestione risorse (risparmio idrico ed energetico e uso di fonti alternative, protezione suolo, etc.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sportell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 solo progetto per prestatore di servizi (indipendentemente dalla tematica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fine progetto: 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ottobre 2013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3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Freccia in giù 4"/>
          <p:cNvSpPr/>
          <p:nvPr/>
        </p:nvSpPr>
        <p:spPr>
          <a:xfrm>
            <a:off x="3929040" y="3286080"/>
            <a:ext cx="64296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CONDO BAND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resentazione delle domande dal giorno successivo la pubblicazione sul BURL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rme obbligatorie in materia di condizionalità (euro 1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rme obbligatorie in materia di sicurezza del lavoro (euro 1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alvaguardia e tutela del territorio e dell'ambiente (euro 4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stemi di qualità e di rintracciabilità (euro 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progetto per tematica (per Prestatore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– graduatorie distin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l progetto deve svolgersi in un arco temporale non superiore 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 mesi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entro il</a:t>
            </a:r>
            <a:r>
              <a:rPr b="0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31/12/2014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7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Freccia in giù 4"/>
          <p:cNvSpPr/>
          <p:nvPr/>
        </p:nvSpPr>
        <p:spPr>
          <a:xfrm>
            <a:off x="4000680" y="3786120"/>
            <a:ext cx="642600" cy="42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Caratteristiche progettua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357120" y="1571400"/>
            <a:ext cx="84628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il “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gli firm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per ciascuna azione informativa) ovvero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nco dei destinatari nel caso di invio informatico delle newsletter e dei bollettini (previsto nel 2° band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are le norme di antinfortunistica e prevenzione degli incendi nelle sedi di svolgimento delle attività previste (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o di stipula di assicurazione contro infortu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o del progetto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uro 4.000 per singola provinci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uro 15.000 per progetto regional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re al Settore Ispettorato Agrario regionale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ingola iniziativa informativa (preavviso di 7 gior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variant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er il 1° Band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disporre un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port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riassuntivo contenente i fabbisogni e i risultati attesi (settoriali, territoriali, filiera, etc.) dalla nuova programmazione di sviluppo rurale 2014 – 2020. (da inviare al Settore Politiche Agricole entro il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ottobre 2013)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Rettangolo 3"/>
          <p:cNvSpPr/>
          <p:nvPr/>
        </p:nvSpPr>
        <p:spPr>
          <a:xfrm>
            <a:off x="27684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2T13:44:54Z</dcterms:modified>
  <cp:revision>146</cp:revision>
  <dc:subject/>
  <dc:title>Presentazione standard di PowerPoint</dc:title>
</cp:coreProperties>
</file>