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25D0-BFCE-4253-B757-89EECBB45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4503-708C-4C67-918B-BE214EC1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7AEF14-477C-4942-88B6-6AAC36D55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220BC-062A-4CEB-B85F-0D0D0C67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94A8E2-8E6B-4779-830B-8ED55BAF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9A6AF7-CBDA-41B6-8627-E4B60E7D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F1A14D-0615-467F-A8F5-4CEF638F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D89AC5-F487-4925-8B57-DF953F34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FFA61A-87C9-4F7D-BF6E-7C16F4F7D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8B6FA-DEF3-4A6C-BC50-D5B0C8858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9ED80-034A-473D-B8C0-84D2BC2FD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5F10D-BF51-43C3-881A-280E35158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AD57-E8BF-45DB-BA3F-618884E66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0328085-9B59-4D97-A463-ADBF0FDB3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B59CD2-BF2D-4E01-B0F4-8737310A2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01C0F7-6C24-4FAD-B8B6-3E6806979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2407B5-30D1-4486-A4A3-0080A94CB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68B847-E019-467D-82F2-08D0CCFD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A708B1-70BD-4433-8047-D38D0457E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81EE7F-A6B7-4D0E-B409-9E96CDDB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E0A41C-520A-479D-9E75-48F766B86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C51E07-7331-4508-BDA9-5FBB85C9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A72D5B-26C4-4F2A-A4B1-2F6910969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0C59-109C-401B-A730-AE042D49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646589-620B-426F-AF5A-5D7434DE0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77698C-894F-433D-86DD-EE038B16B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45D54-205E-4D1C-8C99-ED0FB8B8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FC3B0A-FA34-411D-BF62-501A760C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3C1C3-D9D5-4AA7-8260-82FEA0CC1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E1ADD8-C86C-4741-B934-9033C064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CE6F51-B6B0-4A34-AC26-56B5333F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1E804D-EE5C-48BE-9ABF-78E21BE8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C5FAE-70D8-4E0D-AD26-BB873A449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37A94-57FD-4C41-9D0A-52BD03ED3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FA36-9453-4D1C-91BD-489CBF0EA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AE2136-80E2-44AB-B234-B978059E2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CF002-933D-4BB7-A2D8-4640466AF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D932-4BF2-4A5C-B2D7-88CC4C61E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22F466-F42A-4A46-B530-3B1F359FF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D0CCA4-71EA-4632-899E-B7F9DFEFD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2203DD-4B93-4399-807D-6EC92567B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20A4CF-A838-442F-996F-AA61CD45E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529482-8D23-49DF-8944-40C2174BD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3A177E-C1E7-4368-9D75-35E14786C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C7A949-65A0-4DB0-94A1-916DB5D94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0817B-7C3D-483C-94E3-40C78AAF6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D381AF-E185-4E36-9C52-D8BA41733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17313E-C221-457E-B44F-DA4730378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DC877E-5176-4198-A313-4A82864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06EA0C-9E19-4F49-8749-512AAB42B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BB6F6D-75C7-45A4-B645-903A21EDB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C299F0-B465-4185-8914-81DB8A715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BADA41-A8B3-441F-94D2-C76FDD05A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CC5213-C99A-4145-AEA5-51946BE3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AE7AC2-CB6C-46A1-BA53-FFD3EC464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FA56B9-5A0A-43F7-B9AD-239B77116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8E86C-ABD8-47F1-84D2-A58B5A015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E5D51-9E96-4E42-84D2-A89CECDB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E8132D-9D1B-452D-BE08-1FAD42DB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7ED583-AEDB-4617-A7BB-61C584C4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AFF67A-8BD6-4490-B551-4C643511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88F134-E31B-4719-AA62-9D9719915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E1740-A9AD-47C3-B661-4A4267110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2A1464-FF42-4E94-A1A8-71204B68D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453BE-3C91-46F0-976A-77738AB0A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696B1D-2FC6-4036-AE64-6012AED6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11B00B-6505-449A-972C-94B85B175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EED9-1CEB-428D-8C86-6329E90D2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30BF1F-6CB5-4C29-99F4-DF45F7AC7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2F8B05-6F11-43CA-AB6B-761C30D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DA333-45F6-4678-B28A-AC08CF518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E0B6A-E8A4-4D66-92CB-AE3DF30E0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83A15D-BF74-453A-AC1D-059F921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CDB887-AF0F-49CF-9594-60F31CB0F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480EA8-D48B-43B3-B285-758122BD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1991C4D-05CB-434B-95DC-0110723D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63C9E6-B339-4719-948E-01DC72D2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FB04B4-6766-4A3F-A9DA-3B0FEB22F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C5584-2D95-4273-B13D-D5D67076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8CA462-DA97-4B07-A420-F03BBD05B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8AB4FD-45E4-4CAA-8234-03987EDD0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A5DAF3-0195-421E-A283-9804D0895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E7217-5E5A-4A9C-BA77-279D6CF3F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A2A83C-95A3-49E9-B6B1-F77CA631A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BE41A9-3143-4D26-A907-978A202ED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7BC310-4274-4450-9DB1-BA2112522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F431018-5EFB-481F-9AE8-49C21305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20690D-D0FE-4291-AF2C-0A854FB5C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70AA1-F853-42B5-9898-041B949D7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78893-5893-43FF-A615-D85BF73D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F29A2D-874D-4360-A840-91AF36090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F3C59EA-2B6C-45D8-B148-B9056A13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606A6-2768-4C85-AFF2-704DC60DA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E82E74-37E5-421B-9F81-45E5DCCF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FB7A8A-5A50-41A1-AC7C-4EE940E13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F9E67F-7989-4930-AB87-A9C0FCA02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A66B6E-FA72-4E63-92C2-33A6F58CA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6F0EA-6CDC-4772-8300-B9DBF5DC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E26D7C-3E40-4C12-A98C-6EEBCB55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A7EE92-0C24-4999-B071-733FAF9A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0B25-9893-40C9-B75F-43E2FC81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51ED01-87B2-4D16-946A-F810C2B9C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194A8D-9DC8-4E49-8477-8E7DD8C03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D0F245-61DA-4642-B87F-887F038FC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DF38E5-1BA8-4084-A7A8-AF3D2C4F2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5F299-2172-43FF-8776-F85AC3482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2A3535-162F-4D50-A4CB-0B6E47AC1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D1945-7789-4B65-B76D-0342072F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53CCCE0-9498-4CCF-A68C-25A71740F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A05836-813F-47D7-A589-C88F01D3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53EE70-D756-4B97-9F62-0F94974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2722B-3997-4495-8499-1843C2641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058C6-81B7-4988-B94A-7A65E36F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6A7DDA-FFBA-4C69-A96C-5DFD32BE9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2EE48C-347A-478E-921D-3FB8298F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80CDA1D-1E50-4965-BCD3-CCB96D46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28AB4E-C420-4664-8783-B31517F2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FD7B1A-DBAA-4060-B0EA-F1D11B65D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345D7A-349E-4BD3-846A-F39B17A12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BFE10A-141B-4BFC-9108-A3DFFF2B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88E5A4-3395-4124-9895-DC99483A7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821272-3568-450A-BFC1-5E2CCE7A0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5BC122-6E35-435C-9E8D-CA5244CC6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6EDC-0B81-4463-91F8-019EE0BF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C7F778-C29C-43F3-902B-5B201D2F2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450912-44E6-40A4-8B49-3853B5E2F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30553CB-D8C6-40EF-A8B2-482AE618C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706D9B-DD19-42E0-9CE1-A9C14E5D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01A90C-DA5F-4C68-80B5-3EE370048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B64720-05EE-42A6-9C58-11AAD9B4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BCB203C-A6C7-4485-9058-91E9D6160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42D127-F84C-4EBC-8DD2-FD26350EA1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5E7F3-917E-4F53-8EC6-A90822A1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08AA62-DE26-474F-800F-2AE1F870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90B0C-D6B2-418D-BA7A-C5A37B268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A1F898-36C7-4C27-AD0B-1DD710E25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6661D2-429F-473E-B1DF-6B849564F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CA247C-16B5-457F-9B53-A7CA3FAC3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1CF20E-ACC5-468E-BBD0-66126B2B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3E6FDA-89CC-4270-B0A5-34179952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65EBEE-2469-492F-A758-2947FC057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4DD209-E743-4B49-A301-4A5486BA9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B602DB-7500-418F-B25E-84CE23EE8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EA6C55-9526-4430-926F-F9BE71CB0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D00C8A-B370-4FEF-8498-9A61F9660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1907E-964F-4211-907C-9DADF201BC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58629CB-53B8-4EA7-BAEC-23718D58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9812457-EBBD-4243-8A7C-5B075AB2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7898BC-648E-4131-BAB0-689064BE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02F8D9-E8E5-464F-85B4-A1BC729A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C2D5FF0-580B-4FFB-9D26-CCF86CE0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0BA3B2-7458-4E9B-95D0-59DF09414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3CB2C9-AD5F-4256-BD9B-90BF2E24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BBE83A-EE8D-4FEE-A7FF-29679996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4E78EE-64B9-4F43-8B9D-D3C6ABBB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46E136-9F0D-4B2E-945F-57FB653AE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7C69D-F2A6-4F98-9372-91D60A6BD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1A9CCB7-284A-4502-A9DD-C9E891A21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DC6DC4-F0C4-447A-86F6-58076CE0E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A16430-B838-45A8-B66B-D0BFD5A6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B03C4-7105-4ABA-80D1-58502BDB4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679B18-CD9F-49B6-A1DF-240B0E168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F1D4DD-A136-4870-9285-38FAFDC4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8C4BE-71E5-4A69-AB59-EDD815F58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C06C408-DA72-422A-8542-7DAEEA93E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5BDEFD7-3150-4A56-A2E2-2A6EE9A2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0360A0-850C-42B3-8C79-962005191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E859EA-D918-4436-8B75-6C02D60FB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D43B3B-383C-4211-AD62-8FE84BE83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9544898-16EE-4DF0-A246-56F95F78F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9BAE01-D0C9-4382-8F91-E75301171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9F36C-3911-4D33-8521-C44EB8FD4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395E49C-61AD-4E06-8916-EDACB137A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0A3383-6017-4E27-AD35-F22FD0866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FDEEE0-E2FB-4DE7-A003-F46528083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557537B-8A3E-4E71-8B06-4DE320C8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453AB-DF41-4361-8DD1-3EF41E713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8A56E8-D9F9-441D-A893-03110D62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DEC98-F5A7-4BEB-A322-CFA7FC56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AAFB84F-E65B-4476-AFE1-5E039570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72AC69-706A-489B-8A24-B8A5B0AC3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D4333D-8842-493A-98FD-2ECEBB141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38DF0A-BD2E-41D6-A1B0-2420B748D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8EE01E6-ED2C-4339-82B6-30699D8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C1F0D9-9392-4823-A29F-5FF7103C7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F769786-CE59-4F2A-A6C1-A29CB44C3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463138-612D-4380-8F02-AAE55AD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6DFDF7-F009-48FD-974E-3462DCB8D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477B2-C803-45F8-B700-7830025C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F261D-D8B8-4B59-A9AF-98E9A2F62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28AEBF-DF62-4C97-9EF4-23661613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A27344-5DDE-49EA-AE87-70451050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C8615DB-27E0-4782-907B-9A445165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7EB1B-1EDF-4AC0-BCED-B285110B2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2746501-0B3E-4544-A58C-9D793F864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302623-866D-4C28-9F1E-638EC9D00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A9E4B13-41C1-4067-AC8A-7D691E0D4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27DD83-5266-48D2-A05C-7772E5F36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D453EE-0790-4D6F-B101-9EA7A62EA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C37E672-58B4-48EC-A3D5-ABC61DE3E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0C435-0F4B-4074-9DC5-2A1A2651E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60BDA8-1611-4B85-BA79-AED88DF89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3BA9AC6-B14B-49BA-B7A2-40C0D345A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30083E-39D4-4339-B7C8-0214F33CA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FF7D5E4-E6C4-4F7B-8BDE-D423F04EB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CCFE913-0EF5-48A1-8F5C-003118B1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C9AFCEC-A8C7-4716-AB45-8EE518CA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6D846D-0E6F-4BD8-83F7-8351ED37B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81FC5E-4971-47CB-B61B-C17941292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1152571-15FD-44C4-8176-29D4FE539D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7B976-3128-484D-93FF-6925264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A807-063C-47FF-A22E-6D744BA41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C6C9D4-DB43-4520-8B20-5F5162AE2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6EEEF8-71E3-48F5-8C7A-71490E215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57855-C004-4451-A79F-48670B75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1E523-728C-4623-93BC-02E3EC1E4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6D449-28A8-4D47-8F1F-938ACBBD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41F5E4-C72E-4691-B7E5-19B891F43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0640B6-F940-4151-8F3D-281990A33C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273E7-BBAB-4C31-BE4F-2EC4BA578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64941-AC48-4A79-88FC-1C1A3998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BEB8C-DC60-49CD-9FE8-8B1C0AF31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B2E67-4F26-4F8A-B856-6C89D0BA0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FD564-4922-40D0-B6FE-1D3B110EC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A6C22-38F6-4797-86C6-F73C2D7F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4F349-5806-4EB4-B625-E8857126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3E500-2567-4514-A259-89E67E9C1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F6CC3-4EF8-4F4A-8EC8-3E6F8B00E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853186-A0C2-428B-AF87-635A113C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08CFD-22F6-4D89-ACDA-0A02B747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9DECD5-F844-43D7-8EE4-6E070950C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F2D2FB-B3B3-4E1A-8F0E-9A09DBA39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20FF8-3E42-4DA6-AFC4-BB8D1112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C632-F4CA-496B-BC70-5D16656F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86DA3-4D80-48EF-A594-CF5ADCE9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F4166B-F8BA-41DD-96C1-3A5902E54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993B77-41C8-4C2E-AC71-7E915FA9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170C99-89C3-45AD-AAD5-584CCFF4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E40590-2EB6-4DC7-9C52-DAC35DC55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D1E800-3DB0-4C1D-AD3E-636D3C04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45DAA1-4A16-4F46-9A73-EDD5CCB6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0571E-9E3F-4F6B-B210-B61872E3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F8599D-95A6-4FDA-9A87-FC8F00090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3458A-CF61-4B3E-A155-4E9D313A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D43-9A5F-4548-B7B6-803B3EE0E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56D420-7C08-46D1-86E9-5F530D961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32E6FB-E63F-4A4B-8488-7E1885D06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CCA35C-E7C3-41AA-B246-CB758BD72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7D7162-31DA-428A-812D-03D949C0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BD570-1CE9-43D5-9E25-4783AB87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01B8-616E-4A5D-BEBB-8EE4E6E1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04840-D699-46EC-A9DD-6DF777B31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798D06-132D-4F8F-AE2A-A7E13EFD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10A1F-F9E4-46D1-ACBB-211360A45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E411E-096D-4F83-A5F4-3EF3E4B9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219F5-C4C8-498A-8066-25F02A048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F9E4C-66B6-4328-9B45-96E6E7AF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1F4CE-9B8B-419F-A155-A8856FAB1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C127-29F5-484C-9C2C-2A33005B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9B52FE-CDB8-452D-A261-722EA3C26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942E41-EF99-43C0-B7E2-6C5AAB89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4CD05-E3D3-48DB-8A9F-1EE38CCA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AB12E-9843-4CD6-83CA-16BCF4132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F1284F-2019-4B14-BE7F-ABC762DAA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812039-E7AF-40F8-8D00-CE8291788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0D5C7-0421-4C91-BD3A-95030A35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D2B8-FDFC-4719-8EBE-260CAF74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306039-E83A-40A5-BF9A-B03BFA153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ECD2DB-DA76-44A6-B336-6E30754B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0A3CC-C115-450D-92C0-0FA74BC4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8BE02-2173-436D-B48A-D604F832B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2794B-9519-47F9-9499-A29CE8BBE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8AFFC-C8EC-4628-9779-5FD23DE6C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0B9405-08FB-4D83-A478-50F6730C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17DB5A-22E4-45A8-BF3E-9FCAF158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80F43-2480-4489-971E-61CA06F0F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25DAE-749D-4180-ACD6-57EA0B8A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F5A6-AACF-451B-94A5-BA89CC7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4569F0-0ADD-42F3-BCC5-F6F7451C6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97FB0-0A4C-4CA2-B057-49E4E8025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2091B0-26F6-4775-A664-508A5C6D0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9C7F6-8AA8-4199-827E-F1734B990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4BB072-2C80-47FF-A7BC-B331B97B4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BFBCD7-2B2D-4EE4-A574-4B0D773DD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9D1C6-E29F-43C0-9D1F-4321B25CA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5028A-BF70-4167-9352-CDACA096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49C5E-54B9-4C51-A2A0-DA2E6FB7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076D29-3E08-45EE-ABA9-5472D111E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42032-FCC7-4EE0-9E43-A464D54183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AB73-F1F4-4FB3-8741-A4F84E22D3A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940A-C94A-4B5D-9F67-9A9B1D49145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44ED-89EA-410C-A797-7081C5F2DA8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55F8-BCC1-40AB-BF38-C887C055152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19751-7290-4276-9825-B49C88A3342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4BB3C-9454-4FB6-B872-E569B2CE89A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7AF47-5708-42FF-8E1D-9ACDDB0B1D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ED21C-49E4-45C2-9D61-B4F7DC0931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42D41-3111-4897-BD0D-5CA16BD4824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BF6-25C9-4778-893E-92B8E9EE26C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D86C7-5C61-460B-B4E5-BDA2F05754A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137C9-1C65-476F-AB43-FCCE3B022B8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54D22-0351-4012-AC4D-D8F62D1AF0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A7FB-89F8-44D0-BAA6-ECE20D4FAE5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6544-8093-4828-AC15-8023707A49E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5A037-BCA4-40A9-B28A-79A6F851999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08A6D-5045-4937-94CC-F53AAD8D65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C211-34E6-408E-B923-598E4895DD8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ABBF-E6B0-4CF7-BB9B-175E8FEB638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9824-46A0-4A0D-9A2B-41716BB5951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5B8F-B4D2-4C76-9CDE-80876C8B8C75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5045-783D-4CA7-943A-783854A57E64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E321-FEC2-43DD-8169-3DDB53EFEA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331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peratore sanitario alimentare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12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35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rso base per fattorie didat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0.000,00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ggiornamento per le aziende agrituristich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euro 82.400,00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Obbligh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ro con 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entare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tra i documenti essenziali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’elenco dei partecipanti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i cors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e far compilare ai  partecipanti alle azioni formative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questionari di valutazio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partecipanti devono frequentare almeno il 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%(75 % corso x OS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delle ore previste dal cors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gli aiuti per la formazione previste dalla misura 331 possono essere concessi nei limiti del regime “de minimis” di cui al regolamento (CE) n. 1998/2006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 suddetti aiuti devono essere riferiti ai destinatari del corso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erifica preventiva del cumulo degli aiuti complessivamente concessi alle imprese partecipanti, previa acquisizione di una dichiarazione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3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65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cors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5" name=""/>
          <p:cNvSpPr txBox="1"/>
          <p:nvPr/>
        </p:nvSpPr>
        <p:spPr>
          <a:xfrm>
            <a:off x="356760" y="1571400"/>
            <a:ext cx="835812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514600" indent="-2514600">
              <a:spcBef>
                <a:spcPts val="4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dividuazione dei partecipanti (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no ammesse 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spese per l’individuazione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i partecipanti,</a:t>
            </a:r>
            <a:r>
              <a:rPr b="1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stenute antecedentemente alla presentazione della domanda di aiut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sentare  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due domande di aiu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corso) per tematic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sto massimo per ciascun corso: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uro 25,00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er partecipante/or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>
              <a:lnSpc>
                <a:spcPct val="15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umero destinatari e ore durata : variabile in base al cors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2514600" indent="-251460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Rettangolo 4"/>
          <p:cNvSpPr/>
          <p:nvPr/>
        </p:nvSpPr>
        <p:spPr>
          <a:xfrm>
            <a:off x="34812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33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CasellaDiTesto 4"/>
          <p:cNvSpPr/>
          <p:nvPr/>
        </p:nvSpPr>
        <p:spPr>
          <a:xfrm>
            <a:off x="4429080" y="1643040"/>
            <a:ext cx="442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514600" indent="-251460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8T07:04:42Z</dcterms:modified>
  <cp:revision>143</cp:revision>
  <dc:subject/>
  <dc:title>Presentazione standard di PowerPoint</dc:title>
</cp:coreProperties>
</file>