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565D-1F1E-43BF-83E7-373C559E6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CCB20-EC31-4AD3-8AF4-4884F586B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02461-C90F-445F-BFA7-E2EDC260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E204-E533-4A22-9B98-0C37A488C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EED3D-B483-470D-B250-3CB60643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CC7C-7305-4D07-B810-E4CFBF5C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17F7-4B2D-409D-99AB-ABA127918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935-DFB0-48B4-A34D-2A71AD8C8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4B0E-4E5F-4A0A-8132-BD74C4E3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9023-4C7B-4603-80DC-E10FBD886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27F2-7F22-4CEC-94B5-030DA85D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8331-BAA6-48A7-9587-3E13D45D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A5A0-0D04-48BB-BCF6-DE87319380A0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BANDO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4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MBITI DELLA CONSULENZ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imprese agrico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A’: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pplicazione dei criteri di gestione obbligatoria (CGO) e sulle buone condizioni agronomiche ed ambientali (BCAA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er operatori forestal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.s. e in aggiunt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2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1857240"/>
            <a:ext cx="8229600" cy="423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ipologia della prestaz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isite aziendali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</a:t>
            </a:r>
            <a:r>
              <a:rPr b="1" i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ATORI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el computo delle ore effettive di consulenza sono ammesse  (max 10 % )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e forme di assistenza (facoltative) quali incontri in gruppi ristretti o tramite sportelli informativi locali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voro d’ufficio per elaborazione e analisi delle informazioni e altre attività funzionali alla consulenza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rientrano nelle ore di consulenza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ltri contatti (via email, telefono 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VISITE AZIENDALI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14200" y="1905120"/>
            <a:ext cx="8786880" cy="35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eliminare visit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eve essere effettuata un’analisi preventiva dell’azienda, che utilizza il servizio di consulenza al fine di evidenziare i problemi e gli aspetti critici (</a:t>
            </a: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verifica di ingresso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;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aziendale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(intermedia),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grado di attuazione del servizio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</a:t>
            </a:r>
            <a:r>
              <a:rPr b="1" lang="it-IT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isita fina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valutare il raggiungimento degli obiettivi prefissati dal servizio di consulenza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  <a:ea typeface="Times New Roman"/>
              </a:rPr>
              <a:t> </a:t>
            </a: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ODULISTIC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5480" y="1904760"/>
            <a:ext cx="871524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schema tipo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cheda tecnica aziend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ck list 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ndizionalità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curezza sul lavoro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quisiti obbligatori in selvicoltura”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lazione final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è ammissibile l’utilizzo di specifici software per la consulenza, previa autorizzazione da parte della Region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052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DURATA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14360"/>
            <a:ext cx="82296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a visita aziendale non deve essere inferiore a 1 ore e superiore a 6 ore (ore effettive di servizio di consulenza)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urata massima: 1 anno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inizio e di fine indicate nella scheda tecnica e riportate nell’atto di concessione;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roga concedibile due mesi (e comunque </a:t>
            </a:r>
            <a:r>
              <a:rPr b="1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n oltre il 31/10/2014</a:t>
            </a:r>
            <a:r>
              <a:rPr b="0" lang="it-IT" sz="20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669900"/>
                </a:solidFill>
                <a:uFillTx/>
                <a:latin typeface="Arial"/>
              </a:rPr>
              <a:t>MODALITA’ DI EROGAZIONE del SERVIZIO DI CONSULENZA (4)</a:t>
            </a:r>
            <a:endParaRPr b="1" lang="en-US" sz="20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904760"/>
            <a:ext cx="8439120" cy="418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ottoscrivere il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otocollo d’intes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ompilare  la seguente documentazione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schede tecniche aziendali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(la data, le modalità e tipologia di ciascuna prestazione effettuata, il nominativo del tecnico, criticità e problematiche individuate e trattate ed indicazioni e azioni correttive proposte, eventuale documentazione tecnica e informativa consegnat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e check list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“condizionalità”, “sicurezza sul lavoro” e “requisiti obbligatori in selvicoltura”, comprovanti l’effettuazione del servizio di consulenza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la relazione finale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la definizione degli interventi necessari a supporto del rispetto degli atti e delle norme, i contenuti della consulenza prestata in relazione alle specifiche necessità dell’azienda agricola/operatore forestale e gli eventuali risultati conseguiti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669900"/>
                </a:solidFill>
                <a:latin typeface="Arial"/>
              </a:rPr>
              <a:t>PROCEDURA OPERATIVA (1)</a:t>
            </a:r>
            <a:br>
              <a:rPr sz="2400"/>
            </a:br>
            <a:endParaRPr b="1" lang="en-US" sz="24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"/>
                <a:ea typeface="Times New Roman"/>
              </a:rPr>
              <a:t>Aiuto concesso</a:t>
            </a:r>
            <a:r>
              <a:rPr b="1" lang="it-IT" sz="1800" spc="-1" strike="noStrike">
                <a:solidFill>
                  <a:srgbClr val="333333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max euro 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.500,00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per azienda e per servizio completo di consulenza, pari all’80 % del costo ammissibile (IVA esclusa);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75 euro/ora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i consulenza  (intesa come ora effettiva di servizio di consulenza)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10663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NORME SPECIFICHE</a:t>
            </a:r>
            <a:br>
              <a:rPr sz="2400"/>
            </a:b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560" y="1752480"/>
            <a:ext cx="8515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firma di un tecnico abilitat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u tutta la modulistica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NON possono presentare domanda di aiuto</a:t>
            </a:r>
            <a:r>
              <a:rPr b="1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r>
              <a:rPr b="0" lang="it-IT" sz="18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i soggetti che hanno già fruito di un servizio di consulenza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finanziato ai sensi del Bando, approvato con DGR n. 1434/2009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fatto salvo </a:t>
            </a:r>
            <a:r>
              <a:rPr b="0" lang="it-IT" sz="18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che siano intervenuti nuove norme (comunitarie e nazionali) obbligatorie in materia di condizionalità, sicurezza sul lavoro o requisiti in selvicoltura ovvero l’azienda ha intrapreso nuovi processi produttivi che comportino il rispetto di ulteriori atti e/o norme obbligatori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0" y="65419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5:56:53Z</dcterms:created>
  <dc:creator>---</dc:creator>
  <dc:description/>
  <dc:language>en-US</dc:language>
  <cp:lastModifiedBy>Capurro</cp:lastModifiedBy>
  <dcterms:modified xsi:type="dcterms:W3CDTF">2013-07-02T11:39:32Z</dcterms:modified>
  <cp:revision>269</cp:revision>
  <dc:subject/>
  <dc:title>Diapositiva 1</dc:title>
</cp:coreProperties>
</file>