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B3E5-EEFD-43FA-92EE-56F39A07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9202-A9A4-4550-AAB4-B32C7BD51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03A4F-4AFE-4973-A19B-9F95C928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EBA188-5630-49CF-87C9-FE3E70CE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0046F-3B44-4790-A24B-4B404768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A7079-C13E-49D8-A0D5-ED91DC1A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56795C-18BC-4135-88D3-21CEA504D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3D1C73-F26C-414F-A9E0-9375FFEC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850858-BDD2-48B7-8D7B-640D35C9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DC1718-F522-4C01-BD45-DAB868C3D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27C540-EE7D-4353-B330-256E851C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541FAF-0A74-4E98-B057-31AF41B8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7903-A2C8-4BFA-9CA3-4686170E2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DFB2C2-81CB-45D1-B0C3-7BAAFF508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B6DD58-E46C-49A5-AFB9-4B18E61C3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6898A9-CC4C-419A-98E9-89E46A90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045CA-94A0-4DA0-9E53-681FFB94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5B5D18-56CB-4376-BDE1-251D10A2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48059D-E205-4BA1-A58A-3825CE3F1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2BAC7E-542E-4584-83B9-FE98CB984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9FF063-BF4C-4F55-B714-AE4F018B5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93F1E6-3816-48C8-84F2-11501420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8A3C79-DCC3-4D4F-BEE0-6C2B4F356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80FA-4048-4DE6-8180-EEDEAD1F4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BB8520-8A5A-442C-953E-D6FA49D63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77EB0A-1676-4287-9F6E-38DC0CAD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3F83F9-AE6E-4557-9E07-67E9176E0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5FF7A-4721-4F1E-9F17-16D8B2CA3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7C246-66B8-4D30-A8BD-721AE4B72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F91CF-3B6A-4BCB-9D03-8B5D2F66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D3E06A-F76E-4F25-A1D4-BFBF7B85E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813BC5-0E87-4A61-902E-340BE3181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4DCD3B-B380-4936-9FF6-55079CBD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6EE508-EA44-4E3B-BCA6-CC4882331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B98C2-97A7-44B8-8ECB-05C4C0DA7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31E887-947C-4767-890F-100AC06F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5F4D86-30DD-4C91-9A22-576E29585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FCF1D9-0387-4D89-9D19-6FAC219BC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9BBDF4-EB0A-49E7-BEA2-624201BFF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EB9B61-FB06-4BEA-B823-3EA99E423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5DC75F-D608-44E7-98EE-7A6A47762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0C2A5-669E-496D-933E-748B72FDE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9249CB-84D9-406C-B6AA-78EE47C6A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72730A-ED84-41D1-B056-97198038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7AFD6B-D810-47BE-8F34-C94FC2912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E8A1C-060D-4414-B463-CB9D625E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E3E6F5-6CAB-4BF2-B910-3D4FA71E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38809-8EC2-4265-BC93-BFA27D7D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4DD991-A11E-422C-B9A9-A241B014A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3E786F-DA7B-425D-8ECE-9DE16C60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291D37-88B1-4621-A218-5168D8D65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6CA1C2-8EE6-49DA-84EF-5652D1B59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203A0B-5E26-4117-A878-1BA6EEAC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828962-5431-42EB-B424-F06CF0E14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7BC8AC-B5AD-4322-B3F8-5CA6C4090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EC046D-2925-498C-9C05-6E32D3D5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00CA9-87A0-473D-8519-846F4A041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D04A9D-DA91-4949-917C-9399D315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14FF16-7331-4846-9175-14A8BC68E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4A9C3B-6869-473E-AD88-6190F593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C04A47-F9A8-4FB3-A9E3-75D7A247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FF2BC6-640E-4A33-8B79-4316FE56F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C77B49-EA17-4119-A318-0ED6BCDDF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1AFAD3-6A65-43D8-9F56-DEC7C12F6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862FF5-9910-4914-8FD9-B1A40ECA7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0B7A7C-133B-4756-8E8F-B1CBFB58B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DB545E-7876-4A5F-8CC8-F67FCC5D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7ECF5-BC9B-4331-8731-5148749B2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2A9AB4-6481-4484-8ECB-1848040F0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C689B3B-8E3A-408B-97D6-26CEAEABE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2454A4-2211-43FF-AC07-184A14F1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F04A77-A161-4605-A60A-16EF35820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7D3A71-4756-4D6F-98E5-7B6841B7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57D2C2-7E96-420A-823C-5B9CFB18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62C5F8-542F-4E4E-82DA-EE842817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F6AF69-AF6B-4427-AD93-430F613E8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503979A-6FBF-4C99-81AB-C59641F8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BA89D2-C123-47F1-9C65-9E5674710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7C5A5-4D6F-4346-A148-4EB07D77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9C88FA-16D2-445B-8F08-6E61CD768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AC99E0-AAE3-4C3C-A162-DF68DF169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19091C-3586-402E-94FD-A5CA3A540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AA99E1-6BB5-47E6-B99C-4F98FC4D1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1ED879-266C-45C3-B369-529CC5D5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FC5B5D-817F-44B2-8ED2-47DE55EE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2999F5-F3BF-467B-8081-B0736C61E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EC2B17-C877-4634-A44C-2A86F2850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E89218-3C61-41C0-B875-ED3C707B2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1EEC28-C02C-4D3C-AC8C-E20619397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0C63F-6057-4657-8A44-4A613822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A4897E0-B98C-4547-95EF-FFBB35BEA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AADD72-233C-4047-9D9C-0E8E3A30C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3B67B2-1B4C-4FF7-BDD0-245E0DD8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D459BA-4FDE-4A03-9D5A-2F81F0E7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E28A67-5F68-4FDA-88C6-27B2A8BC5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EA8F32-DD9B-400F-898F-83238F1FF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CCD1B9-D987-480E-812F-12F511425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27D1B7-D916-4E62-BA53-0213D8492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35BE5C-80C6-46F5-A666-4B176A15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E275AD-70FF-49F2-AC72-B50C83509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B5547-E0A3-4A74-9227-4CA15BF24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11F2DE-55D7-4D05-85D2-7D8D74717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27DD24-47F9-4B74-8339-89992B743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6679334-9A2D-44BD-BA06-356C6213F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25270F-2801-4E15-BD84-818C6A430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ADE14A-8DEB-42AB-9780-09E21EF68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FBBBBE-E743-40F7-90F7-AEE7F75D1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133A51-3249-4B63-96BC-A5BC4598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C3A8FF-C332-4BC8-B717-46A75AB06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D9640E-88B9-4FA3-9E1C-FDA6428A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447093-61C9-41BA-85A5-22D321B49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C38A-D553-49E8-8E93-54B74BDE0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B6F4A-B2EE-4262-82F5-D2536804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212ADD-004F-4BDE-BB51-BBBC4AF41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0335AB-65CA-4BB0-BF0C-4B4947BDE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AE984C-1F58-4010-9364-466B2C449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C9D76E4-B8A0-4BAA-9718-44A2F1304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DBC593-9480-4160-88AE-622ADB48C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C12157-FFE0-4982-A06F-FA3BEFD5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26C3AA-C004-4DD7-A8DC-E380CF241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9497C1-1330-4532-92DC-844B6AC3B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91D43A-8017-49CB-9A8A-2434C8D5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35EE28-5F27-4957-882A-771E33FF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FCF0-83C5-41A9-9929-1A2F90AA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0DB717-E75A-4423-B310-C1C2F273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A05F94-D16A-4E6B-8F11-BE32F7A9F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3C4218-8240-47EC-873A-359C12893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5053A6-BCB6-40D1-9999-0B8C16C3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C0B7E25-BE3A-426A-9FAB-03A299779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45626F-84DB-40C7-B64B-D6FA8BEC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F002602-ECE6-4F77-A41D-5C73B2EEF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0991A3-FFE1-43B7-9747-BD8867645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D4839B-0EBF-4B18-AF6E-87761611E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22B346C-1AE5-4C67-B27E-0BA8AA9E8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F2A39-274B-46A9-BD18-2824DA9A5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1F1566D-A8F3-42D9-82A8-0B6845A7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3BF02E-FF3D-411C-82C0-7CB95F16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D525D9-6B0F-4084-A286-E306D056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040DE3-2D00-441D-AD0F-F304C5DFE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EC57C0-104D-4918-85C4-8EC14216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123AD4-90BB-433F-9D11-BF308912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4E3517-1057-4C04-9F52-894D91FF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6091DE-2F25-4D4E-A0ED-17FA93472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AC9B76-2ABC-4A14-87CC-699255765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0D0F54-F6BE-48C8-B64D-000CDB5F9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290E7-4C5C-4CEF-A937-12D143E29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8C901E-F360-4609-9317-BA088B5AC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606E54-1A42-4C8F-97BD-ACDA52162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F2C5F7-B676-4267-8CA3-933E5089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D1F8C4-9CA8-43A3-B29C-7291392AE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108031-C670-48DE-9C09-1C2AE4003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AFD1B4-E2C9-48C2-AF44-64017899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C5DFFD-0E80-4DBB-A2E9-C750024A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F0811DF-27BA-4F53-AA2D-46A99D874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A5C2F09-376D-4DD2-A0C4-5DAA490FF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4AC97C-09DD-4617-B52D-B302A75AC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F1CAF-EF63-498D-A1C7-7EFF59FFC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9EADB2-01DE-42FB-88CA-177DEC97F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9782B95-6896-4066-948D-37DEEADBA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81E88F-BEBE-40E7-A393-C9DD15B03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2CCFA7-C2CC-42EB-A8CB-F42EF7427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8ECF75-D69A-4B92-8A9B-9F20E161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293B84-D129-4F76-9953-5E25DF60E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794EFB-5FEC-41D1-B0E6-575C013E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BE83D0-A1F6-4792-A43C-19A868A8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F3E669-FDE7-4709-9F9E-E999014C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5A07C1-506A-4244-BC33-233D91DBF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59CEA7-EB1D-4A9E-AD63-8D268B15A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DD9A72-A612-43C3-83EC-B84AD5594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A433CA-74F0-4DAC-B1FB-0CAE98B66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3C5C34-234D-4961-B556-64D9A5356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F15EB9-7642-4B9B-9780-FF50884A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FB13F8-D6F4-4D85-8247-F413899A1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ACA453-1E18-47EB-B0C3-90631DEB6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7313A45-929A-4143-856A-14F67D332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1CF6B2-6C82-428F-AE4E-7739A8EA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D6DCC2-F6D4-4A1A-8F3A-70B789996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7DD9003-7EC7-4A0B-AD4C-A95915B1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D6E40-A424-49B3-BE89-C0E4318CD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AB0C380-ECA5-48CD-B809-ACBC0DB62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3C53C9-9683-44B1-BBCE-91E35369B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A8C6EF5-CFA0-4EA7-952B-3AC32F4E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14AF44-4205-4045-9DBF-890B958AC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A23B808-A45F-42C3-B494-D4C7E4CB2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818FF3-5D5E-4346-ADA8-6999D532E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C05E3A-288A-47FF-98E6-F6CA3B2F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67EFEA-D4A6-4BC3-8458-FC3E21DE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E38D58-FEDC-4E80-8F5E-161844C0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5013E4-BD24-4F27-BDF9-815BBBD41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5B0130-C74F-48A4-A6DF-8A106E34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F6E23F-39EA-4BF8-9730-52361A96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DBF1EB1-65F9-4415-9305-503C19E7E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BD0589-7F34-4FA0-8DFB-AF72A5BF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61CD71-42C9-4EF8-AC11-C60A62EB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1F967A-C7BB-475C-B66D-A14991582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41C5D4-D8B5-4B4C-9A9B-44945128F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516EFA-C9A6-4547-852A-C0B811FCA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37C47BB-EB0B-427B-935B-7B4A0329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DF7B9B-9629-4252-9868-28677E1BC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0CFD183-B7C4-4DD4-8301-54E9DFB22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008E4-E25B-4C3D-A3BE-8EF5F594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54C6FA-9318-4C80-AEBD-769255FA5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A74715-450F-4DE8-A23B-8A572E9E9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45D807-4FA0-4BDF-925C-55A46062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AF78C4-48E6-4E68-B0DA-05F93E678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F7CDD2-0CF2-45AD-AB7F-DFEDF88E5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7E52F2-99DC-478D-B06C-B2B0CBD3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3FD5E69-E6DD-4E95-9389-32B1C3439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2A5A90F-CB79-4B61-9980-B96E5FB47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726C07-4AE1-4FD4-ACD2-62C802AE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0A6ADC-F081-44F9-BF62-D82E2AEB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2BD6-F8FF-467E-8284-A571C2F98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6E5210-5FFF-4CB8-BC52-CC6D268D7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170AF-7912-41C5-9F30-B3DB8EC3F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B2A13B-3174-4F4B-94C8-6485B630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F1219D-77DD-4A72-A8F3-DCA174F2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8961B-9BF1-49C8-A566-E3C557F5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DDB9B-3B1D-4290-B43E-95C15FD5F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B7CB85-EF49-42B9-A554-EE3144AD2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A8994-9070-4D63-ABA9-3F01556CC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9664C-68F8-43DB-8A30-36A0021B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E48F7-98BA-4B0C-8F79-2230F6B4E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F615-6E21-4BB7-A9AD-5B9A2F148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2A724D-EF4C-4E98-ACCE-3E606E088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622248-36B2-4651-9EF8-6850EB86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DA7EB-8CE2-4B80-B380-60008F19F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DF1546-753D-478B-8E61-5AD478501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19D912-07C4-4D5C-8694-F79B585F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BAD49A-097C-4E5C-8EF1-F0F054FE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FD896-18FE-4AEF-A89A-EB21E1DD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C3428-6D9C-45ED-97C6-ACB9B1CF7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D377F-0370-4E6D-AEC3-E299BDB41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CBB67A-7AEB-4CD6-AADB-C6E6FF28C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3D6C-1BB0-43C9-A91B-32A3C6FE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07D36-4DFD-442A-AED5-A31D166F7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FAD37-4973-463D-961D-BFFCB2DAB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307313-1695-4BB2-99C0-E6FEACCE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93266-5B69-4EA4-B4ED-18FBE8D2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109E84-94E9-4012-BED7-308FF6BC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60683-3E75-4EF7-A2EE-02912E11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822D2-D137-4D8D-8F90-8B8CACE2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331AF-6844-49F4-BD33-BEFBD802A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05E366-7AA8-42E4-AEDD-7CDED8BA5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331D1F-8777-4CBE-B1AE-0DAA067A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865C-5BC9-45C7-93BA-B4F692C1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218B72-D5E9-46AD-9BF1-18DCED23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8A104-FD55-4913-9E51-1948442E4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6D334-65A6-4018-B39D-C31DC66F8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B51D7-8890-4EB5-9EAD-C3D5D3A7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EFCD3E-D42F-40CA-9F2B-DCD0F228E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59A4E-CCA2-48D1-BEAE-9C9E2EA0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31569-432A-4117-8423-217057ED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312B49-C75F-4A4A-B3B1-9C1B97AD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FE15D-0EE1-4B28-A012-9A2AE8E2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B76A4E-710C-44F3-9552-BD001AB61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0389-1896-4267-AC74-1CDBE38E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6AD8C-E81E-4D12-AE7F-CF7D4FF2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9B3D2D-B684-4F19-BA5E-DBD5B3489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395185-768D-4CE1-8981-7CF7231E4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21362C-CB50-462F-A8C2-CD6E64E60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5A9275-CA63-46AF-8E4F-F4838A69E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0CAD6B-7AA2-4EAA-86AF-6B172809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40A3AC-27FE-4610-B96B-8FA7AB387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84B48-3163-4641-874B-E6D38267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542EA-A2F3-4281-AA2E-6D3A7E089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886D7-33EC-47D8-9176-64F77BE4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5CEE-D70C-4058-AA9C-DFA11F5A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A80376-1C71-4DF3-8CBE-996DE43A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CA3F3E-2E75-4ED6-8671-1B6A362BA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F5814-5F9B-497D-A152-F6CCAE4D5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162E0-9513-4A15-8E00-9851711C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3C5962-6CD2-4FAA-BAA6-DA5A0481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6019D9-3E55-4A0E-8B8D-59F2B2AB2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CD682-C750-4F83-B6EE-238A0D109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261FB9-8D31-467A-AAB9-5FD42DA73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375DBE-ED01-4293-A0ED-B8DBC148E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3E1B4C-3D99-4FFA-8E07-BC811499F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9280-77E7-4043-AF64-A49818697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90400" y="9187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85AC41-EF02-4B67-A356-0E20A575D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C244B0-61B0-462D-BCA6-32F241F7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5B225C-C8B9-4F3C-88D0-3EFC7231E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B91D34-7ABF-4AE9-80C2-C2712C86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90400" y="4275000"/>
            <a:ext cx="822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25643-D578-48BE-93C5-8E235EBC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807440" y="228708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040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807440" y="4275000"/>
            <a:ext cx="40158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579F4D-DA93-474D-B8A7-B49547480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7284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155280" y="228708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9040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7284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155280" y="4275000"/>
            <a:ext cx="2649600" cy="181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9B58D-3D48-441F-9BE7-5AF2D6C7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82098A-EFB1-41B1-9095-C904C577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429746-4BF7-4E79-B248-044E3344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E01429-26D6-49C2-831C-1166B0B60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D928-F5FF-4384-9D08-A08CBC8D4A6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A61C9-DBE0-4EC3-B31D-40116889EA5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FA31D-6B66-4229-91DC-FFD98272B5F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C468F-D2DA-47BA-BE38-66373F7D29B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36764-A543-44E3-965E-7EF48D01763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102D-30F2-4BED-8907-E6E53C53360A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9FD32-6CB1-4070-9AF0-BF28A4015E7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9DCC-4036-4407-8783-06DADCB9590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2B7BC-2C5B-4B7D-ACE4-3ED0A591101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6966-CB98-4B6A-88ED-946E23FC1698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AFA50-18E6-4462-80F5-96986B9AEDD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2A5DC-46AE-4ED2-87F6-9ED15D90C91C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9806-E65A-4A58-93B7-F604700E0947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2C5F-CF2E-49C6-A610-BD9B84AA839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7B530-31C3-4728-843F-1605B2461C9B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F2E6-43AC-4C60-B4E5-9C2BC43BB6B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120A-46C2-4BBF-9981-E6A16767B652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91B31-BE68-4D94-A390-BBC2B67376FE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6FE0-E0DA-471C-B5DA-16991A255F06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D425-7910-4DFB-AD07-99A4864FECC0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B7DF-F4B8-49F7-BF98-5173A3DC10FF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4CDD-1DEC-45FC-B25C-B10FCF0582B9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31B9C-94DB-4354-90C6-F531682CD801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90400" y="918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99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90400" y="2287080"/>
            <a:ext cx="8229600" cy="380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0D742-D2C4-4185-A274-731DFD10681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Rectangle 3"/>
          <p:cNvSpPr/>
          <p:nvPr/>
        </p:nvSpPr>
        <p:spPr>
          <a:xfrm>
            <a:off x="0" y="1066680"/>
            <a:ext cx="9144000" cy="208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 baseline="12000">
                <a:solidFill>
                  <a:srgbClr val="669900"/>
                </a:solidFill>
                <a:latin typeface="Tahoma"/>
                <a:ea typeface="Times New Roman"/>
              </a:rPr>
              <a:t>Reg. (CE) n. 1698/2005 del Consig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 </a:t>
            </a:r>
            <a:r>
              <a:rPr b="1" i="1" lang="it-IT" sz="3200" spc="-1" strike="noStrike" baseline="12000">
                <a:solidFill>
                  <a:srgbClr val="669900"/>
                </a:solidFill>
                <a:latin typeface="Tahoma"/>
                <a:ea typeface="Tahoma"/>
              </a:rPr>
              <a:t>PROGRAMMA regionale di SVILUPPO RUR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 baseline="12000">
                <a:solidFill>
                  <a:srgbClr val="ee8f04"/>
                </a:solidFill>
                <a:latin typeface="Tahoma"/>
                <a:ea typeface="Times New Roman"/>
              </a:rPr>
              <a:t>      </a:t>
            </a:r>
            <a:r>
              <a:rPr b="1" lang="it-IT" sz="3200" spc="-1" strike="noStrike" baseline="12000">
                <a:solidFill>
                  <a:srgbClr val="ffff99"/>
                </a:solidFill>
                <a:latin typeface="Tahoma"/>
                <a:ea typeface="Times New Roman"/>
              </a:rPr>
              <a:t>2007 -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Rectangle 4"/>
          <p:cNvSpPr/>
          <p:nvPr/>
        </p:nvSpPr>
        <p:spPr>
          <a:xfrm>
            <a:off x="225360" y="4869000"/>
            <a:ext cx="8701200" cy="12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9216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669900"/>
                </a:solidFill>
                <a:latin typeface="Tahoma"/>
              </a:rPr>
              <a:t>Genova   -   4 luglio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Rectangle 5"/>
          <p:cNvSpPr/>
          <p:nvPr/>
        </p:nvSpPr>
        <p:spPr>
          <a:xfrm>
            <a:off x="2556000" y="6541920"/>
            <a:ext cx="36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857160" y="2857320"/>
            <a:ext cx="7772400" cy="128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MISURA 111</a:t>
            </a:r>
            <a:br>
              <a:rPr sz="2800"/>
            </a:b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e b) “informazione”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"/>
          <p:cNvSpPr txBox="1"/>
          <p:nvPr/>
        </p:nvSpPr>
        <p:spPr>
          <a:xfrm>
            <a:off x="142920" y="1714320"/>
            <a:ext cx="885816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GETTI DI INFORMAZION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, che devono prevedere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incontri inform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endono una serie di riunioni collegiali, di durata non superiore a 2 ore, aperte a gruppi omogenei di partecipanti, in numero non superiore a 10, rappresentativi di specifici settori produttiv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rganizzazione di seminari e convegni divulgativi (</a:t>
            </a: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obbligatorio)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: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iziative informative di approfondimento per un minimo di 11 destinatari e una durata di almeno 3 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E’ ammessa l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alizzazione e/o la distribuzione di apposito materiale informativo (facoltativ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Azioni finanziabi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0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IMO BANDO  (aperto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ggiornamento sulle politiche comunitarie agricole, forestali e ambientali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ntroduzione e trasferimento di innovazioni produzioni con particolare riferimento biologiche e ecocompatibili e gestione risorse (risparmio idrico ed energetico e uso di fonti alternative, protezione suolo, etc.)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a sportell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Un solo progetto per prestatore di servizi (indipendentemente dalla tematica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Data di fine progetto: 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3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Freccia in giù 4"/>
          <p:cNvSpPr/>
          <p:nvPr/>
        </p:nvSpPr>
        <p:spPr>
          <a:xfrm>
            <a:off x="3929040" y="3286080"/>
            <a:ext cx="642960" cy="5000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 txBox="1"/>
          <p:nvPr/>
        </p:nvSpPr>
        <p:spPr>
          <a:xfrm>
            <a:off x="142920" y="1643040"/>
            <a:ext cx="8858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ECONDO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resentazione delle domande dal giorno successivo la pubblicazione sul BURL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condizionalità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norme obbligatorie in materia di sicurezza del lavoro (euro 1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alvaguardia e tutela del territorio e dell'ambiente (euro 4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sistemi di qualità e di rintracciabilità (euro 20.000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progetto per tematica (per Prestatore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) – graduatorie distin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il progetto deve svolgersi in un arco temporale non superiore a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10 mesi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entro il</a:t>
            </a:r>
            <a:r>
              <a:rPr b="0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it-IT" sz="1600" spc="-1" strike="noStrike" u="sng">
                <a:solidFill>
                  <a:srgbClr val="333333"/>
                </a:solidFill>
                <a:uFillTx/>
                <a:latin typeface="Times New Roman"/>
                <a:ea typeface="Times New Roman"/>
              </a:rPr>
              <a:t>31/12/2014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250920" y="981000"/>
            <a:ext cx="864216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Times New Roman"/>
                <a:ea typeface="Times New Roman"/>
              </a:rPr>
              <a:t>Tematiche ammesse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997" name="CasellaDiTesto 5"/>
          <p:cNvSpPr/>
          <p:nvPr/>
        </p:nvSpPr>
        <p:spPr>
          <a:xfrm>
            <a:off x="166680" y="6510240"/>
            <a:ext cx="361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ccia in giù 4"/>
          <p:cNvSpPr/>
          <p:nvPr/>
        </p:nvSpPr>
        <p:spPr>
          <a:xfrm>
            <a:off x="4000680" y="3786120"/>
            <a:ext cx="642600" cy="42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90400" y="919080"/>
            <a:ext cx="8229600" cy="58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669900"/>
                </a:solidFill>
                <a:latin typeface="Arial Black"/>
              </a:rPr>
              <a:t>Caratteristiche progettuali</a:t>
            </a:r>
            <a:endParaRPr b="1" lang="en-US" sz="2800" spc="-1" strike="noStrike">
              <a:solidFill>
                <a:srgbClr val="669900"/>
              </a:solidFill>
              <a:latin typeface="Arial"/>
            </a:endParaRPr>
          </a:p>
        </p:txBody>
      </p:sp>
      <p:sp>
        <p:nvSpPr>
          <p:cNvPr id="1000" name=""/>
          <p:cNvSpPr txBox="1"/>
          <p:nvPr/>
        </p:nvSpPr>
        <p:spPr>
          <a:xfrm>
            <a:off x="357120" y="1571400"/>
            <a:ext cx="8462880" cy="45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are il “</a:t>
            </a:r>
            <a:r>
              <a:rPr b="1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gli firma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(per ciascuna azione informativa) ovvero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enco dei destinatari nel caso di invio informatico delle newsletter e dei bollettini (previsto nel 2° bando)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ispettare le norme di antinfortunistica e prevenzione degli incendi nelle sedi di svolgimento delle attività previste (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obbligo di stipula di assicurazione contro infortu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to del progetto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4.000 per singola provincia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euro 15.000 per progetto regiona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unicare al Settore Ispettorato Agrario regionale: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ingola iniziativa informativa (preavviso di 7 giorni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 varianti;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OTA BENE</a:t>
            </a:r>
            <a:r>
              <a:rPr b="0" lang="it-IT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er il 1° Band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predisporre un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report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 riassuntivo contenente i fabbisogni e i risultati attesi (settoriali, territoriali, filiera, etc.) dalla nuova programmazione di sviluppo rurale 2014 – 2020. (da inviare al Settore Politiche Agricole entro il </a:t>
            </a:r>
            <a:r>
              <a:rPr b="1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31 ottobre 2013)</a:t>
            </a:r>
            <a:r>
              <a:rPr b="0" lang="it-IT" sz="1600" spc="-1" strike="noStrike">
                <a:solidFill>
                  <a:srgbClr val="333333"/>
                </a:solidFill>
                <a:latin typeface="Times New Roman"/>
                <a:ea typeface="Times New Roman"/>
              </a:rPr>
              <a:t>.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Rettangolo 3"/>
          <p:cNvSpPr/>
          <p:nvPr/>
        </p:nvSpPr>
        <p:spPr>
          <a:xfrm>
            <a:off x="276840" y="6488280"/>
            <a:ext cx="157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 Black"/>
              </a:rPr>
              <a:t>PSR - Misura 1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30T07:38:51Z</dcterms:created>
  <dc:creator>lavagnino</dc:creator>
  <dc:description/>
  <dc:language>en-US</dc:language>
  <cp:lastModifiedBy>Capurro</cp:lastModifiedBy>
  <dcterms:modified xsi:type="dcterms:W3CDTF">2013-07-02T13:44:54Z</dcterms:modified>
  <cp:revision>146</cp:revision>
  <dc:subject/>
  <dc:title>Presentazione standard di PowerPoint</dc:title>
</cp:coreProperties>
</file>