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673A-2078-482E-97E8-1EAA28DF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9DC8-982E-423B-811C-F0BE83953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DDFB-E209-4B8C-8CD2-D72A5FFC8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A66C-7507-4AAF-85E4-1B95A3DD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B7A1-AB2B-4EF1-90F9-FA7D7AA1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54FA-C899-4240-ADB9-F4D477F7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1D009-10A5-401F-AB79-AD7E593D8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F692C-BE62-4E1E-BE28-66BD728D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4367-4504-499B-9F2D-8AA008969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1FFCB-7122-4CE0-860A-2EDA04331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2163-42C2-486E-8D1F-99F64D3A2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50D8-84D9-4C58-AB24-4BADB9C80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90D3-8145-4263-B5AD-3244DA575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B8AA-5CE4-437B-9765-2CC36E18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3461A-71FA-4E0F-819A-90A8AD6C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DE134-F2AF-4BC3-AE5A-3165D225C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7712D-5B4E-4645-8D7F-10D3E7A2F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3BEA3-E424-481A-ABC1-25D341A7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EEEF-4C72-41DE-A69A-0E2F8388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A380-1170-4074-8F1F-D6B96FB9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6CE5-66B1-40A4-AB4D-A31106B8E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F8557-9DC3-483A-9102-F20ADEEFF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33C4-2642-4734-ABEC-D3A48FC96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E2ED-6DF0-4CF8-BC5E-D0CC3E59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6B4A2-7898-43BF-B6D2-26B90C4CCC8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27f4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C201-8ABC-444B-9EB1-3D384980E8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86532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b88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Tahoma"/>
              </a:rPr>
              <a:t>Regione Liguria</a:t>
            </a:r>
            <a:br>
              <a:rPr sz="44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Settore Prevenzione, Sanità Pubblica, Fasce Deboli, Sicurezza Alimentare e Sanità Animale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2997000"/>
            <a:ext cx="914400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degli alimentaristi e degli OSA ai sensi del Rg. 852/2004/CE e della DGR 793/2012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cc"/>
                </a:solidFill>
                <a:latin typeface="Tahoma"/>
              </a:rPr>
              <a:t>Dott.ssa Elena Nicosi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Unità formativa  minima per tutti 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8 ore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rischi e pericoli alimentar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rincipi HACCP e autocontrollo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legislazione alimentare obblighi e responsabilità OS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Conservazione alimenti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pprovvigionamento materie prime e  tracciabilità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pulizia e sanificazione locali e attrezzatura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igiene personale 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manuali Buone Prassi igieniche</a:t>
            </a:r>
            <a:br>
              <a:rPr sz="2400"/>
            </a:br>
            <a:r>
              <a:rPr b="1" lang="en-US" sz="2400" spc="-1" strike="noStrike">
                <a:solidFill>
                  <a:srgbClr val="0000cc"/>
                </a:solidFill>
                <a:latin typeface="Tahoma"/>
              </a:rPr>
              <a:t>-ambiti, tipologia e significato CU</a:t>
            </a:r>
            <a:br>
              <a:rPr sz="4000"/>
            </a:br>
            <a:endParaRPr b="0" lang="en-US" sz="24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Unità formativa  aggiuntiva  per titolari OSA, responsabili autocontrollo e addetti produzione e preparazione alimenti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(durata ulteriore 8 ore =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16 ore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)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piano autocontroll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unti critici (individuazione, monitoraggio, misure correttive)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GMP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Allergie e intolleranze alimentari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Rischi Specifici  del processo produttivo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eventuale  modulo di 2 ore  per celiachia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ECCEZIONE per 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Per IMPRESE AGRICOLE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e svolgono solo attività di produzione primaria  di prodotti vegetali  (no trasformazione, manipolazione ecc.)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quisiti docenti: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esperienza professionale documentata  nell’alimentare almeno di 2 anni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laurea in medicina, veterinaria, produzioni animali, agraria, scienze ambientali, farmacia, chimica, biologia, tecnologia alimentare, dietitistica, prevenzione, </a:t>
            </a:r>
            <a:br>
              <a:rPr sz="2400"/>
            </a:br>
            <a:r>
              <a:rPr b="1" lang="it-IT" sz="24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periti agrari e agrotecnici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ossono svolgere docenze anche altre figure  ma su temi  specifici e in maniera residuale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ggiornamento: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di norma ogni 5 anni</a:t>
            </a: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(periodo transitorio 3 anni  e di 12 mesi  dal 25/07/2012)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Addestramento (aspetti pratici e prassi  legate alla mansione e ai rischi propria impresa):</a:t>
            </a:r>
            <a:br>
              <a:rPr sz="40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almeno annuale ed entro 180 giorni  dal cambio mansione ( secondo modalità individuate nel piano autocontrollo)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per STAGIONALI  ecc.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formazione  già acquisita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periodo transitorio e contratti lavoro inferiore a 30 giorni  solo addestramento  di 4 ore</a:t>
            </a:r>
            <a:br>
              <a:rPr sz="4000"/>
            </a:b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La formazione è solo uno strumento  per  assicurare  il rispetto dei criteri  igienico sanitari  previsti dal Pacchetto Igiene</a:t>
            </a:r>
            <a:br>
              <a:rPr sz="32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OBBLIGO DI RISULTATO E NON SOLO ADEMPIMENTO FORMALE!!!!</a:t>
            </a:r>
            <a:br>
              <a:rPr sz="4000"/>
            </a:b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Sanzioni anche  se  ottima formazione  ma condizioni igienico –sanitarie   scadenti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3924360" y="2349360"/>
            <a:ext cx="1008000" cy="1440000"/>
          </a:xfrm>
          <a:prstGeom prst="downArrow">
            <a:avLst>
              <a:gd name="adj1" fmla="val 50000"/>
              <a:gd name="adj2" fmla="val 35714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REG. 852/2004/CE All. II cap. XII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in mancanza  di indirizzi nazionali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DGR 793/2012  </a:t>
            </a:r>
            <a:br>
              <a:rPr sz="4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per garantire omogeneità di valutazione   della formazione</a:t>
            </a:r>
            <a:r>
              <a:rPr b="1" lang="it-IT" sz="5400" spc="-1" strike="noStrike">
                <a:solidFill>
                  <a:srgbClr val="0000cc"/>
                </a:solidFill>
                <a:latin typeface="Tahoma"/>
              </a:rPr>
              <a:t>  </a:t>
            </a:r>
            <a:endParaRPr b="0" lang="en-US" sz="54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85" name=""/>
          <p:cNvSpPr/>
          <p:nvPr/>
        </p:nvSpPr>
        <p:spPr>
          <a:xfrm>
            <a:off x="4140360" y="2708280"/>
            <a:ext cx="1223640" cy="1224000"/>
          </a:xfrm>
          <a:prstGeom prst="downArrow">
            <a:avLst>
              <a:gd name="adj1" fmla="val 50000"/>
              <a:gd name="adj2" fmla="val 25007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067280" y="90792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3200" spc="-1" strike="noStrike">
                <a:solidFill>
                  <a:srgbClr val="0000cc"/>
                </a:solidFill>
                <a:latin typeface="Tahoma"/>
              </a:rPr>
              <a:t>Chi  deve fare formazione ai sensi del REG. 852/2004/CE?:</a:t>
            </a:r>
            <a:br>
              <a:rPr sz="32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- tutti gli OSA (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persona fisica o giuridica responsabile di garantire il rispetto della legislazione alimentare nell’impresa posta sotto il suo controllo)</a:t>
            </a:r>
            <a:br>
              <a:rPr sz="2000"/>
            </a:b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- gli addetti alla produzione, manipolazione, somministrazione, confezionamento, deposito e trasporto  di alimenti</a:t>
            </a:r>
            <a:br>
              <a:rPr sz="4000"/>
            </a:br>
            <a:br>
              <a:rPr sz="4000"/>
            </a:br>
            <a:r>
              <a:rPr b="1" lang="it-IT" sz="2800" spc="-1" strike="noStrike">
                <a:solidFill>
                  <a:srgbClr val="ff0000"/>
                </a:solidFill>
                <a:latin typeface="Tahoma"/>
              </a:rPr>
              <a:t>DGR 793/2012 eccezione per formazione di base  per  alimentaristi  con specifici titoli di studio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Requisiti  della formazione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specifica (per mansion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appropriata (per tipologia impresa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permanente (aggiornamento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documentata (attestati – libretto formativo ecc)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Chi può erogare  formazione?: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- </a:t>
            </a: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gli organismi  formativi accreditati  dalla Regione Liguria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ssociazioni di categoria, Università  CCIAA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AASSLL ( non direttamente alle imprese)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0000cc"/>
                </a:solidFill>
                <a:latin typeface="Tahoma"/>
              </a:rPr>
              <a:t>- le imprese alimentari  in proprio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Caratteristiche  generali dei corsi: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N° di discenti  25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verifica finale con prove  teoriche- pratiche</a:t>
            </a:r>
            <a:br>
              <a:rPr sz="3600"/>
            </a:br>
            <a:br>
              <a:rPr sz="3600"/>
            </a:br>
            <a:r>
              <a:rPr b="1" lang="it-IT" sz="3600" spc="-1" strike="noStrike">
                <a:solidFill>
                  <a:srgbClr val="0000cc"/>
                </a:solidFill>
                <a:latin typeface="Tahoma"/>
              </a:rPr>
              <a:t>- rilascio  di attestato di idoneità</a:t>
            </a: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con dati anagrafici, data di superamento  della verifica, n° di ore di addestramento, argomenti trattati, organismo che ha erogato la formazione</a:t>
            </a: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Per ogni corso                 programma formativo </a:t>
            </a:r>
            <a:br>
              <a:rPr sz="2800"/>
            </a:br>
            <a:br>
              <a:rPr sz="2800"/>
            </a:b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responsabile del corso e qualifica professionale</a:t>
            </a: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(resp. Gestionale, resp. Scientifico, referente interno ecc.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N°partecipanti  tipologia attività e mansione  alla quale si rivolge il corso   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escrizione unità formative (contenuti,obiettivi, durata, metodologia  didattica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alendario lezioni (con date orari,  sedi di svolgimento e docenti)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modalità di verifica  frequenza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curriculum docenti</a:t>
            </a:r>
            <a:br>
              <a:rPr sz="2000"/>
            </a:br>
            <a:br>
              <a:rPr sz="2000"/>
            </a:br>
            <a:r>
              <a:rPr b="1" lang="it-IT" sz="2000" spc="-1" strike="noStrike">
                <a:solidFill>
                  <a:srgbClr val="0000cc"/>
                </a:solidFill>
                <a:latin typeface="Tahoma"/>
              </a:rPr>
              <a:t>- dichiarazione di conformità</a:t>
            </a:r>
            <a:endParaRPr b="0" lang="en-US" sz="2000" spc="-1" strike="noStrike">
              <a:solidFill>
                <a:srgbClr val="827f4c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3348000" y="692280"/>
            <a:ext cx="1295280" cy="287280"/>
          </a:xfrm>
          <a:prstGeom prst="rightArrow">
            <a:avLst>
              <a:gd name="adj1" fmla="val 50000"/>
              <a:gd name="adj2" fmla="val 112719"/>
            </a:avLst>
          </a:prstGeom>
          <a:solidFill>
            <a:srgbClr val="aaa57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Il programma formativo  può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essere richiesto da AASSLL</a:t>
            </a:r>
            <a:endParaRPr b="0" lang="en-US" sz="40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060280"/>
            <a:ext cx="9144000" cy="23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Contenuti minimi del corso  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distinto in base a :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Tahoma"/>
              </a:rPr>
              <a:t>-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attività a minor rischio (solo vendita, somministrazione, deposito e trasporto alimenti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- attività a maggior rischio (produzione, trasformazione, manipolazione  alimenti , somministrazione)</a:t>
            </a:r>
            <a:endParaRPr b="0" lang="en-US" sz="3200" spc="-1" strike="noStrike">
              <a:solidFill>
                <a:srgbClr val="827f4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15:40:02Z</dcterms:created>
  <dc:creator>zappavigna</dc:creator>
  <dc:description/>
  <dc:language>en-US</dc:language>
  <cp:lastModifiedBy>nicosia</cp:lastModifiedBy>
  <dcterms:modified xsi:type="dcterms:W3CDTF">2013-07-03T16:42:05Z</dcterms:modified>
  <cp:revision>94</cp:revision>
  <dc:subject/>
  <dc:title>Regione Liguria Ufficio Veterinaria e Sanità Animale</dc:title>
</cp:coreProperties>
</file>