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</p:sldMasterIdLst>
  <p:notesMasterIdLst>
    <p:notesMasterId r:id="rId38"/>
  </p:notesMasterIdLst>
  <p:sldIdLst>
    <p:sldId id="256" r:id="rId39"/>
    <p:sldId id="257" r:id="rId40"/>
    <p:sldId id="258" r:id="rId41"/>
    <p:sldId id="259" r:id="rId42"/>
    <p:sldId id="260" r:id="rId43"/>
    <p:sldId id="261" r:id="rId44"/>
    <p:sldId id="262" r:id="rId45"/>
    <p:sldId id="263" r:id="rId46"/>
    <p:sldId id="264" r:id="rId47"/>
    <p:sldId id="265" r:id="rId48"/>
    <p:sldId id="266" r:id="rId49"/>
    <p:sldId id="267" r:id="rId50"/>
    <p:sldId id="268" r:id="rId51"/>
    <p:sldId id="269" r:id="rId52"/>
    <p:sldId id="270" r:id="rId53"/>
    <p:sldId id="271" r:id="rId54"/>
    <p:sldId id="272" r:id="rId55"/>
    <p:sldId id="273" r:id="rId56"/>
    <p:sldId id="274" r:id="rId57"/>
    <p:sldId id="275" r:id="rId58"/>
    <p:sldId id="276" r:id="rId59"/>
    <p:sldId id="277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notesMaster" Target="notesMasters/notesMaster1.xml"/><Relationship Id="rId39" Type="http://schemas.openxmlformats.org/officeDocument/2006/relationships/slide" Target="slides/slide1.xml"/><Relationship Id="rId40" Type="http://schemas.openxmlformats.org/officeDocument/2006/relationships/slide" Target="slides/slide2.xml"/><Relationship Id="rId41" Type="http://schemas.openxmlformats.org/officeDocument/2006/relationships/slide" Target="slides/slide3.xml"/><Relationship Id="rId42" Type="http://schemas.openxmlformats.org/officeDocument/2006/relationships/slide" Target="slides/slide4.xml"/><Relationship Id="rId43" Type="http://schemas.openxmlformats.org/officeDocument/2006/relationships/slide" Target="slides/slide5.xml"/><Relationship Id="rId44" Type="http://schemas.openxmlformats.org/officeDocument/2006/relationships/slide" Target="slides/slide6.xml"/><Relationship Id="rId45" Type="http://schemas.openxmlformats.org/officeDocument/2006/relationships/slide" Target="slides/slide7.xml"/><Relationship Id="rId46" Type="http://schemas.openxmlformats.org/officeDocument/2006/relationships/slide" Target="slides/slide8.xml"/><Relationship Id="rId47" Type="http://schemas.openxmlformats.org/officeDocument/2006/relationships/slide" Target="slides/slide9.xml"/><Relationship Id="rId48" Type="http://schemas.openxmlformats.org/officeDocument/2006/relationships/slide" Target="slides/slide10.xml"/><Relationship Id="rId49" Type="http://schemas.openxmlformats.org/officeDocument/2006/relationships/slide" Target="slides/slide11.xml"/><Relationship Id="rId50" Type="http://schemas.openxmlformats.org/officeDocument/2006/relationships/slide" Target="slides/slide12.xml"/><Relationship Id="rId51" Type="http://schemas.openxmlformats.org/officeDocument/2006/relationships/slide" Target="slides/slide13.xml"/><Relationship Id="rId52" Type="http://schemas.openxmlformats.org/officeDocument/2006/relationships/slide" Target="slides/slide14.xml"/><Relationship Id="rId53" Type="http://schemas.openxmlformats.org/officeDocument/2006/relationships/slide" Target="slides/slide15.xml"/><Relationship Id="rId54" Type="http://schemas.openxmlformats.org/officeDocument/2006/relationships/slide" Target="slides/slide16.xml"/><Relationship Id="rId55" Type="http://schemas.openxmlformats.org/officeDocument/2006/relationships/slide" Target="slides/slide17.xml"/><Relationship Id="rId56" Type="http://schemas.openxmlformats.org/officeDocument/2006/relationships/slide" Target="slides/slide18.xml"/><Relationship Id="rId57" Type="http://schemas.openxmlformats.org/officeDocument/2006/relationships/slide" Target="slides/slide19.xml"/><Relationship Id="rId58" Type="http://schemas.openxmlformats.org/officeDocument/2006/relationships/slide" Target="slides/slide20.xml"/><Relationship Id="rId59" Type="http://schemas.openxmlformats.org/officeDocument/2006/relationships/slide" Target="slides/slide21.xml"/><Relationship Id="rId60" Type="http://schemas.openxmlformats.org/officeDocument/2006/relationships/slide" Target="slides/slide22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PlaceHolder 2"/>
          <p:cNvSpPr>
            <a:spLocks noGrp="1"/>
          </p:cNvSpPr>
          <p:nvPr>
            <p:ph type="dt" idx="10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8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1" name="PlaceHolder 5"/>
          <p:cNvSpPr>
            <a:spLocks noGrp="1"/>
          </p:cNvSpPr>
          <p:nvPr>
            <p:ph type="ftr" idx="11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6"/>
          <p:cNvSpPr>
            <a:spLocks noGrp="1"/>
          </p:cNvSpPr>
          <p:nvPr>
            <p:ph type="sldNum" idx="11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F85EE-7D57-43AB-BF38-41860554F95D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C34A-5DC5-47FC-8649-7F6FDD6505E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3FFB-1F95-4096-9180-A406B9DB2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806B-B3A4-4FA8-9B5C-3FEBFA749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E51562-5300-4560-AE0C-92FDC7E3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ACC63A-DB34-4DE4-9041-66565A193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C785DA-59B9-4246-96E4-0D647A7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E3285-7FFC-4F2E-978A-43D54CD3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D7486-CDB3-4D55-A35F-38B6E7F31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4E3F24-4C5F-4D39-AD14-182671FE0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36E16-AB10-48CC-BC2F-6181CEBA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6C28F-81B2-4EB6-96E6-F1AD0874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264AA7-225E-437F-B37C-E75559772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CA30EC-A085-419A-B002-6A3AC74D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9D00-9AC9-431D-9FDF-ADBB50638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DEF6F-4ADA-4F3D-8C09-503DD6AE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F55CD-ED41-4C0A-A964-F97FF744D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0018BF-150A-443E-830A-6A9410ADC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7B1A0F-F607-4D35-BBDA-85B6B1916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0EA43-CEF4-4E79-A862-F59784402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99C8F2-36B8-41F2-BEA1-E68D78C2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631156-22C7-4EEC-913D-C08C0D0D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10772B-BA2D-493B-948C-AECFE391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422B9-098D-41A9-86F3-3EAD1A59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FD4929-2973-4BE4-89BA-F3BF422F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0B8-C532-4969-B34C-B1AD7AF6E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9284BF-949A-4117-A637-94B6BACA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6F7E4-0BF8-49BB-BE56-89F629ACF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0201AE-B9B6-46AF-B12E-D7558A02D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93B89A-2E3D-4A86-AA98-0B46D1228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F7B9B-473C-45F0-BD4C-DE0C58A3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6A3EE1-934B-460C-B6E3-1901973C3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13CD-BB21-4AEA-BD09-0DA872452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2F9695-FF4D-495B-968E-FB86C8D2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E0495-663B-4E51-8453-693D1A699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199E2B-C8B4-476C-9788-015BBBA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38BC7-A059-4327-842B-8B1C042E4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484935-4C6F-4DE0-85EC-691DDBEE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327BAC-B1E7-404E-BFBC-4F606CAF1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4BD08C-9972-4CE0-8265-4234C4D33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C3056-8816-4905-9CFF-D2093BB0E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6502D1-E2CB-41AF-9511-529F7FB8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8E6429-1340-4CF5-AF3D-1644A4EA1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04CE6-C2FB-4FB8-8D07-9C24A9988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865D5D-7141-4810-B7D6-2920B36CB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F6BD15-B77D-470C-9561-670924D5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046AC1-B903-4D86-88E3-A8BA290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988D-F20E-4FF1-9312-E2C5BBA9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690777-C9B9-4FA0-A366-2E4697398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23B88-3512-47F0-819E-FA4D58526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FA39D-1A7B-4E12-A4E4-520AFAEE6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2EC938-79F8-4FBA-A19B-609B54FFD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50AD2-D5C8-4089-8A19-930CC4C7D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B46025-D64A-46F3-8A5B-EE85A5EA3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2EED2-FC3A-4574-BCBB-F04DD82F3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6F102-8249-4AA2-998F-4BA9CF52E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464B00-09B9-403C-9661-74A1BFBE0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6CE9F-A80D-4C4E-9CA3-43E837223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0BE1E-27D8-4752-B6C2-AC7CBCADB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7C6271-FA1E-4068-BEE8-204EE99F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A5BF41-8438-4A36-8772-7656C4F7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1B040E-D8FD-4D9B-99A7-26209D37E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41DEDE-4868-4D81-97C9-214F616F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2ADF5F-DF6B-4479-8A87-A25AAE492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E3C52-F957-4A02-8891-1A42F1F1F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8B8221-2B94-4534-9642-CF25C60D3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E64E10-C306-49A2-83B5-D4DDE964A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AB50FA-F662-41AB-B640-574D11685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D33F7B-F9DD-4D80-8B30-9886730ED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2F5F-0052-4DD1-BC82-ECCFB9601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140B75-5AE9-439F-963A-57DCC8BDB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6FB64B-1431-4CD7-B480-125356FD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4577AE-19A4-49F0-8EAB-56B829CCF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AAB98-4F55-412B-A582-B75BA4C17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2B96F0-6C46-416F-B493-1DAC1688A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95D7EE-DB49-4F87-840B-F556D392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95CBD6-1368-448B-926D-B28A4679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2DC450-A3E3-4126-A091-8AF4219C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13778-AF16-4794-9647-7A6A5B32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57D4885-0FC9-47B2-9879-40371BA6D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476D9-DEFE-444F-BD8E-315393D4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A8B914-83DA-4F5F-A835-DC13BB1D6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F0CEEA-8B95-49C6-9B2C-F28BE0B1B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1BC848-B0E2-4CBA-9110-E296709E2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4B6F84-A1AC-4D93-ACCC-7F7BFCAC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1D032B-9C88-467E-9582-4C93FCC40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89289D-457D-4A74-A012-D5E5A8CE1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DCD2A-27E8-4C96-BAC8-37411FEE6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80D7AF-E636-4D77-82E5-ABDED7DF7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D42D96-F26D-4A42-9C19-FEB7B4A61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C46CCE-A36F-4EC9-BC73-67A6A04F2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80878-3A84-4A44-B292-45B32F58B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79CC2BE-F9B3-4A18-8651-340028615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EFF373-1774-473D-8657-A820F4CF1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21C37C-FA1A-4780-9376-5DC5C1859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D2C2B4-6A76-4646-8F5D-7B96E92E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0B53E4-F230-4FC5-B80C-2212E936C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35524E-D7BF-4C20-AD58-7399EF76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875E31-5D15-40BD-A035-4CD605D93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687BBA-C2C7-4923-BDFB-476764EEE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21D2C4-5D49-473B-BA02-11F366EE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2517FA-8B0E-4DE5-B0FF-71B2D700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A802-9429-41CD-87A6-E71F166C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EA6D7-D6B9-42D3-9CC6-EFFFD770A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7F80C7-9024-466A-AA12-421A335B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8B0A4E-D5CF-456C-A884-5DE401CB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5E346E-F293-4B8E-A967-C3A64A236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5B257-6285-41CF-9069-D41C5D716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3284E3-2AA7-48AD-985A-54C5AB5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69254A-8A32-4857-9B5D-2D554BACE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81D59E-D7E1-4649-A435-A6F65BDE3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2FE940-07C7-4B73-977C-A8BA9C550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FF0FE8-0A19-4832-813A-9A046AED2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088F-B21D-4568-B111-AF35A987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A424-C3AD-4C65-A3E9-673914456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BCF379-059D-4824-9879-69545BDC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B5036F-F8A0-40BA-951B-EAF199ABD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BA7196-BACE-448F-B725-4D48A0071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F8D307B-3626-4C69-BB7D-2AD1EFB70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08235A-E6BC-4E7D-872E-5AD05B0EB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51042C-8D5C-4D2E-9C5B-E711BF88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FF37A7-3A62-4D3E-8D55-E20B3EB8F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8F403-F751-49F7-8D95-B8B873321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E34277-D215-4812-A5DC-0240FB93B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10036C-F15B-4BE1-8605-FF6C65D3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B058-0809-4762-8AEE-977355567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4D6D00-8DA7-4477-9A07-53B453FB8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EC5D6E-AEDF-422F-B3BD-143FE80B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CF2C12-1A9C-4132-A79C-A99B86FDC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F70ABE-F5B4-4685-9063-9EB9B889B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EE2C3A-F736-470F-87D3-E6AFF458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47CF13-744F-446C-96DD-C5055E23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160959-7715-402F-A635-31BACB568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7636EA-BA00-417E-AB11-8129C823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B2BA84-F248-4331-B586-8BBEE3DB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F45780-1A2E-40F9-974B-12A2B19AD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CCCEA-9A66-4D11-9704-844148BF6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2FD42C6-F3AB-4F60-B55F-3093517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D93C10-C71C-4672-8AC7-040F62540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94DBAD-DACB-42C4-BA5C-47D0DFFB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91D3D-2A1C-4D10-A88F-694CCEF8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6C4949-9B05-42F5-80D2-B796B70A8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294861-4564-4C8C-9EBB-D9E5FCE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6B3370-5322-493C-8B35-8C91BC54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DF083E9-F835-4CB3-81BD-3745F8546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6A7483-274B-4895-B1A3-C20DDE912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9DB73A-C267-4B69-B9D0-A352A3C7F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CBF1-D35E-4D3D-AA05-FECC4A739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C8976AB-03B8-4FAE-A972-3813723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BD16EB-491C-40C4-8BD2-4007B45B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154B1F-9D7B-4E81-BF9A-CB3C2751F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1AEF9E-6145-4F36-B0FC-3B9500FE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A852B7-C4B3-4E52-BA63-C3AAA2FC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BBF667-CBE6-4E51-B008-496AA83B8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A6A48B-7B93-4A0C-A7FD-C08934065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916CE9-3D86-4E28-B814-5191741CE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89B793-73CF-425F-AEC4-FEC82E0F1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A377A6-8F1F-4E54-ADA5-D9ADD0EF5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F85C5-0999-4780-A1A3-38BE1250E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5C3DF2-9F14-4C7E-97EB-45B7E50AA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4243A8-CF20-4E9F-81D8-C951E7CE6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DC7B2D-97D0-4C34-903E-F130E0E9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94DD8F-727E-4508-A952-018BD82B9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856730-DEE9-4E74-834C-397794C53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693066-7582-443D-BF08-CD828A1D5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79B4A-4600-4254-AE53-E765F181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74D040-3600-444E-8E43-CD1148EA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DACCB1-24AE-44D5-BBB2-CC3F3507A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F4CA83-4D0B-4048-AFAC-F3481604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E8CA1-B617-42D7-B548-9D2FF718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839E778-CE73-481B-81AD-57C08688E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B6732C-33E2-4A10-B435-96753A928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402D82-C6A0-4A1C-A253-456D58F6A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5EBB40B-0272-4341-84C0-7A2E0DB61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4B2ACC-BD13-4480-8F52-8F79F1F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E56A4-9911-4CD0-82F4-1080D2C5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5B2F9AA-7E53-4EF1-A6AF-D72756FE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EBB3B8A-E193-4B3E-9B2D-5635B007A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B07D90A-B9E1-46E8-B1C7-374BF3AD8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F67BE9-18DF-488D-B8DC-E8971B3B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4D60CB-E8B7-4EAA-88E6-8F32160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961D8AC-F456-4961-A67E-B29B4CFA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83D9EC0-4388-4765-8656-C88DBCDA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00FA85-E5B7-4E6B-B9B5-4B74F08B3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36414E-24CE-4DC2-BC93-228F74F7A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E26122C-1EF6-466C-9E89-90542AE1B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6CEBB6-E6F4-49E0-944F-D49B2A74C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4A1E60-1369-446A-BFC0-AB9B20EEC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49742A-CD67-43EE-9E4F-A935870B3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3F58CD-6B66-4A27-BB51-1487AF8D5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C4509E-B494-401B-8F85-D2A8B77E3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815ED-9362-4553-9411-4404D6F1B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A7FC466-2A8E-41F1-89E4-83734CAB9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03B7B4-F6CE-49A2-B9B7-6D610522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42E472-8E36-4A50-A3DA-A88408498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23EB53-BA23-4003-A265-7E72D5098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C03C1DE-0C5A-43FE-9294-A038BB375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566F108-A501-48A2-B201-C9791876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B94EC0-EC2F-4446-8D0F-C1B79AD97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81B47B-C7DE-462A-8356-12493553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639730-B4C1-4D2B-9534-35F318A4F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78EBCD-4AC1-4E87-AE91-51B12EDF5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269639-03BC-4812-831B-4A589609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D1576EC-F413-44C6-890C-C92C465F3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22B638-9AF4-4728-A731-1C73B8A4B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93BA47-B15A-4822-867A-62DCCAF6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F35422-B5A0-4B1F-94E4-805BCF8A4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89FBD66-8F22-4406-85A4-61DED866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DC1044-647F-4662-B231-EB2C3E0C3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60DD70-7990-4C10-814C-BC712E38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7D388F-D822-4D1B-83E5-9E547BB1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5DDF9B-3191-4A97-AC33-491F33C9B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287AA53-C6A2-4039-ADE5-851207600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60965-A80F-4B10-94BD-7C04D620C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C083D5F-A391-4EEE-AD8C-EB28C40E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3442DE-C4B2-4950-8015-46221CC62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B9F03F-E1B6-4ED5-A7D6-F51F1BE0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6C4C0A-D2B9-4710-B626-54CE66E1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98743D1-AD3D-4E51-8000-C1410D8A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D8C879-D401-40A1-9FED-D371EE4C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AE89B9-4AD4-40A9-9A36-2BD30EAD7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9E8FC2-2CA7-464D-9BB2-02F1F496B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E9FD47-7497-4BF1-9306-75938048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F14B24-F116-433B-B0A2-261489430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23B-31D0-4C33-BA8D-1AD2F92D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619824-1522-4F7F-BF4C-367907B17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669F37C-8058-491B-A932-A3979553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523330-57A6-4328-A9EF-BD5EC63AA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DCA0BFA-C180-49AB-8823-2BF1F77EB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B3C3957-7DC9-459C-AA42-373BFE3D5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91692C-2C7F-472A-AAB0-65BCB8615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29A949-8785-4617-AB55-4EE2C8D70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0BB3D91-8F21-4FB5-93CC-7BB17381F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B93D064-2BA4-4ADE-9363-B9526F43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FEA573-4F5B-49FE-AF72-300EF3FF7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4B49223-CFB5-40D1-91C9-F18BE19D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8F6F9-BC21-4CBD-90D0-44DA98E58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ADAF645-C3A6-4024-B1A2-369E0E51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918AF6-B5A9-4970-8141-D814645D5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E57911-EF2B-433A-9316-ABF33F9D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5020AE2-4FA9-4E68-B213-7473BF68C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4377C3-493D-483C-9CA0-FDC59CB1C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CB0D256-94B4-46C3-9D65-E7493229E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89EF860-87B6-49DD-A11E-9E8E4F342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603A89A-6DB5-48D8-A9DF-EB65669C6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08974A8-BF46-4FEC-96B3-7FBA7F860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C308477-7D50-45E6-9132-85114BDB7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00CA7-5F9C-45A1-AA53-3FFFB7FE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9828B1-0DF2-4B88-99C3-332B93949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E09242-4F7F-440A-83B8-119017F83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23AB77-D2D6-4333-BAB9-23EFE0682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A144C3-0B39-426D-A2BE-A0EF4DEB3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C9E8470-3A74-473B-82E8-F5FC1473C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345DF6-62AD-4E19-B3BC-9CD0A448B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E8F459-7D73-4018-AD2B-365FDDDF9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3D641E-1E92-4F78-9F50-0ECA4EF6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FA1813-514E-4430-852D-8593755B5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2BD2C8-6EEB-4170-8C82-9B1D5147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E92A2-FE1B-4F85-9ED8-A86DDA7D5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FB0816-9C4E-46A2-AFF9-BC53F513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6435BC-5F77-42EC-BB0E-4928C7CF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A60117-4862-4492-B9C3-D98F5D72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6E2D4EB-4505-4C71-873E-EFD72598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2F4BE4-493E-4F87-BE97-42F4D25D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A9E191-72F6-4A05-B20A-F333387FD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835E48-2D8B-48BF-9583-5E85647E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DCD0C2A-FE43-423E-972F-209B4EB82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0B06EF-930A-47B6-9710-76EEF7990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787D2F0-1259-41B2-9E05-816124B9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86713-E3D4-4354-8945-20BC529FA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02C4D42-83D6-46F8-AD80-500794E1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480E84C-3C99-4230-9C8C-552AA178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D7C2BE-C940-4AEC-BD7A-A28D60C18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2C03BF-5AD9-48BC-9635-720F1DBF2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17D4A6D-2D93-45E2-855B-8CB67C310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E5A55A-841C-4D2D-9E86-5D7C7A70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9C5A47A-8F83-4834-A6FD-F87CDDE8D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8966B-5F4C-4472-9340-1C66874D2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CA5EF8-9AF1-4B1F-8361-69733F0AD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DE48E2A-6B14-4C18-A7B3-B8A7C3CE4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B8BD-23E2-4147-9079-A04A804D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07B29D-2C2E-424E-97E9-11536717F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FD593EB-8CF2-4A6F-BDA3-00BFA97A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D4E1293-2627-45FD-A15A-2DC037BA3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01E0988-804F-4E26-BEC1-4807B004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F3EF53-F4C8-4647-B045-363D80625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67315F-B0BF-4378-A8F3-0322206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54436F-21AF-4E8A-A09C-DFF63536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E6E501-CDC0-4BD7-A9AD-8E6A75E57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F8B81AC-E1C3-4DDB-82CE-CE37D92C6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3275DA-8F29-4E02-9098-95285584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3DD57-4B16-4147-900B-08A757DD1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321897-16D0-437E-9A81-7E1CE6D1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A53D2D-6DCE-4912-8D4D-BDAED74BD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E1914D-661C-4A8B-AFD9-CEFE6993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20A92B8-D022-4627-81E8-9EE5C8D1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42F097-20C3-4006-84B8-673836FD9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99BA26C-D9F2-429B-8D33-36480E373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D04A0F-CFE5-4B9E-A5FF-A9EC26A83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61B280-9EC1-4637-8B45-E52ECFB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DFC464-B3BD-4FDB-84E4-88B50EAE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BEE54FD-7EAF-4508-A007-23BE3E28D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EF87A-23FA-4296-8C89-06AF04EF4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87C8EAA-BD40-4676-9136-FAF88C33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49FCF9E-3ABE-4140-B3F2-9E4005AEB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1DF6FDB-993C-4E15-BD4D-44A6C0FBD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D7603C-EE6D-4767-8D43-DCB42FF3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1A6AF62-4D94-4725-AE28-3CCC01D8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355A5FA-2D8D-4989-B0DE-81BDA2527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86FF4C3-9F2A-4F7D-8E1B-9DE2C3FF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87A050C-F9A2-4189-A7DF-06AE645FD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6A56F0B-0230-4D58-B77C-B9CCB6827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91AEE4-C4FD-459E-BFBF-0F323582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AC7DD3-5D55-4DEA-AB35-BB7E23D0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2BFDA94-CC13-4C20-B931-320D0AC1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BFCA453-22B3-4C2B-A202-5E794060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993979-87EE-44C1-9B5F-697613DD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3FF562B-DF67-4BE3-A4D2-B33B99C6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FE46BE-D906-47C0-A179-DAFF02520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AC118F-7E6F-4817-9023-C0DF88EBA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584E29C-845B-44CA-8BD3-A9AA0D516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AD8C529-DE8F-42D6-8932-13CBD66A9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92FB9CA-A7C4-4596-8751-240E7C778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18C34D0-34B8-49B7-A8CB-77DFDFEA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A8E6F-49FA-48B6-A1E2-E414ECDF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7DF646C-93F6-4478-B782-F12859876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F5B282F-41D6-44D4-9FF0-AC001F41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FFF4FF-2B01-418A-A3A1-7147FBDFE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8D0206F-75BA-4008-974A-91A8E6AFE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6EEBC65-8D9A-4A72-885A-F8F0638E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0C517B-7116-4658-BBDF-1CF5E2835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F59FBA3-2FA8-41AB-9692-E9687CE0A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94C8C6C-B810-40C9-8D5C-FB5CD21C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3300B5-43D0-4825-9765-13C72BB65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8DBBC40-0860-4755-ABE9-5D9F06A47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A5AD-D8C7-47C6-8824-2F176D671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52F6D-7D0D-4E09-B680-8523263B5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A046C1C-E840-4011-9772-1926AE9EB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0AED42-9DDD-4180-A2AF-3B41C5D4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329ACCD-B1D9-4A4D-BEDE-45F17A0C3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26FD49A-22CE-4011-A3AD-D0B7024A5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56D270E-A4B9-4A40-87F8-29CB176A9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138497-9BE5-45BE-89D6-5F8C70A49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48C3261-7CDB-44C5-B785-AA389BA6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BBFC87E-0B2D-4583-BA76-5CD1D51E3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759BDA-4FD5-4C34-B596-D7BFEBEDA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124D7CB-1D04-4AB1-BEDF-460C39ACD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F63231-A847-4522-A124-62EF0F08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D629112-DE8F-49DF-8627-AD665D721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0601BB-3BC4-403D-BB77-A59F4D63A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DD6DAA-02DE-482D-AFE5-7B107025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932C510-B51A-48E2-9E9D-ED2C01031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7E4D404-3A8E-44C5-A274-DE7859D0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195A980-51E3-4D90-824D-FCD493C4B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E581A2-7FA2-4882-8CE2-114F28381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153600B-89BB-4595-9D50-0B7A4951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3C57EC0-EB6B-44DE-A4A9-68E59F8EE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D50BEE-4398-4C2C-9C3F-A1251B050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84070-E3DD-4175-B0D9-3FD57B2D3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F4A6BD-5257-4AC3-8296-B5D3C2FCF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D434E00-75FE-4129-904F-AB7543E7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A55876F-4BF6-4B91-9D06-6EDE833B6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ECA2391-ADB9-4BAC-8C49-C24BDC325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D0A7F98-B599-4B4A-B0B2-C1E25E9AC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DA2D8B0-A86F-496E-B42A-7A997C0E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9E4A5E9-8F65-4A1A-B0DD-0E891283E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177CD2E-43B2-48F8-8F97-F6F8199DB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F06A068-55C7-44C0-8FD2-4EEBDBE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CFB65CF-C43B-4D0F-9D49-C3D55DAC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A02D9-1A91-4A0D-BC2D-A59477B92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516D102-C5D8-44DB-BE3A-8EA911CD0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8FE04DE-F867-412B-9E6D-3B8A3CA02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3FC2B33-4126-478F-B727-8500BD49B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9E136-609E-48F2-A0A5-0894AF77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5EDBC-B871-4DD2-B52D-346C38DD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7DBD3F-1FBB-41AD-8194-E3D3E50F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52B0B5-8B1E-4A9C-B981-A0B5A0E6B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23090-F3DA-43D1-B158-EB75541E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6FFB8-BF85-4951-8B3B-699606A9C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F2E7-20B8-462B-9713-80E3D7FDB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CA4ED-6871-4C5B-B29D-8A752976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A655-2B6A-4287-AE96-0391D9C94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250ED-F0A3-44E9-A4DD-1F748BFF9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D7CF17-AE5B-4A3D-B1B4-B195D900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50AA8-724F-4945-862B-58BE70999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FB4E8-94EB-4B8A-A973-40BCC2DE5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FE7E1C-5D88-4A1D-A3C0-D49153B8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67E93F-64DB-4390-8D61-DA2E2449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B66BE2-4455-4D2D-9B69-DD044F6D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747F7-8047-4EDA-A380-B2D505314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2BDC-F6D0-417C-AA40-589BA6FB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3F14E-E144-4813-A9A1-F3FB0C4A0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62EEB-A601-4D28-92E7-DF4CE034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43F4C-B194-4A30-B994-F0711334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064225-3C94-4E6A-B8BD-2B973DAC7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2BE9F-6939-4F1F-9D8D-39E5F9125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C1375-A836-41F6-8B64-2E8AA7886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D5B55D-2008-400C-8480-2DAB549CD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10F86-2D8A-4554-977A-ED7E9EB4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534D-B475-4B7B-A0FD-BEAF164F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4278A-3888-4040-8A9F-A73E7697A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8644-62C6-4BDB-9A8C-E6D8A8201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37BB4C-4766-4D32-A5A7-66D8FD0F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8580E-E753-48F3-B9C5-A693A27E1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B91C1-95F1-46B1-886F-F14E1982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168A0E-DF35-431D-A10F-0C1BEE4E0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2C7E2-9ED0-469E-A397-CDDB2FAEB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9B366-AD70-4C6B-8985-C3C131BB2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24E372-89AB-4E7D-A50D-33041495D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BD71AD-5612-4994-BC7D-A0DC99E8A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E6EC6C-4A60-4F03-8F40-45C4ED89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5916B5-4C68-4CC5-A96E-5C88A0CE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1E3A-835B-4707-AE9E-6E720ED5E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84C197-4D88-4783-A524-70C9B2CA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FF14D4-BD4D-4761-8360-623B433B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728FDB-2A14-445D-AEBB-2D6F0AFDB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C104F-FE3E-4DB2-898B-AA5360BE2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686567-D911-40E0-96F1-187595CB7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DF22B0-B818-42B7-96DB-BAEDC404C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49A9B-FC72-498A-81C5-6F9DBE96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88091-4E76-481F-9819-4A790232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1F696-EF01-418F-8887-630C91D30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11A7DE-79A8-4C40-A34E-432C1C72F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F4A-9B27-4139-A1B4-60E35E39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25814E-CC19-434F-A1D9-95202F4C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82CAAE-E154-4059-8FAD-522117CA8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04FC31-9D75-4029-A6F9-37B43B887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597C86-13B4-4F79-8C9C-44CAC1D51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DD34EA-DB81-49EC-B834-14A71CF9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3C6D46-57E2-4D3C-87BF-FAE68C63F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1A0965-E984-4C2F-B0A2-9E154C7FB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DE0652-DB1F-49CB-BE19-30022E50B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DD89DA-DF94-43A0-8AD3-49F18E863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C77AC-4F8C-44A2-9C3D-0AB2BA555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37.xml"/><Relationship Id="rId4" Type="http://schemas.openxmlformats.org/officeDocument/2006/relationships/slideLayout" Target="../slideLayouts/slideLayout338.xml"/><Relationship Id="rId5" Type="http://schemas.openxmlformats.org/officeDocument/2006/relationships/slideLayout" Target="../slideLayouts/slideLayout339.xml"/><Relationship Id="rId6" Type="http://schemas.openxmlformats.org/officeDocument/2006/relationships/slideLayout" Target="../slideLayouts/slideLayout340.xml"/><Relationship Id="rId7" Type="http://schemas.openxmlformats.org/officeDocument/2006/relationships/slideLayout" Target="../slideLayouts/slideLayout341.xml"/><Relationship Id="rId8" Type="http://schemas.openxmlformats.org/officeDocument/2006/relationships/slideLayout" Target="../slideLayouts/slideLayout342.xml"/><Relationship Id="rId9" Type="http://schemas.openxmlformats.org/officeDocument/2006/relationships/slideLayout" Target="../slideLayouts/slideLayout343.xml"/><Relationship Id="rId10" Type="http://schemas.openxmlformats.org/officeDocument/2006/relationships/slideLayout" Target="../slideLayouts/slideLayout344.xml"/><Relationship Id="rId11" Type="http://schemas.openxmlformats.org/officeDocument/2006/relationships/slideLayout" Target="../slideLayouts/slideLayout345.xml"/><Relationship Id="rId12" Type="http://schemas.openxmlformats.org/officeDocument/2006/relationships/slideLayout" Target="../slideLayouts/slideLayout346.xml"/><Relationship Id="rId13" Type="http://schemas.openxmlformats.org/officeDocument/2006/relationships/slideLayout" Target="../slideLayouts/slideLayout347.xml"/><Relationship Id="rId14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61.xml"/><Relationship Id="rId4" Type="http://schemas.openxmlformats.org/officeDocument/2006/relationships/slideLayout" Target="../slideLayouts/slideLayout362.xml"/><Relationship Id="rId5" Type="http://schemas.openxmlformats.org/officeDocument/2006/relationships/slideLayout" Target="../slideLayouts/slideLayout363.xml"/><Relationship Id="rId6" Type="http://schemas.openxmlformats.org/officeDocument/2006/relationships/slideLayout" Target="../slideLayouts/slideLayout364.xml"/><Relationship Id="rId7" Type="http://schemas.openxmlformats.org/officeDocument/2006/relationships/slideLayout" Target="../slideLayouts/slideLayout365.xml"/><Relationship Id="rId8" Type="http://schemas.openxmlformats.org/officeDocument/2006/relationships/slideLayout" Target="../slideLayouts/slideLayout366.xml"/><Relationship Id="rId9" Type="http://schemas.openxmlformats.org/officeDocument/2006/relationships/slideLayout" Target="../slideLayouts/slideLayout367.xml"/><Relationship Id="rId10" Type="http://schemas.openxmlformats.org/officeDocument/2006/relationships/slideLayout" Target="../slideLayouts/slideLayout368.xml"/><Relationship Id="rId11" Type="http://schemas.openxmlformats.org/officeDocument/2006/relationships/slideLayout" Target="../slideLayouts/slideLayout369.xml"/><Relationship Id="rId12" Type="http://schemas.openxmlformats.org/officeDocument/2006/relationships/slideLayout" Target="../slideLayouts/slideLayout370.xml"/><Relationship Id="rId13" Type="http://schemas.openxmlformats.org/officeDocument/2006/relationships/slideLayout" Target="../slideLayouts/slideLayout371.xml"/><Relationship Id="rId14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3.xml"/><Relationship Id="rId4" Type="http://schemas.openxmlformats.org/officeDocument/2006/relationships/slideLayout" Target="../slideLayouts/slideLayout374.xml"/><Relationship Id="rId5" Type="http://schemas.openxmlformats.org/officeDocument/2006/relationships/slideLayout" Target="../slideLayouts/slideLayout375.xml"/><Relationship Id="rId6" Type="http://schemas.openxmlformats.org/officeDocument/2006/relationships/slideLayout" Target="../slideLayouts/slideLayout376.xml"/><Relationship Id="rId7" Type="http://schemas.openxmlformats.org/officeDocument/2006/relationships/slideLayout" Target="../slideLayouts/slideLayout377.xml"/><Relationship Id="rId8" Type="http://schemas.openxmlformats.org/officeDocument/2006/relationships/slideLayout" Target="../slideLayouts/slideLayout378.xml"/><Relationship Id="rId9" Type="http://schemas.openxmlformats.org/officeDocument/2006/relationships/slideLayout" Target="../slideLayouts/slideLayout379.xml"/><Relationship Id="rId10" Type="http://schemas.openxmlformats.org/officeDocument/2006/relationships/slideLayout" Target="../slideLayouts/slideLayout380.xml"/><Relationship Id="rId11" Type="http://schemas.openxmlformats.org/officeDocument/2006/relationships/slideLayout" Target="../slideLayouts/slideLayout381.xml"/><Relationship Id="rId12" Type="http://schemas.openxmlformats.org/officeDocument/2006/relationships/slideLayout" Target="../slideLayouts/slideLayout382.xml"/><Relationship Id="rId13" Type="http://schemas.openxmlformats.org/officeDocument/2006/relationships/slideLayout" Target="../slideLayouts/slideLayout383.xml"/><Relationship Id="rId14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85.xml"/><Relationship Id="rId4" Type="http://schemas.openxmlformats.org/officeDocument/2006/relationships/slideLayout" Target="../slideLayouts/slideLayout386.xml"/><Relationship Id="rId5" Type="http://schemas.openxmlformats.org/officeDocument/2006/relationships/slideLayout" Target="../slideLayouts/slideLayout387.xml"/><Relationship Id="rId6" Type="http://schemas.openxmlformats.org/officeDocument/2006/relationships/slideLayout" Target="../slideLayouts/slideLayout388.xml"/><Relationship Id="rId7" Type="http://schemas.openxmlformats.org/officeDocument/2006/relationships/slideLayout" Target="../slideLayouts/slideLayout389.xml"/><Relationship Id="rId8" Type="http://schemas.openxmlformats.org/officeDocument/2006/relationships/slideLayout" Target="../slideLayouts/slideLayout390.xml"/><Relationship Id="rId9" Type="http://schemas.openxmlformats.org/officeDocument/2006/relationships/slideLayout" Target="../slideLayouts/slideLayout391.xml"/><Relationship Id="rId10" Type="http://schemas.openxmlformats.org/officeDocument/2006/relationships/slideLayout" Target="../slideLayouts/slideLayout392.xml"/><Relationship Id="rId11" Type="http://schemas.openxmlformats.org/officeDocument/2006/relationships/slideLayout" Target="../slideLayouts/slideLayout393.xml"/><Relationship Id="rId12" Type="http://schemas.openxmlformats.org/officeDocument/2006/relationships/slideLayout" Target="../slideLayouts/slideLayout394.xml"/><Relationship Id="rId13" Type="http://schemas.openxmlformats.org/officeDocument/2006/relationships/slideLayout" Target="../slideLayouts/slideLayout395.xml"/><Relationship Id="rId14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slideLayout" Target="../slideLayouts/slideLayout398.xml"/><Relationship Id="rId5" Type="http://schemas.openxmlformats.org/officeDocument/2006/relationships/slideLayout" Target="../slideLayouts/slideLayout399.xml"/><Relationship Id="rId6" Type="http://schemas.openxmlformats.org/officeDocument/2006/relationships/slideLayout" Target="../slideLayouts/slideLayout400.xml"/><Relationship Id="rId7" Type="http://schemas.openxmlformats.org/officeDocument/2006/relationships/slideLayout" Target="../slideLayouts/slideLayout401.xml"/><Relationship Id="rId8" Type="http://schemas.openxmlformats.org/officeDocument/2006/relationships/slideLayout" Target="../slideLayouts/slideLayout402.xml"/><Relationship Id="rId9" Type="http://schemas.openxmlformats.org/officeDocument/2006/relationships/slideLayout" Target="../slideLayouts/slideLayout403.xml"/><Relationship Id="rId10" Type="http://schemas.openxmlformats.org/officeDocument/2006/relationships/slideLayout" Target="../slideLayouts/slideLayout404.xml"/><Relationship Id="rId11" Type="http://schemas.openxmlformats.org/officeDocument/2006/relationships/slideLayout" Target="../slideLayouts/slideLayout405.xml"/><Relationship Id="rId12" Type="http://schemas.openxmlformats.org/officeDocument/2006/relationships/slideLayout" Target="../slideLayouts/slideLayout406.xml"/><Relationship Id="rId13" Type="http://schemas.openxmlformats.org/officeDocument/2006/relationships/slideLayout" Target="../slideLayouts/slideLayout407.xml"/><Relationship Id="rId14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09.xml"/><Relationship Id="rId4" Type="http://schemas.openxmlformats.org/officeDocument/2006/relationships/slideLayout" Target="../slideLayouts/slideLayout410.xml"/><Relationship Id="rId5" Type="http://schemas.openxmlformats.org/officeDocument/2006/relationships/slideLayout" Target="../slideLayouts/slideLayout411.xml"/><Relationship Id="rId6" Type="http://schemas.openxmlformats.org/officeDocument/2006/relationships/slideLayout" Target="../slideLayouts/slideLayout412.xml"/><Relationship Id="rId7" Type="http://schemas.openxmlformats.org/officeDocument/2006/relationships/slideLayout" Target="../slideLayouts/slideLayout413.xml"/><Relationship Id="rId8" Type="http://schemas.openxmlformats.org/officeDocument/2006/relationships/slideLayout" Target="../slideLayouts/slideLayout414.xml"/><Relationship Id="rId9" Type="http://schemas.openxmlformats.org/officeDocument/2006/relationships/slideLayout" Target="../slideLayouts/slideLayout415.xml"/><Relationship Id="rId10" Type="http://schemas.openxmlformats.org/officeDocument/2006/relationships/slideLayout" Target="../slideLayouts/slideLayout416.xml"/><Relationship Id="rId11" Type="http://schemas.openxmlformats.org/officeDocument/2006/relationships/slideLayout" Target="../slideLayouts/slideLayout417.xml"/><Relationship Id="rId12" Type="http://schemas.openxmlformats.org/officeDocument/2006/relationships/slideLayout" Target="../slideLayouts/slideLayout418.xml"/><Relationship Id="rId13" Type="http://schemas.openxmlformats.org/officeDocument/2006/relationships/slideLayout" Target="../slideLayouts/slideLayout419.xml"/><Relationship Id="rId14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21.xml"/><Relationship Id="rId4" Type="http://schemas.openxmlformats.org/officeDocument/2006/relationships/slideLayout" Target="../slideLayouts/slideLayout422.xml"/><Relationship Id="rId5" Type="http://schemas.openxmlformats.org/officeDocument/2006/relationships/slideLayout" Target="../slideLayouts/slideLayout423.xml"/><Relationship Id="rId6" Type="http://schemas.openxmlformats.org/officeDocument/2006/relationships/slideLayout" Target="../slideLayouts/slideLayout424.xml"/><Relationship Id="rId7" Type="http://schemas.openxmlformats.org/officeDocument/2006/relationships/slideLayout" Target="../slideLayouts/slideLayout425.xml"/><Relationship Id="rId8" Type="http://schemas.openxmlformats.org/officeDocument/2006/relationships/slideLayout" Target="../slideLayouts/slideLayout426.xml"/><Relationship Id="rId9" Type="http://schemas.openxmlformats.org/officeDocument/2006/relationships/slideLayout" Target="../slideLayouts/slideLayout427.xml"/><Relationship Id="rId10" Type="http://schemas.openxmlformats.org/officeDocument/2006/relationships/slideLayout" Target="../slideLayouts/slideLayout428.xml"/><Relationship Id="rId11" Type="http://schemas.openxmlformats.org/officeDocument/2006/relationships/slideLayout" Target="../slideLayouts/slideLayout429.xml"/><Relationship Id="rId12" Type="http://schemas.openxmlformats.org/officeDocument/2006/relationships/slideLayout" Target="../slideLayouts/slideLayout430.xml"/><Relationship Id="rId13" Type="http://schemas.openxmlformats.org/officeDocument/2006/relationships/slideLayout" Target="../slideLayouts/slideLayout431.xml"/><Relationship Id="rId14" Type="http://schemas.openxmlformats.org/officeDocument/2006/relationships/slideLayout" Target="../slideLayouts/slideLayout43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D291E-BC27-4A57-AFC0-B7A16E53C86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0854-2095-4264-AF69-A5AB20EBB03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FB9E-6A9F-42A3-AD4C-ED13BC55C7D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4A4BD-AA2D-4B04-9A69-68B7496740D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EEC7F-DABE-4B70-A730-CA0BAD42884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7999-2F59-48A1-ABCC-C274C67EF64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1015-4F0B-4742-A109-EDFEDD4721B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75479-28BD-47CC-9D77-A08FEB43E57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6E4D6-A5C6-4A0F-9E10-C57308DC9B8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F46D9-BBC0-4A9C-ADCA-26DD13DF47D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7371-1F42-431C-B5C2-B387AC15FB7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E826-9203-44DE-877F-E4C4E451A5A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DB9E7-E55D-4C65-84D4-48DEC28A64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01FC8-E513-4065-97C5-8C5EA7BFDE7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3EFDA-B345-4298-AD8A-C36FBAE8FC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FB35-72E3-4DC2-AD46-AB9F3E560B9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CAC7F-8996-4170-8347-F4CEE7DEB47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1FD3-5D2C-4819-B256-65E5C2F16EE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4501-4885-4FC7-A354-AD8641540E2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0BE9C-448C-47FB-BF3A-48655A9C822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87273-D1E9-4488-A0FF-4F541316D3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A45D-C94F-4DF0-A744-4F8217C6F74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3"/>
    <p:sldLayoutId id="2147484014" r:id="rId4"/>
    <p:sldLayoutId id="2147484015" r:id="rId5"/>
    <p:sldLayoutId id="2147484016" r:id="rId6"/>
    <p:sldLayoutId id="2147484017" r:id="rId7"/>
    <p:sldLayoutId id="2147484018" r:id="rId8"/>
    <p:sldLayoutId id="2147484019" r:id="rId9"/>
    <p:sldLayoutId id="2147484020" r:id="rId10"/>
    <p:sldLayoutId id="2147484021" r:id="rId11"/>
    <p:sldLayoutId id="2147484022" r:id="rId12"/>
    <p:sldLayoutId id="2147484023" r:id="rId13"/>
    <p:sldLayoutId id="2147484024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83A1A-CFE9-458B-BAE7-A32CF5E6551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FF35-8833-4908-A238-6D26E5B191F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BDB8-5364-4233-BAD8-118ABD45EF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3"/>
    <p:sldLayoutId id="2147484040" r:id="rId4"/>
    <p:sldLayoutId id="2147484041" r:id="rId5"/>
    <p:sldLayoutId id="2147484042" r:id="rId6"/>
    <p:sldLayoutId id="2147484043" r:id="rId7"/>
    <p:sldLayoutId id="2147484044" r:id="rId8"/>
    <p:sldLayoutId id="2147484045" r:id="rId9"/>
    <p:sldLayoutId id="2147484046" r:id="rId10"/>
    <p:sldLayoutId id="2147484047" r:id="rId11"/>
    <p:sldLayoutId id="2147484048" r:id="rId12"/>
    <p:sldLayoutId id="2147484049" r:id="rId13"/>
    <p:sldLayoutId id="2147484050" r:id="rId14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415A6-11B5-4526-8264-091D06B752C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3"/>
    <p:sldLayoutId id="2147484053" r:id="rId4"/>
    <p:sldLayoutId id="2147484054" r:id="rId5"/>
    <p:sldLayoutId id="2147484055" r:id="rId6"/>
    <p:sldLayoutId id="2147484056" r:id="rId7"/>
    <p:sldLayoutId id="2147484057" r:id="rId8"/>
    <p:sldLayoutId id="2147484058" r:id="rId9"/>
    <p:sldLayoutId id="2147484059" r:id="rId10"/>
    <p:sldLayoutId id="2147484060" r:id="rId11"/>
    <p:sldLayoutId id="2147484061" r:id="rId12"/>
    <p:sldLayoutId id="2147484062" r:id="rId13"/>
    <p:sldLayoutId id="2147484063" r:id="rId14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F94C-FAD0-4DB3-855C-0D66B2046BA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3"/>
    <p:sldLayoutId id="2147484066" r:id="rId4"/>
    <p:sldLayoutId id="2147484067" r:id="rId5"/>
    <p:sldLayoutId id="2147484068" r:id="rId6"/>
    <p:sldLayoutId id="2147484069" r:id="rId7"/>
    <p:sldLayoutId id="2147484070" r:id="rId8"/>
    <p:sldLayoutId id="2147484071" r:id="rId9"/>
    <p:sldLayoutId id="2147484072" r:id="rId10"/>
    <p:sldLayoutId id="2147484073" r:id="rId11"/>
    <p:sldLayoutId id="2147484074" r:id="rId12"/>
    <p:sldLayoutId id="2147484075" r:id="rId13"/>
    <p:sldLayoutId id="2147484076" r:id="rId14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72FD-1675-4C9D-821A-FDDEBBB1806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3"/>
    <p:sldLayoutId id="2147484079" r:id="rId4"/>
    <p:sldLayoutId id="2147484080" r:id="rId5"/>
    <p:sldLayoutId id="2147484081" r:id="rId6"/>
    <p:sldLayoutId id="2147484082" r:id="rId7"/>
    <p:sldLayoutId id="2147484083" r:id="rId8"/>
    <p:sldLayoutId id="2147484084" r:id="rId9"/>
    <p:sldLayoutId id="2147484085" r:id="rId10"/>
    <p:sldLayoutId id="2147484086" r:id="rId11"/>
    <p:sldLayoutId id="2147484087" r:id="rId12"/>
    <p:sldLayoutId id="2147484088" r:id="rId13"/>
    <p:sldLayoutId id="2147484089" r:id="rId14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52B9-38BA-41BB-A4BD-92A14F837BF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3"/>
    <p:sldLayoutId id="2147484092" r:id="rId4"/>
    <p:sldLayoutId id="2147484093" r:id="rId5"/>
    <p:sldLayoutId id="2147484094" r:id="rId6"/>
    <p:sldLayoutId id="2147484095" r:id="rId7"/>
    <p:sldLayoutId id="2147484096" r:id="rId8"/>
    <p:sldLayoutId id="2147484097" r:id="rId9"/>
    <p:sldLayoutId id="2147484098" r:id="rId10"/>
    <p:sldLayoutId id="2147484099" r:id="rId11"/>
    <p:sldLayoutId id="2147484100" r:id="rId12"/>
    <p:sldLayoutId id="2147484101" r:id="rId13"/>
    <p:sldLayoutId id="2147484102" r:id="rId14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FC4DC-82C5-42F4-9DE0-44781A58529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3"/>
    <p:sldLayoutId id="2147484105" r:id="rId4"/>
    <p:sldLayoutId id="2147484106" r:id="rId5"/>
    <p:sldLayoutId id="2147484107" r:id="rId6"/>
    <p:sldLayoutId id="2147484108" r:id="rId7"/>
    <p:sldLayoutId id="2147484109" r:id="rId8"/>
    <p:sldLayoutId id="2147484110" r:id="rId9"/>
    <p:sldLayoutId id="2147484111" r:id="rId10"/>
    <p:sldLayoutId id="2147484112" r:id="rId11"/>
    <p:sldLayoutId id="2147484113" r:id="rId12"/>
    <p:sldLayoutId id="2147484114" r:id="rId13"/>
    <p:sldLayoutId id="2147484115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B9154-B429-4BFE-92B1-56464306EC7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DDD31-36C8-4BBA-8F2A-E2923F10F4A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86AA6-03F6-46C2-9A79-D1F6EF75AEE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EB16-99B7-41AE-AE2B-1C427A141E1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52B2D-3EA1-4DB0-A8FF-168E4526D29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D1E56-DECD-4DFD-8902-916D689314E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2" descr=""/>
          <p:cNvPicPr/>
          <p:nvPr/>
        </p:nvPicPr>
        <p:blipFill>
          <a:blip r:embed="rId1"/>
          <a:stretch/>
        </p:blipFill>
        <p:spPr>
          <a:xfrm>
            <a:off x="684360" y="2060640"/>
            <a:ext cx="7848360" cy="3868560"/>
          </a:xfrm>
          <a:prstGeom prst="rect">
            <a:avLst/>
          </a:prstGeom>
          <a:ln w="0">
            <a:noFill/>
          </a:ln>
        </p:spPr>
      </p:pic>
      <p:sp>
        <p:nvSpPr>
          <p:cNvPr id="1484" name="Rectangle 3"/>
          <p:cNvSpPr/>
          <p:nvPr/>
        </p:nvSpPr>
        <p:spPr>
          <a:xfrm>
            <a:off x="0" y="106668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44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48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Rectangle 5"/>
          <p:cNvSpPr/>
          <p:nvPr/>
        </p:nvSpPr>
        <p:spPr>
          <a:xfrm>
            <a:off x="1428840" y="6541920"/>
            <a:ext cx="6572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ffffff"/>
                </a:solidFill>
                <a:latin typeface="Arial"/>
              </a:rPr>
              <a:t>SETTORE SERVIZI ALLE IMPRESE e FLOROVIVAIS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9" name=""/>
          <p:cNvSpPr txBox="1"/>
          <p:nvPr/>
        </p:nvSpPr>
        <p:spPr>
          <a:xfrm>
            <a:off x="142920" y="2428560"/>
            <a:ext cx="8858160" cy="314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Arial"/>
              </a:rPr>
              <a:t>avvio del procedimento -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art. 12 e 13 della L.R. n. 56/2009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notifica delle </a:t>
            </a:r>
            <a:r>
              <a:rPr b="1" lang="it-IT" sz="2000" spc="-1" strike="noStrike" u="sng">
                <a:solidFill>
                  <a:srgbClr val="333333"/>
                </a:solidFill>
                <a:uFillTx/>
                <a:latin typeface="Arial"/>
              </a:rPr>
              <a:t>comunicazioni di avvio del procedimento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portale agriligurianet nella sezione PSR – sottosezione misure/;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900" spc="-1" strike="noStrike">
                <a:solidFill>
                  <a:srgbClr val="333333"/>
                </a:solidFill>
                <a:latin typeface="Arial"/>
              </a:rPr>
              <a:t>il Bollettino ufficiale della Regione Liguria (BURL).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0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Freccia in giù 4"/>
          <p:cNvSpPr/>
          <p:nvPr/>
        </p:nvSpPr>
        <p:spPr>
          <a:xfrm>
            <a:off x="3857760" y="3714840"/>
            <a:ext cx="71424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1680" y="92844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3" name=""/>
          <p:cNvSpPr txBox="1"/>
          <p:nvPr/>
        </p:nvSpPr>
        <p:spPr>
          <a:xfrm>
            <a:off x="142920" y="1714680"/>
            <a:ext cx="8858160" cy="43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cura del Settore Servizi alle Imprese Agricol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ella ricevi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o dei termini e delle modalità di presentazione della domanda di aiu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documentazione (documenti essenziali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za della firma del legale rappresentante (ove richiest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struttoria di merito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dei requisiti dei soggetti proponent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oggettiva delle domand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zione del progetto/corso/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ttribuzione del puntegg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i prescrizioni e proposte di azioni correttiv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4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Istruttoria Domande di Aiuto 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142560" y="1785960"/>
            <a:ext cx="864396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e 2° bando Misura 111 “informazione”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creto del dirigente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duatoria delle domande di aiuto ammiss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lenco delle domande aiuto ammissibili e finanziabili in base alle risorse disponibi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dempimenti per le domande non ammissibili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Arial"/>
              </a:rPr>
              <a:t>ACCORDO tra Regione e Soggetto beneficiario</a:t>
            </a: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114 e 1° Bando “informazione”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llaosta (Atto di concessione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7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Freccia in giù 4"/>
          <p:cNvSpPr/>
          <p:nvPr/>
        </p:nvSpPr>
        <p:spPr>
          <a:xfrm>
            <a:off x="4143240" y="2071800"/>
            <a:ext cx="42876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Freccia in giù 5"/>
          <p:cNvSpPr/>
          <p:nvPr/>
        </p:nvSpPr>
        <p:spPr>
          <a:xfrm>
            <a:off x="4214880" y="3571920"/>
            <a:ext cx="42840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590400" y="200016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conclusione del progetto/corso, preventivamente indicate nella scheda tecnica e definite nell’accordo/nullaosta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re nei tempi previsti dal progetto/corso approvat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ventuale richiesta motivata di proroga (escluso 1° bando – misura 111 informazione”) non superiore ai sei mesi sulla data di conclusione (compatibilmente con le scadenze comunitarie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2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Attuazione Proget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214200" y="1928880"/>
            <a:ext cx="862488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pese Ammissibili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finite nel Bando (punto 7), in particolar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confronto a consuntivo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tra n. 3 preventivi (non richiesta per beni altamente specializzati e per acquisti di beni - importo di 500 euro x domanda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3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V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non riconosciut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econda del regime IVA e per gli Enti pubblici</a:t>
            </a:r>
            <a:r>
              <a:rPr b="0" lang="it-IT" sz="12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tegorie di spesa e voci di spes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previste dal Bando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mmissibilità delle spese è valutata ai sensi della DGR n. 372/2008, e ss.mm.ii (DGR n. 1396/2008, n. 317/2010, n. 580/2010, n. 815/2011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grue, conformi ai prezzi di mercato e coerenti con il progetto/corso approvat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ificate e giustificate (preventivo e consuntivo) - distinte per catego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5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Rettangolo 6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68000" y="1844280"/>
            <a:ext cx="828684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Times New Roman"/>
                <a:ea typeface="Times New Roman"/>
              </a:rPr>
              <a:t>non sono ammesse varianti</a:t>
            </a:r>
            <a:r>
              <a:rPr b="1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minuzione del punteggio attribuito 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di ammissibilità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del progetto/corso/s originario in termini di obiettivi e di risultati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sostanziali tecniche ed economiche della singole tipologie di intervento approvat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umento dell’onere a carico del contributo pubblico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609480" y="9997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142560" y="1500120"/>
            <a:ext cx="8715240" cy="45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 Black"/>
              </a:rPr>
              <a:t>Per la misura 111 e 33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Costituiscon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i in corso d’oper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immateriali di carattere giuridico, tecnico ed amministrativo (es. cambio di sede di realizzazione dell’intervento, adeguamento del crono programma, sostituzione del personale coinvol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ifiche materiali: riduzione della spesa prevista per la realizzazione di un intervento ammesso all’aiuto (a causa di economia o mancata realizzazione, parziale o totale) e contestuale increment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riazione in aumento fino ad un massimo de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%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s. spese di personale, materiale consumabile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ssimo una variante finanziaria per domanda di aiuto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1" marL="446040" indent="-181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richieste di varianti devono essere preventivamente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unicate (preavviso di 10 giorni) e autorizzate dal Settore Ispettorato Agrario regionale (prima della data di scadenz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5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609480" y="10666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arian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213840" y="1714680"/>
            <a:ext cx="864396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b)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costituiscon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ariante in corso d’ope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(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comunicate e autorizzat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iduzione dell’importo (per economia di spesa) in una o più voce di spesa ammesse all’aiuto, senza contestuale incremento di altre voci di sp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181080" indent="-18108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ifiche di portata minor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non determinino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tra le diverse categoria di sp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un aumento superiore a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l’importo inizialmente determinato per ciascuna categori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9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Rettangolo 5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34316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Domande di Paga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2" name="PlaceHolder 2"/>
          <p:cNvSpPr>
            <a:spLocks noGrp="1"/>
          </p:cNvSpPr>
          <p:nvPr>
            <p:ph/>
          </p:nvPr>
        </p:nvSpPr>
        <p:spPr>
          <a:xfrm>
            <a:off x="609480" y="17856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domande di pagamento e le relative rendicontazioni tecniche e finanziarie devono essere inviate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 Settore Ispettorato Agrario Regionale (competente per territorio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isura 114 e misura 331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ntro 60 giorni dalla data di scadenza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Bandi misura 111 “informazione”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odulistica predisposta da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tati avanzamento lavori (se previste) e saldo finale (non ammesse anticipazioni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Le modalità di rendicontazione e di pagamento sono definiti nel dettaglio nella DGR n. 372/2008 e ss.mm.ii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4572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3" name="Text Box 5"/>
          <p:cNvSpPr/>
          <p:nvPr/>
        </p:nvSpPr>
        <p:spPr>
          <a:xfrm>
            <a:off x="0" y="6524640"/>
            <a:ext cx="291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Text Box 6"/>
          <p:cNvSpPr/>
          <p:nvPr/>
        </p:nvSpPr>
        <p:spPr>
          <a:xfrm>
            <a:off x="0" y="6491160"/>
            <a:ext cx="406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Rectangle 7"/>
          <p:cNvSpPr/>
          <p:nvPr/>
        </p:nvSpPr>
        <p:spPr>
          <a:xfrm>
            <a:off x="0" y="652140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Rettangolo 7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Violazioni di Impegn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285840" y="1571400"/>
            <a:ext cx="855504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fattispecie di violazione di impegni e dei livelli di gravità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entità e durata per ciascuna violazione sono disciplinate dall’alleg. 7 del Band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DUZIONE e/o DE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cuni esempi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tardo nella presentazione domanda di pagamento, non conformità del materiale informativo, variazioni varianti, comunicazioni di varianti, etc.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o salvo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quanto disposto ai sensi dell’art. 31 del Reg. CE 1975/2006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inapplicabilità di quanto disposto al presente articolo per i casi di forza maggiore previsti dalla normativa in materi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’applicazione di ulteriori norme comunitarie nazionali e regionali in materia di illeciti amministrativi e pen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9" name="Rettangolo 3"/>
          <p:cNvSpPr/>
          <p:nvPr/>
        </p:nvSpPr>
        <p:spPr>
          <a:xfrm>
            <a:off x="47988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Freccia in giù 4"/>
          <p:cNvSpPr/>
          <p:nvPr/>
        </p:nvSpPr>
        <p:spPr>
          <a:xfrm>
            <a:off x="4286160" y="2214720"/>
            <a:ext cx="642960" cy="5713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669900"/>
                </a:solidFill>
                <a:latin typeface="Arial"/>
              </a:rPr>
              <a:t>TITOLO</a:t>
            </a:r>
            <a:endParaRPr b="1" lang="en-US" sz="3600" spc="-1" strike="noStrike">
              <a:solidFill>
                <a:srgbClr val="669900"/>
              </a:solidFill>
              <a:latin typeface="Arial"/>
            </a:endParaRPr>
          </a:p>
        </p:txBody>
      </p:sp>
      <p:pic>
        <p:nvPicPr>
          <p:cNvPr id="1488" name="Picture 4" descr=""/>
          <p:cNvPicPr/>
          <p:nvPr/>
        </p:nvPicPr>
        <p:blipFill>
          <a:blip r:embed="rId1"/>
          <a:stretch/>
        </p:blipFill>
        <p:spPr>
          <a:xfrm>
            <a:off x="2357280" y="1268280"/>
            <a:ext cx="5346720" cy="2519640"/>
          </a:xfrm>
          <a:prstGeom prst="rect">
            <a:avLst/>
          </a:prstGeom>
          <a:ln w="0">
            <a:noFill/>
          </a:ln>
        </p:spPr>
      </p:pic>
      <p:sp>
        <p:nvSpPr>
          <p:cNvPr id="1489" name="PlaceHolder 2"/>
          <p:cNvSpPr>
            <a:spLocks noGrp="1"/>
          </p:cNvSpPr>
          <p:nvPr>
            <p:ph type="subTitle"/>
          </p:nvPr>
        </p:nvSpPr>
        <p:spPr>
          <a:xfrm>
            <a:off x="356760" y="3929040"/>
            <a:ext cx="8643960" cy="2214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 Black"/>
              </a:rPr>
              <a:t>Seminario Informativo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Arial Black"/>
              </a:rPr>
              <a:t>nuovi bandi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1 “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n. 677/2013 e 672/2013)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114 “consulenza aziendal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10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Arial Black"/>
              </a:rPr>
              <a:t>Misura 331 “Formazione e informazione” </a:t>
            </a:r>
            <a:r>
              <a:rPr b="1" lang="it-IT" sz="2000" spc="-1" strike="noStrike">
                <a:solidFill>
                  <a:srgbClr val="ff0000"/>
                </a:solidFill>
                <a:latin typeface="Arial Black"/>
              </a:rPr>
              <a:t>(DGR n. 531/2013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3352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Revoch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611280" y="148428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accertata falsità di dichiarazioni sostitutive di certificazioni o di atti di notorietà contenute nella domanda di contributo o allegate ad ess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ncata realizzazione del progetto/corso/servizio di consulenza ammesso a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del progetto diverso da quello ammesso a contributo o diverso dalle varianti autorizza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liquidazione del contributo irregolar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rave irregolarità dei documenti che attestano le spese sostenute da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dita dei requisiti necessari per la concessione del contrib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nuncia del beneficiari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3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 Gener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285480" y="1857240"/>
            <a:ext cx="864396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nei tempi che consentono il raggiungimento delle finalità della misura in conformità agli obblighi derivanti  dalla normativa vigente e dal PSR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izzare il progetto in modo conforme e in coerenza con la proposta approvata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ttere a disposizione  della Regione e di ogni altra autorità pubblica incaricata dei controlli, tutta la documentazione necessaria a svolgere l’attività di controllo, anche nel caso sia detenuto da terz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ntire l’accesso degli incaricati dei controlli ai luoghi  dove si trovano i documenti oggetto  dell’aiuto pubblico ed ai luoghi dove viene svolta l’attività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ervare  per almeno 5 anni tutta la documentazione (lett. C, art.7, c. LR 42/2007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icurare il libero accesso alle iniziative previste a tutti i potenziali destinatari, senza nessun vincolo di appartenenza a forme associative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6" name="Rettangolo 3"/>
          <p:cNvSpPr/>
          <p:nvPr/>
        </p:nvSpPr>
        <p:spPr>
          <a:xfrm>
            <a:off x="5511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Normativa di Riferimen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68" name="PlaceHolder 2"/>
          <p:cNvSpPr>
            <a:spLocks noGrp="1"/>
          </p:cNvSpPr>
          <p:nvPr>
            <p:ph/>
          </p:nvPr>
        </p:nvSpPr>
        <p:spPr>
          <a:xfrm>
            <a:off x="356760" y="1642680"/>
            <a:ext cx="8643960" cy="43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ali adempimenti e gli obblighi sono previsti da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golamenti comunitar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gramma di Sviluppo Rurale 2007 – 2013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R n. 42/2007, in particolare l’art. 7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BAND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attispecie di violazione di impegni e dei livelli di gravità, entità e durata per ciascuna violazione, ai sensi del DM 22/12/2009 (all. 7 del Band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038 del 10/09/2010, relativa all’individuazione delle percentuali di riduzione in base ai livelli di gravità, entità e durata delle violazion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1233/2008 “Disposizione in materia di pubblicità e informazione sul sostegno da parte del FEASR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GR n. 372 del 4/4/2008, e ss.mm.ii  (DGR n. 1396 del 29/10/2008, n. 317 del 9/2/2010 e n. 580 del 28/5/2010, relative ai criteri per l’ammissibilità delle spes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9" name="Rettangolo 3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3480" indent="-1653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STATORI DI SERVIZI AGROFORESTALI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entrano esclusivamente i soggetti che hanno ottenuto il riconoscimento di Organismi abilitati dalla Regione a fornire i servizi di formazione, dimostrazione e consulenza alle aziende agricole e fores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neficiari dell’aiuto: misura 111 e 331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ggetti attuatori: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 i BENEFICIARI DEGLI AIUT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FFIDABILITÀ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el soggetto proponente in base all’esito di eventuali altre operazioni cofinanziate dai PSR (dal 2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NSUSSISTENZA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di relazioni di parentela o affinità con dipendenti regionali“ (Dichiarazione  sostitutiva di atto di notorietà  (“Piano di prevenzione della corruzione e Programma per la trasparenza e l'integrità 2013/2015“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E MINIMIS 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ove previst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653480" indent="-1653480" algn="ctr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1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2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ccia in giù 4"/>
          <p:cNvSpPr/>
          <p:nvPr/>
        </p:nvSpPr>
        <p:spPr>
          <a:xfrm>
            <a:off x="3929040" y="2571840"/>
            <a:ext cx="571680" cy="35712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mprenditori agricoli iscritti al registro delle imprese, dotati di numero di partita IV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peratori forestali, iscritti al registro delle imprese, che abbiano un’attività principale o secondaria con codice ATECO che inizi con A02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ggetti beneficiari per la misura 114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stinatari della formazione e informazione per la misura 111 e 331 (possono partecipare coadiuvanti familiari, iscritti all’INPS, e lavoratori dipendent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la misura 331 i destinatari con sede legale nelle aree rurali ricomprese nell’Asse 3) del PSR (zone C e D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beneficiari e destinatari (2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6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Freccia in giù 4"/>
          <p:cNvSpPr/>
          <p:nvPr/>
        </p:nvSpPr>
        <p:spPr>
          <a:xfrm>
            <a:off x="4071960" y="3000240"/>
            <a:ext cx="785880" cy="6429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Entità Aiut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99" name=""/>
          <p:cNvSpPr txBox="1"/>
          <p:nvPr/>
        </p:nvSpPr>
        <p:spPr>
          <a:xfrm>
            <a:off x="356760" y="1571400"/>
            <a:ext cx="85726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% di aiut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euro 327.4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 de minimi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34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euro 447.662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80 % de minimis </a:t>
            </a:r>
            <a:r>
              <a:rPr b="0" lang="it-IT" sz="1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solo per consulenza forestale)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1): euro 1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2): euro 300.0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0 %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0" name="Rettangolo 4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ocedura (FASI)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2" name=""/>
          <p:cNvSpPr txBox="1"/>
          <p:nvPr/>
        </p:nvSpPr>
        <p:spPr>
          <a:xfrm>
            <a:off x="590400" y="1785960"/>
            <a:ext cx="8229600" cy="430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zione domanda di aiu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struttoria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rovazione e negoziaz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cession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ttuazione proget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3" name="Freccia in giù 3"/>
          <p:cNvSpPr/>
          <p:nvPr/>
        </p:nvSpPr>
        <p:spPr>
          <a:xfrm>
            <a:off x="4500720" y="221472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Freccia in giù 5"/>
          <p:cNvSpPr/>
          <p:nvPr/>
        </p:nvSpPr>
        <p:spPr>
          <a:xfrm>
            <a:off x="4500720" y="30718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Freccia in giù 6"/>
          <p:cNvSpPr/>
          <p:nvPr/>
        </p:nvSpPr>
        <p:spPr>
          <a:xfrm>
            <a:off x="4500720" y="400068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Freccia in giù 7"/>
          <p:cNvSpPr/>
          <p:nvPr/>
        </p:nvSpPr>
        <p:spPr>
          <a:xfrm>
            <a:off x="4500720" y="4857840"/>
            <a:ext cx="50004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ttangolo 8"/>
          <p:cNvSpPr/>
          <p:nvPr/>
        </p:nvSpPr>
        <p:spPr>
          <a:xfrm>
            <a:off x="33696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64252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9" name=""/>
          <p:cNvSpPr txBox="1"/>
          <p:nvPr/>
        </p:nvSpPr>
        <p:spPr>
          <a:xfrm>
            <a:off x="357120" y="2071800"/>
            <a:ext cx="846288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orse disponibi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adenz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331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4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“cassetti”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luglio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isura 111 – azione b) “informazione”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1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sportell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0 luglio 2013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- Bando n. 2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band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graduatoria)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	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20 settembre 2013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IMPORTANTE</a:t>
            </a:r>
            <a:r>
              <a:rPr b="0" lang="it-IT" sz="1800" spc="-1" strike="noStrike">
                <a:solidFill>
                  <a:srgbClr val="333333"/>
                </a:solidFill>
                <a:latin typeface="Arial"/>
              </a:rPr>
              <a:t>: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Arial"/>
              </a:rPr>
              <a:t>entro le ore 12:00 della data di scadenza, indipendentemente dalle modalità di inoltr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179280" indent="-1792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0" name="CasellaDiTesto 5"/>
          <p:cNvSpPr/>
          <p:nvPr/>
        </p:nvSpPr>
        <p:spPr>
          <a:xfrm>
            <a:off x="166680" y="6510240"/>
            <a:ext cx="347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714240" y="1071720"/>
            <a:ext cx="82296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2" name=""/>
          <p:cNvSpPr txBox="1"/>
          <p:nvPr/>
        </p:nvSpPr>
        <p:spPr>
          <a:xfrm>
            <a:off x="142920" y="2287080"/>
            <a:ext cx="8858160" cy="38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presenz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la documentazione prevista dal Bando</a:t>
            </a: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ocumenti essenzial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33333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Arial"/>
              </a:rPr>
              <a:t>altri documenti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firma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del legale rappresentante e coordinatore tecnico </a:t>
            </a:r>
            <a:r>
              <a:rPr b="0" lang="it-IT" sz="1600" spc="-1" strike="noStrike">
                <a:solidFill>
                  <a:srgbClr val="333333"/>
                </a:solidFill>
                <a:latin typeface="Arial"/>
              </a:rPr>
              <a:t>(ove previst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compilazione e </a:t>
            </a:r>
            <a:r>
              <a:rPr b="1" lang="it-IT" sz="2200" spc="-1" strike="noStrike" u="sng">
                <a:solidFill>
                  <a:srgbClr val="ff0000"/>
                </a:solidFill>
                <a:uFillTx/>
                <a:latin typeface="Arial"/>
              </a:rPr>
              <a:t>rilascio</a:t>
            </a:r>
            <a:r>
              <a:rPr b="0" lang="it-IT" sz="2200" spc="-1" strike="noStrike">
                <a:solidFill>
                  <a:srgbClr val="333333"/>
                </a:solidFill>
                <a:latin typeface="Arial"/>
              </a:rPr>
              <a:t> sul portale SIAN.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332640" indent="-33264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333333"/>
                </a:solidFill>
                <a:latin typeface="Arial"/>
              </a:rPr>
              <a:t>NON RICEVIBILITA’ DELLA DOMANDA DI AIUT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3" name="Rettangolo 3"/>
          <p:cNvSpPr/>
          <p:nvPr/>
        </p:nvSpPr>
        <p:spPr>
          <a:xfrm>
            <a:off x="4082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Freccia in giù 4"/>
          <p:cNvSpPr/>
          <p:nvPr/>
        </p:nvSpPr>
        <p:spPr>
          <a:xfrm>
            <a:off x="4143240" y="5072040"/>
            <a:ext cx="642960" cy="5716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590400" y="1071360"/>
            <a:ext cx="822960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Presentazione Domande di Aiuto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16" name=""/>
          <p:cNvSpPr txBox="1"/>
          <p:nvPr/>
        </p:nvSpPr>
        <p:spPr>
          <a:xfrm>
            <a:off x="142920" y="2071800"/>
            <a:ext cx="885816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ocumenti essenziali</a:t>
            </a:r>
            <a:r>
              <a:rPr b="0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omanda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modello SIAN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pia della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arta d’identità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 corso di validità del rappresentante legale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finanziari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anche su supporto informatic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ltri documenti (in base al Bando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regime IVA e altri finanziamenti con fondi pubblic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chiarazione sostitutiva di atto di notorietà, relativa al “de minimis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urricula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7" name="Rettangolo 4"/>
          <p:cNvSpPr/>
          <p:nvPr/>
        </p:nvSpPr>
        <p:spPr>
          <a:xfrm>
            <a:off x="194040" y="6488280"/>
            <a:ext cx="22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Riunione informativa PS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2:33:51Z</dcterms:modified>
  <cp:revision>100</cp:revision>
  <dc:subject/>
  <dc:title>Presentazione standard di PowerPoint</dc:title>
</cp:coreProperties>
</file>