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230D-0268-4999-9A45-25D27D638B5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822D-CCC7-41B1-AE3A-C75CFCDA4AD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535A-6742-4CDE-8977-2BECC1205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B341-6635-4F69-940F-8C8561E6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D68B8D-5983-47C6-BBB5-65249252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41744-ABF3-49BE-9F76-B4B6ED7F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E96FFD-1430-499A-A02D-80C50F00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EEC1A-2BD5-4987-B4BF-E6685B2F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58958-4550-4C7A-9738-0725290B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BA36F-AF6B-4897-8FBF-ECB5A069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2027B-2410-41E5-9DEE-03331C3E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EAE30-EE6C-4DC4-B5DF-945144BD3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0BBF09-B0E2-437F-BEBA-C6A964AA6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187F6-70E9-4A9F-BA3B-ABC0A7C16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B70B-16B1-4F4D-92E7-668AE50AB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CE7F7F-3E18-46FC-8F27-D83A1AC6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B2E059-2FF1-4468-A1A9-A5C1FE4F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BDAA0C-D05D-483C-94A3-D24C2C0D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F2A68A-12A8-4257-B7DC-395D1327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2EAF2E-4A8E-4C1A-8C77-4FDCDD8E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3137D4-AF3C-4EA4-A0A7-B5360377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FAF7B-24B7-44A3-A837-29558E78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396F7-7D3E-4D54-A364-DA6894D6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2272A8-CEF3-490D-8810-80365D48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59CE0-7326-4424-BD5A-FBD9876EB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0394-ADBD-43F9-A01C-D059E7A12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F79C7-6024-486E-A814-425485DC6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7145C-0D52-4965-9ADE-4FA5BE94D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8BAEB-79F5-49C9-98CB-C64A3911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4BA01-6277-4039-AB73-24BD45CE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267CE-7DF7-487C-A8A5-BACADE1D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C4082-8094-4655-B495-04E2C913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6A7EC-4488-4DE6-8C8E-CD842172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A51B8-5EF3-402D-879C-9E75CC32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BE31C-21D6-4248-8A4C-F93688DF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73A1B-E89E-479F-9FCA-BB92E6C0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A6EA-AC02-410D-A797-DD8442F4D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7CEBB-B2EC-4281-9742-CE2DD36C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7F0E1-33AD-4C24-925C-E684B5354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F22E0-F459-4BF1-992D-B71723351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30D805-C508-48EB-9775-753D4A726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0E3C00-09C9-4739-B3E5-57DB2DED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915C92-0164-489F-8FC4-EAD4AD74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EE5127-ACAF-41FC-AE90-908F069C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580E13-EFC4-4D6E-8AC5-C918692B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BA314A-DDAE-4F94-BAE1-929D9C69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735341-A5D4-44D6-B41D-814E1418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97D3-FC47-42E4-85B7-181CD996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65CC41-CF2C-495D-BC7C-273A094F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7480FA-18A6-4CA1-AB40-D2BEFC34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8F83E-A08D-4D93-A0A3-4A496365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AE41EC-C385-426A-BFD7-F46902D39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EFAAA3-B4C6-4A9D-BE0F-E960DB5CC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DFF979-88D3-4D53-ABB2-97EB656DA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828924-F707-43C0-AC1E-E279FABA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3E6CEE-5920-4591-B34C-0C4DB6FD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6819BE-025E-443F-97DE-0E7F47E4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EE4F27-8A7A-4CC9-9535-5D15148B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57F6-F007-4E8C-BFD7-36F1A0FA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EF07F8-4C3E-4AF1-BA60-2E390A46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468B5C-37D2-42C9-BD82-9EC35137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ED248B-0949-4FEF-903A-86FB39A1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FB3451-850D-439C-9A1C-B496E60A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7A6A80-8DB3-4EBA-97D0-A3E87EC4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C366D5-E3B3-4EB9-B843-227114C6A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144A97-2075-4991-BE92-45835DCD6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823A2C-3456-48DD-9697-D2D780270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DE01AB-7733-46E0-B197-905E03E1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1590E6-E4C2-49F0-9C7C-E827B013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C4C0-34AD-414A-A40B-555CCD55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48A107-FBE3-4A98-A8AD-676B44AF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7B6986-ACBA-4BBC-9CC5-B5FBA437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1F4CDD-2029-4C5F-A28A-C20DC58C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52DB1F-4A11-4EB9-AECA-BEFBDF30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64DCB3-862D-4ABA-A68E-2620BD4A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E43600-677A-4A3E-B73A-64DAEB6A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B06E01-E45B-4933-A202-3940C351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477BB1-3E26-424F-A351-A78DB97BF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53710B-521A-47FD-8C58-8EFDB5325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6510FA-677F-4FF7-A0F2-558933E4F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C69D-7E5E-424F-B283-484B1FD8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924EFE-87BC-4D28-9002-ED33D214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5EE397-F1BE-4FDE-8E69-932B9F86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579B7E-F0C5-44C6-B10C-6244EDEC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657690-E728-4AFB-A8DA-B1099339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281DD3-11D3-4699-8457-95801864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9B3FB0-0804-45F4-8707-3FC53637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0F6E9B-30B8-4FA2-80FE-9315027B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608EC5-80AB-447F-85D3-C8A94D7E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7F6FF1-3B9F-46B7-B3E4-6222A872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486380-BCBB-48DF-95F3-C0222F097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B6BC-5BB6-47F7-A2ED-A89B75A7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2B3326-A964-4F47-80EB-76EF8E4F2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0ACC56-48B7-43EB-B967-3D5C1033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461F83-10C5-4D94-B302-9DC298FA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E891F3-9BCA-4E28-84A6-2F0139E3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C78125-24D7-4A1A-9BA8-06DD73F6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58EAE7-046E-4A6D-BBEB-52FB6AFE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08178A-4DAC-4D97-9C67-34C26EB6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C72634-1EC4-40F7-B9B7-99CEEAA9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214192-A9C4-46E0-BA4B-C77A5D45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2F5A3E-36AE-4130-8E52-279F9CEA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5555-5F9F-4F29-82CB-B549A9F5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9505D6-002F-43D1-920C-C56AFC2F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DE643F-8EBF-42E1-81A9-51837A52D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1C9CE0-F04C-4410-BA5D-32F0EC717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AC9B96-D81B-49C1-8B1C-24AD72308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F8145D-ED26-46CF-8B55-382C16A5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E79559-F213-4865-8C23-DD945CFE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F118AB-987E-4781-BEE9-287F238D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8CD38D-FB07-4909-AF62-187772B3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3B2B79-F9B8-41F3-82C4-3A0521CD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CC4FC5-2728-4660-B212-2B569190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167B-67AE-4396-9E7E-377F30EC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73E1-83BD-442C-9D05-D8F9282A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BCF7BE-06AF-4569-843F-0C8D205E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AE5DDC-4990-411E-BBE2-F65F0026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236AE3-48CB-4126-BCE9-25207FC1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2E86D6-CF7E-41DF-8639-19BC4749C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06DE53-FE02-4089-A30F-CB5DA1B90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484F86-8B22-4E32-859C-3FC93866C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02CB7C-1873-4A37-87E7-693B913A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D21E50-2AFE-4536-A063-B9866DDA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CAE75A-F8CC-4DCF-B009-66595059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48A807-EB33-42A5-95B3-69A9AEAD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1D8A-F16B-40A5-90F6-43887634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69F296-4A69-4DD9-8971-E8082DCC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E38A79-C640-4DE1-B752-54EDBA8F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D1FDDF-B485-4C09-8353-64A6324F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81B030-87DB-4A7D-B506-667C3B56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33CBEF-E9F0-4584-9AFF-5C95AEAF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F23473-1BAA-4E7C-AA06-DFD91E2EC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E19124-4572-47A4-8281-D236EC3C3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51DB46-6BCC-44BA-962A-DD271F9D9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226764-3EF3-4C8D-9D48-1E049D5A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31F836-7F06-4412-9C3C-32AB06C6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87C9-0CD0-449C-9032-3BA03B9E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99C028-0E9E-4961-BDD8-89A45CC1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7EDFEA-F26B-4528-93FF-4ECF2130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1EEF23-A234-48D9-BE0E-2E33DBE9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553762-4ED0-4134-A86F-A2529C77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5ED207-44A9-4D07-BC82-54127BFA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4DC396-C64C-4EB1-8780-6CFC6F8C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DB2CE0-6202-4D64-868B-9FAFD451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C9B5D0-F79C-4ED5-8524-852BD2C1D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66FF76-A3D6-44D1-A0D8-A36C9C13F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717BA3-A75F-41F0-9887-0E26349BA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AC9D-F137-4E65-A9A6-8B91C0E56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6AAF91-A2A1-474B-8204-D62BE3BE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6FC225-97F9-49A5-8184-7A2B22F0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DE4086-5122-4C43-A903-63BE0ADA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A6D057-681D-4330-BFE5-82182381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2D5893-E21A-424B-BF84-A81C24EA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B68E16-8CA5-401F-BC64-39E0259C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0255D0-3684-419B-A2DB-C0BBEEF1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E66C8F-D210-44E0-82BA-D202B4AC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B00556-87C2-4649-95D8-BAF13DD4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1692CF-D045-4C86-94A2-B0D1815FD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15C8-553E-4E86-9ADA-2FB4F39BE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BE8C22-50B7-45C5-86F9-D235AFDAA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287BA2-EC76-4A02-BF4E-CBD9CF586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F390C6-0D86-4AF7-9980-E523E5D4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AC1783-D147-4A13-99B9-71E76B64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B4BDB0-D748-44EB-8196-E5946004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7ADF22-4A9E-4A81-890D-70BB25AD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16DE79-0495-480A-9D79-1EEC491B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07696B-73F1-4D37-9593-D66ECF76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40D2A4-7BC3-4DA6-B0F8-F06AFB15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224EFB-D569-49FB-B49B-D6D60EC4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6804B-E4A8-4C86-8EAB-86522C144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E7CD15-E078-4450-B54A-9726AEF9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4BEA79-15C7-4B2A-935B-BD6D0EA07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A07940-B475-43F8-ABDC-67171D46B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E1BB49-67E7-4A3E-994A-CE947416B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E51EED-D537-4FE5-9C7E-2DDEE1B3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6880A6-FEF5-4708-8D7B-5664977E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B9F080-19C4-4CF8-B4F0-97D22D31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BFCEF1-2B2B-435B-9F22-B9D017CB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C98AEA-B882-4B03-8826-9A9DD979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4135F9-1D45-4A3D-BF2D-C1F74513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5A263-1223-4522-B12D-7D28E50D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1D92EF-5A68-4E62-B549-9D1A1F50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A78A25-ECBB-4B6B-B5D1-780A922D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D36F09-703E-4699-A598-6668864B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38901C-D966-4F2F-8EE2-ADEAAEB2F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68AE79-D716-495F-BE6A-FA94CD0AC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46A260-E39C-49DB-83F8-82FADF935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92B40A-CB9D-44BA-9F2C-D35667AE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B04559-90C3-441D-BDC0-71F5EDEE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A2AB44-84A0-4C66-BEF3-1FC76841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79E176-1C5B-42CC-83B1-5EE0A2EA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E1666-ACD2-4D0A-A4A1-BDB2BC6F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D923EC-EEE2-4AAB-BEED-7C4C6F28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6D8BAA-2BF7-47E8-BCB0-86337119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57A9D1-A1C2-488D-9F8A-2FAC3A53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1D1FC5-603B-4415-942C-11B3D6EC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299CF2-59B1-4A98-A714-8EEF0F5F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857BE6-6CFA-4D61-953B-EC9525698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CA52F3-18F4-47E4-B022-0519BC2D6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69BE08-1EEE-4C56-ABAE-11157F510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51D1F3-FB46-483F-A6A7-8D38436C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3014DD-A9B8-4E7A-AAD1-9AE70ED6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5F688-3C75-4EE6-922E-E01B1481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C7B0D7-E84C-45FB-9858-E818669C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9A5527-FAFC-4665-97AB-F2C28749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B804E8-C345-46F1-A749-49974958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F6524A-135C-429B-9FC0-E762AD3F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8DC9F5-824E-4DA9-B110-331FBD40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B945C2-2BA0-4B99-A84C-F2DF79EF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69A324-687E-46A1-B298-2A13F78B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2B8DF2-EC1C-4C9A-8BBE-86EF8EC8D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F82DB4-C847-466A-8855-1F8109E0E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7665EDF-15A5-4926-8B63-9FD121EDE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FC360-B416-4E61-AB73-0E1FD7C5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1AC29EE-03B3-48DE-9DC6-F6CDC873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2AC14A-42E2-4ACA-95E3-CC04AEC6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E846CC-8C6C-445A-BBAE-FA8ECC3A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BC05E22-FB0F-4B50-839A-1A950650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EFA825-0AC3-4EEE-8094-3DA37FB4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2AC1AA6-2996-453C-81B0-9BAE8B00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98137B2-F6C3-4B92-A75F-571EC8A3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9A02EB-2F89-48FB-9D93-7FE55768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961BF1-47B7-49BA-BEB3-9E5D6F23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2695F76-C8EC-463D-9C03-17AB5EC4F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296D-0762-48DC-A054-55E74E29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DE47E-4DBB-4000-9988-CCB9B8D8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0738063-0D13-4D9F-B072-A1DB28F1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FA34813-1EBC-4360-9DB4-8ED048779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59D790D-FF4F-42B6-A796-018AB009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7B01B82-CB7F-4B0F-9872-DD5DFDD7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7FA5D8B-61A3-4B27-93AE-5A43E8C6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3679E6A-3780-4F20-B782-880DFB9C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6718251-2590-41A4-9896-B1EC8532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A896E82-EBB2-4E30-9CCF-F2F16BBB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0921CF8-5ED1-4993-96DC-42E81607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0BF7081-1032-4B54-906C-6ECA6D44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F0832-9C05-47CB-B895-BCC021E3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1DA4CF-2D11-44CB-BD36-93C3893B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5642673-0C96-4C8D-9D15-E9D770794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803538-F0E1-49F2-BE8D-C5585AED6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8147EF3-A9D8-46E5-8177-130128126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A0D9299-FAAD-4EBC-8962-7A4374D0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289C6BA-ED72-493B-9B77-9BC39AAA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2074A3-401B-4261-BF4A-E375C8B1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3DF8AB6-6122-4955-A8F7-306A3570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9B970B3-F6BB-4E96-B20B-91865ECD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E90A0DA-1E76-43BB-A23D-6D68D88E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91F8E-410B-4FD8-B0DB-797D8533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8826768-315C-4313-8EA2-43DB2397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D3F8626-8D51-49C8-9F50-DBF7D780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95CDB80-DDE4-4B4A-962E-0F44D610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E225AE0-3CE1-4571-A254-208ECCE5D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E55CD9E-65FB-4509-9BED-8CFD7FC41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F4299AA-5A07-43E8-B213-C09BDE09C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0F6DFC6-8ED4-4F72-9FC4-DE523FB0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41ABAFE-026D-4344-8B87-277FBDF7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23FE848-975A-42F9-BD32-F8FD5719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CE92793-1A7F-4859-B748-A81ECBDA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63ECC-DFCE-46F9-B61D-8391ED64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1212C8B-4A91-40F2-9FC0-2B933F91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F9BDB9B-A484-47A7-AA7B-0BDBF827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1A58CC0-749D-46D3-871E-5940BA1B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1E3314D-B099-4A04-AE8C-12843EB9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3CC4736-6A0A-4C96-94CF-786BBFD6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2F77A58-7FE1-4D2D-A4F8-06C3B39C5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9EE6B72-2939-46C6-81A1-C9E72D09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59C1895-A245-4A1F-A141-8BB5FB9EB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B8ED142-76B8-429E-AE5E-131BE90C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8025F32-2EC9-4DC5-BB06-6FFBF6DC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8108D-1D54-4E6E-B483-69929BDF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4F41D70-A68B-4835-A643-D9A94174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B3F8555-C83B-4141-89CD-27A801D7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C06DC6E-8660-4A32-8368-7DC7FD19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4140427-BE8B-4074-8B11-09FEB473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FD292F2-DAEA-4DE3-ABE9-9651E299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1B2DB73-676D-4A01-B2BB-D69F6C06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96C91EA-D2B3-4D2B-8B8B-9E78DEEC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BCA38D3-6B73-4010-96CB-F9915E108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91329B4-C9E9-45A8-A72D-147E5E852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B70029C-D53E-4DAF-B20A-1C5C8BFD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C12FD-96A4-4F8E-A6BD-6E70BF47B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7457BFA-0EBC-4B88-BA70-8336A4E9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409E74A-DE81-4B30-9FDD-A956793E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43686CB-745C-4940-81E2-FA9E83B1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716AF8F-BCFA-4919-85B5-D408DE9E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9CABAD8-2CDA-43F3-A616-F30BDC1D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5D37426-4253-416D-B583-BABEC542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B6D14A6-31B8-4BF2-89CA-1E494F98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9AFC6E7-6619-4BA3-9938-0D1B0117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86BFB33-9181-4448-8595-3932137F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4785C1A-CE48-4359-BC91-CF187632D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BEDDF-712B-47C2-A73D-3B9B66CE7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0B3A13B-5B1D-425B-8742-92EC682C1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5911553-F583-4565-8753-304F13AF9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B67C0D2-92E7-444F-8C8F-E239BC8C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A6DA07A-DF0A-431F-99F0-4FC4CF5A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A2EB028-57F8-4135-9997-3DD9E9E1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59C48FB-9BD2-4C31-A0AD-EF7C86E5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BBFFFF0-460F-42E6-8FEA-FB7B3E13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39E314A-FA54-42E3-A3B2-EF8356B3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9458068-D6F6-4ABD-B87B-7D5090C1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BDF5E78-600F-4FA2-A2D0-8CD5D045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5A1A5-8492-4467-A0BE-E437FE3F8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839250F-1C16-49FF-A090-ED118E51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ED10A54-1192-45EE-A353-1FAB4AB05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21BEBFF-119A-4194-A757-043FBAEC6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310B1A8-FD97-41D5-B5D5-DE6FBD34D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6BE3EFF-A197-417A-9D96-39E62928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00DC950-C017-49FC-9BE3-9817F3AD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0F09DEF-DB6A-4896-8010-0F25567A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A0EDCA2-E9A8-4675-9D68-637A7162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D4AF16E-B9CD-4D66-8034-BB6EADE1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E477828-CC42-4BBE-9CA9-70F67DAB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8FDB4-5E97-449F-9E36-F908B0B9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885AB8E-6C0B-4B81-B5AA-B5CD83AF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C2C266E-93FC-4BC9-B120-9A13CC0E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5AAF319-79F7-4344-B1FF-DAE4144A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E5F647B-8BD9-4C07-968F-6EAE035D4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3866EF7-1976-4671-A490-95B2934B7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A7A6A92-D7D2-4E51-840D-516898A24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5B3683C-F8F7-4E90-8BFA-857B2A21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A06D908-795D-4147-A646-3E83E9ED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E42FD92-C095-4E47-8037-97B52CB1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625BBB1-030E-4F16-A105-B311D4B2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44B2B-6CE1-4414-A3D4-0D45ACE6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248B87C-0209-43B5-945E-B3BC01B0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DC552A8-EA5D-4687-9810-93987088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CE0E388-B284-4ACE-8885-F8E15801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0CF792D-5212-41AE-9BBA-DC11CA9A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98CD3B9-F077-4E97-A7C1-B89FD545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A57A5BA-B2BA-457B-803A-F11347BC4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B49CCD8-84C9-4043-9629-2726035EF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1F4EAF5-2C6B-4049-A66F-3E43D30CB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E0B3889-B204-4956-814C-2B076F7F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31BAA2F-DEAD-4F63-A773-C7C20C3A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DF58-DC0C-43FD-989E-C55BBCCF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75FBD-5B1F-401B-9BCC-59B94AA2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6DEFA76-A825-4DA8-87FA-E9941B58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A0813C2-BE2E-4A16-8EDE-3526BA27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C4349B7-D660-4A68-B426-8FD358D2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B65A920-CE5B-4D9C-9153-DA619781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1757DE4-1B50-48DC-8B7D-8380E27A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780C285-3887-47D5-A644-CCB984B9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1DE95CB-78C8-4F3A-8192-DAC4FDFE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FB3201A-71D6-41CF-A365-F839C0D4F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AEAF919-EE97-43EA-AB63-9C07083D8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694A2BF-F5F6-4C18-B5D4-4E8F32A71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F4451-93A2-4354-AE40-8CD86C70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956DAB7-4307-48AF-BD10-52F86BD7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5A4F598-D174-45B4-9BEB-B0916EB8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D47579A-B9A7-4D87-830A-135128FF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47ABFA2-E91C-4B8F-B266-22E7C96F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449AB82-1BC7-4749-8659-D42D1EE6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DDF1464-0BF1-40FD-B10F-9B0FCAF3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D49426A-0AE5-4ABF-9126-B2F15302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407A5C3-454F-450C-B845-E37ED09D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BFF112D-FE64-4EEE-B0B1-7C5AAB4C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F03D8A9-927A-42DF-AAE9-A2A543845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DE4F0-F53E-4A9E-B19D-FCDB95BE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6E7C178-BDCC-4D47-BF48-8B2DDB591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1DAC5B6-0A60-4FCB-B9F3-8840A4687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F5F605E-4073-42C1-AA4D-A78A4E87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EB9CD51-FFB3-4C56-8EBD-4D99BFAB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7064162-F504-4394-8F9D-FEC048B7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3750D04-E46B-4C25-AA3B-737CD104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EED5ACA-7D75-4DD6-858C-FE9373A3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4A7E1EA-E984-4A60-A10D-2E618002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13C8ABC-1E25-4D9F-963E-10CA8C4B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767AC97-1D03-433C-9D7E-63F20217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6EFDF-510C-4606-8001-6BC582F5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2112CE9-6B37-4DB4-ACBE-AA1C4277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6FA73C5-F656-458F-BABA-9D9664B01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E3A698E-7281-481F-9AC5-EAF870719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89906-156E-44A7-9E6D-50DD45F0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285EF-B6AA-4BF9-A5C0-53323CF9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4A21D-D4E1-4D28-9718-F65D7E13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DF3D2-3692-4B2A-AE7F-AA253D2AF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9FCA4-82BA-4157-87C2-E78D40380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5466D-4C9C-4AAB-97AD-C8E070C5C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A392-5733-4DA0-B49C-8EBF1049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44343-6167-4ABA-ABB1-B4F4E234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2724A-1A5C-4E01-8406-D2AC95C5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C6F83-7176-4579-AF70-6198638A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EBD24-9640-4F98-867C-0D4238BB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CA949-B747-44B3-9075-5A014A99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D32CC-E1F3-48B1-A646-338F5A93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C06F1-8308-4662-810C-22DC5AD0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01032-3051-4D3D-A627-E3CDCD29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0FAB9-B5D9-4D78-86F8-3EB2E819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FCF69-276F-4BBF-BE5C-3D6CC1FA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D334-EC72-4A81-8738-A07A4DE6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8D1A2-6CBB-4247-8E8D-80332D948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1CFDC-D56B-4316-9016-EA3421EFA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D0E88-E849-47AF-9BAD-1A593DCD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0599A-5A15-4F74-8CDF-49E8D845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DF952-0B33-4B1A-A569-CA2F75B4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96908-4CDF-44EA-A012-28077517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14C1A-0F6A-45F4-9892-B211E959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45ADB-D9B2-42F3-826A-5028FF35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558D8-34A2-40A0-9727-13F13481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0E395-903B-4154-B877-9E5DEB2A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E1DD-1ECE-4363-BA56-5A23ED5E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2F5AA-20B4-4C70-928D-9FA3AA75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73BD7-52C5-4D2B-9C13-B5D95DD71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3D954-9541-4C2D-9D0A-3A7D89CD7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82CA4-1DF1-4C12-8C39-A71830FDF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AB211-0D04-419F-82B1-68AB58D8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A85B3-3BE9-417F-8871-E160FE15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33E81-05BC-41ED-AFE4-888049B3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CB3AC-924E-4C81-B28B-EBC9F578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6D40A-B0DB-4FB3-BC3D-F7A75F2E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A2F75-CCF0-418B-9062-255BAB39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7DD0-3175-4452-8DF8-4BBBCF65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96163-410B-4E2D-ACAA-441B4732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4836E-0ECB-4386-89DE-E8987668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D589E-6B43-49B6-A86A-AA05B071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C6932-4A9B-4C04-89D3-4BCA20593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F82B7-F42E-447C-9521-A22E7E410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E6673-3D37-4081-8465-F7196D544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5AB18-46AC-426A-BD34-D54C6BF0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B8C4E-4EFE-4627-8C8B-029BEBAF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37C7A-17F7-424A-BD98-F6B336E9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0E87F-584B-43D9-B70D-24AA482B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A4A5-E30D-4205-BE6B-D5BF8084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7AB36-C99E-40BC-A457-2C024C5C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6E66A-167C-463C-9358-F5E075B7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99B3A-05EE-4FD2-B948-BAC1C35F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E8578-82A2-48FC-82F5-D6CDFB63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DD220-18FB-4C97-8F5F-329CC455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5F973-9AA3-45B1-9F36-1180C4697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E118F-2998-415C-88F2-558BB1A60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BDB61-3759-4EA3-BA81-ABBCB04E0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64380B-8082-445C-9677-B43E07B6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12CEA-A7F8-448D-B235-662FB1AE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4B9A-2873-437E-AA9B-1443099BE62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3618-2AF5-4064-AE74-F7433C3BE16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1EB7-DE00-4651-8E1D-168BBFFF6DA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2AF3-D3EE-416B-9A83-0E01DEB16E6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A84C-BD6E-49FB-B972-C21589976CC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EAA8-1D51-4787-A9A2-CCAB338024D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95AF-ADF2-4407-AB55-0AC5FECF8C0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419C-8619-4411-885B-12C8B482D37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99B5-82D5-4A4B-81FD-6C9ACFF688A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A3F8-3ACA-4698-9BE5-C139C1F0B37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9502-4ECF-4AD3-A34E-977FDD60485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C456-8CBE-45AC-88D9-5CEBCA18B1D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0E4E-59CA-450F-B93B-E951EE81274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D162-7CA4-4286-AF4F-B4C6BF29230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C5B2-4F78-403A-8958-007CB7B8EA1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6FB6-CE8D-4057-AC08-6EFAFA1BF0A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4171-8716-43C9-A6D0-C61F4E2DDA1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2704-1301-48F8-AF60-742B3C177A5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7788-2562-41F8-8E33-8C1A29F2E92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9119-A0F8-4F09-BBA9-30E44D09EA3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ABBB-6D56-4525-B17C-A028689DC91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766B-6A63-42C5-970D-835F4D636BA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99A8-DBB0-42C5-84AE-B5575406DA3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DD1B-1413-4338-BEB0-B2D62705377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51CC-C10A-4B85-8D1D-AA674F17883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D420-418E-43A2-833C-BCF39C0B16D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0671-7E07-4862-815C-6D16D9C6CE5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D054-5785-4F72-99B2-6B10F6B6EC0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44B6-1CB6-494B-A173-EF3F63D246A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E2C0-D9C7-4991-B497-0EA441EFD0D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4E94-6AA8-4B30-9F76-6147754DB01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BD59-CD9A-4AD5-A57C-E0D73DE8BFF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89BD-7538-4B40-9C6C-4AB2B7A9BE6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6F2B-106C-44F6-B001-26FC3BB64A2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6E0B-83C6-4EAF-AF3B-4A5D8A273D8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D346-DB7C-4670-812C-8A275AC6081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48360" cy="38685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3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44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48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428840" y="6541920"/>
            <a:ext cx="65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SETTORE SERVIZI ALLE IMPRESE e FLOROVIVA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42920" y="242856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avvio del procedimento -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art. 12 e 13 della L.R. n. 56/2009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notifica delle </a:t>
            </a:r>
            <a:r>
              <a:rPr b="1" lang="it-IT" sz="2000" spc="-1" strike="noStrike" u="sng">
                <a:solidFill>
                  <a:srgbClr val="333333"/>
                </a:solidFill>
                <a:uFillTx/>
                <a:latin typeface="Arial"/>
              </a:rPr>
              <a:t>comunicazioni di avvio del procediment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portale agriligurianet nella sezione PSR – sottosezione misure/;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Bollettino ufficiale della Regione Liguria (BURL).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ccia in giù 4"/>
          <p:cNvSpPr/>
          <p:nvPr/>
        </p:nvSpPr>
        <p:spPr>
          <a:xfrm>
            <a:off x="3857760" y="3714840"/>
            <a:ext cx="71424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142920" y="1714680"/>
            <a:ext cx="8858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cura del Settore Servizi alle Imprese Agrico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ella ricevi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o dei termini e delle modalità di presentazione della domanda di aiu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documentazione (documenti essenziali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firma del legale rappresentante (ove richiest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struttoria di meri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dei requisiti dei soggetti proponent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oggettiva delle domand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zione del progetto/corso/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ribuzione del puntegg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i prescrizioni e proposte di azioni correttiv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4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2560" y="1785960"/>
            <a:ext cx="86439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e 2° bando Misura 111 “informazione”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to del dirigent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duatoria delle domande di aiuto ammiss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enco delle domande aiuto ammissibili e finanziabili in base alle risorse dispon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empimenti per le domande non ammissibil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RDO tra Regione e Soggetto beneficiario</a:t>
            </a: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114 e 1° Bando “informazione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llaosta (Atto di concession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7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ccia in giù 4"/>
          <p:cNvSpPr/>
          <p:nvPr/>
        </p:nvSpPr>
        <p:spPr>
          <a:xfrm>
            <a:off x="4143240" y="207180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ccia in giù 5"/>
          <p:cNvSpPr/>
          <p:nvPr/>
        </p:nvSpPr>
        <p:spPr>
          <a:xfrm>
            <a:off x="4214880" y="3571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90400" y="2000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conclusione del progetto/corso, preventivamente indicate nella scheda tecnica e definite nell’accordo/nullaos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re nei tempi previsti dal progetto/corso approvat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e richiesta motivata di proroga (escluso 1° bando – misura 111 informazione”) non superiore ai sei mesi sulla data di conclusione (compatibilmente con le scadenze comunitari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Attuazione Proget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14200" y="1928880"/>
            <a:ext cx="8624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ese Ammissibil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finite nel Bando (punto 7), in particolar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confronto a consuntivo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tra n. 3 preventivi (non richiesta per beni altamente specializzati e per acquisti di beni - importo di 500 euro x domanda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V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non riconosciut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econda del regime IVA e per gli Enti pubblici</a:t>
            </a:r>
            <a:r>
              <a:rPr b="0" lang="it-IT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egorie di spesa e voci di spes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previste dal Bando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delle spese è valutata ai sensi della DGR n. 372/2008, e ss.mm.ii (DGR n. 1396/2008, n. 317/2010, n. 580/2010, n. 815/2011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grue, conformi ai prezzi di mercato e coerenti con il progetto/corso approva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ficate e giustificate (preventivo e consuntivo) - distinte per catego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5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ttangolo 6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non sono ammesse varianti</a:t>
            </a:r>
            <a:r>
              <a:rPr b="1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minuzione del punteggio attribuito 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di ammissibilità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del progetto/corso/s originario in termini di obiettivi e di risultati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sostanziali tecniche ed economiche della singole tipologie di intervento approvat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mento dell’onere a carico del contributo pubblic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9997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 Black"/>
              </a:rPr>
              <a:t>Per la misura 111 e 33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Costituiscon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i in corso d’ope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immateriali di carattere giuridico, tecnico ed amministrativo (es. cambio di sede di realizzazione dell’intervento, adeguamento del crono programma, sostituzione del personale coinvol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materiali: riduzione della spesa prevista per la realizzazione di un intervento ammesso all’aiuto (a causa di economia o mancata realizzazione, parziale o totale) e contestuale increment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azione in aumento fino ad un massimo de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%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s. spese di personale, materiale consumabile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mo una variante finanziaria per domanda di aiut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richieste di varianti devono essere preventivamente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unicate (preavviso di 10 giorni) e autorizzate dal Settore Ispettorato Agrario regionale (prima della data di scadenz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costituiscon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e in corso d’ope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(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comunicate e autorizzat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iduzione dell’importo (per economia di spesa) in una o più voce di spesa ammesse all’aiuto, senza contestuale incremento di altre voci di sp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ifiche di portata minor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non determinino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un aumento superiore a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per ciascuna categori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Domande di Paga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7856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domande di pagamento e le relative rendicontazioni tecniche e finanziarie devono essere inviat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 Settore Ispettorato Agrario Regionale (competente per territorio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isura 114 e misura 331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60 giorni dal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Bandi misura 111 “informazione”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istica predisposta da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ti avanzamento lavori (se previste) e saldo finale (non ammesse anticipazioni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alità di rendicontazione e di pagamento sono definiti nel dettaglio nella DGR n. 372/2008 e ss.mm.ii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7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iolazioni di Impegn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5550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fattispecie di violazione di impegni e dei livelli di gravit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entità e durata per ciascuna violazione sono disciplinate dall’alleg. 7 del Band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DUZIONE e/o DE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cuni esempi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tardo nella presentazione domanda di pagamento, non conformità del materiale informativo, variazioni varianti, comunicazioni di varianti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o salv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o disposto ai sensi dell’art. 31 del Reg. CE 1975/200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inapplicabilità di quanto disposto al presente articolo per i casi di forza maggiore previsti dalla normativa in mate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applicazione di ulteriori norme comunitarie nazionali e regionali in materia di illeciti amministrativi e pen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9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ccia in giù 4"/>
          <p:cNvSpPr/>
          <p:nvPr/>
        </p:nvSpPr>
        <p:spPr>
          <a:xfrm>
            <a:off x="4286160" y="2214720"/>
            <a:ext cx="6429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1488" name="Picture 4" descr=""/>
          <p:cNvPicPr/>
          <p:nvPr/>
        </p:nvPicPr>
        <p:blipFill>
          <a:blip r:embed="rId1"/>
          <a:stretch/>
        </p:blipFill>
        <p:spPr>
          <a:xfrm>
            <a:off x="2357280" y="1268280"/>
            <a:ext cx="5346720" cy="25196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356760" y="3929040"/>
            <a:ext cx="8643960" cy="22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Black"/>
              </a:rPr>
              <a:t>Seminario Informa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Black"/>
              </a:rPr>
              <a:t>nuovi band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1 “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n. 677/2013 e 672/2013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4 “consulenza aziendal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10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331 “Formazione e 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31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Revoch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accertata falsità di dichiarazioni sostitutive di certificazioni o di atti di notorietà contenute nella domanda di contributo o allegate ad es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ncata realizzazione del progetto/corso/servizio di consulenza ammesso a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del progetto diverso da quello ammesso a contributo o diverso dalle varianti autorizz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liquidazione del contributo irregola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ve irregolarità dei documenti che attestano le spese sostenute da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necessari per la concessione del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nuncia de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3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 Gener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8643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nei tempi che consentono il raggiungimento delle finalità della misura in conformità agli obblighi derivanti  dalla normativa vigente e dal PSR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in modo conforme e in coerenza con la proposta approvata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a disposizione  della Regione e di ogni altra autorità pubblica incaricata dei controlli, tutta la documentazione necessaria a svolgere l’attività di controllo, anche nel caso sia detenuto da terz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ire l’accesso degli incaricati dei controlli ai luoghi  dove si trovano i documenti oggetto  dell’aiuto pubblico ed ai luoghi dove viene svolta l’attività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re  per almeno 5 anni tutta la documentazione (lett. C, art.7, c. LR 42/2007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curare il libero accesso alle iniziative previste a tutti i potenziali destinatari, senza nessun vincolo di appartenenza a forme associ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6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Normativa di Riferi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i adempimenti e gli obblighi sono previsti d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olamenti comunitar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a di Sviluppo Rurale 2007 – 2013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R n. 42/2007, in particolare l’art. 7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D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ispecie di violazione di impegni e dei livelli di gravità, entità e durata per ciascuna violazione, ai sensi del DM 22/12/2009 (all. 7 del Band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038 del 10/09/2010, relativa all’individuazione delle percentuali di riduzione in base ai livelli di gravità, entità e durata delle violazion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233/2008 “Disposizione in materia di pubblicità e informazione sul sostegno da parte del FEASR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372 del 4/4/2008, e ss.mm.ii  (DGR n. 1396 del 29/10/2008, n. 317 del 9/2/2010 e n. 580 del 28/5/2010, relative ai criteri per l’ammissibilità delle spe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9" name="Rettangolo 3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3480" indent="-1653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ATORI DI SERVIZI AGROFORESTALI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entrano esclusivamente i soggetti che hanno ottenuto il riconoscimento di Organismi abilitati dalla Regione a fornire i servizi di formazione, dimostrazione e consulenza alle aziende agricole e fores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i dell’aiuto: misura 111 e 33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getti attuatori: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i BENEFICIARI DEGLI AIU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FFIDA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 soggetto proponente in base all’esito di eventuali altre operazioni cofinanziate dai PSR (dal 2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NSUSSISTENZ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i relazioni di parentela o affinità con dipendenti regionali“ (Dichiarazione  sostitutiva di atto di notorietà  (“Piano di prevenzione della corruzione e Programma per la trasparenza e l'integrità 2013/2015“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E MINIMIS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ove previst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1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2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ccia in giù 4"/>
          <p:cNvSpPr/>
          <p:nvPr/>
        </p:nvSpPr>
        <p:spPr>
          <a:xfrm>
            <a:off x="3929040" y="257184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mprenditori agricoli iscritti al registro delle imprese, dotati di numero di partita IV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eratori forestali, iscritti al registro delle imprese, che abbiano un’attività principale o secondaria con codice ATECO che inizi con A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ggetti beneficiari per la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stinatari della formazione e informazione per la misura 111 e 331 (possono partecipare coadiuvanti familiari, iscritti all’INPS, e lavoratori dipendent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i destinatari con sede legale nelle aree rurali ricomprese nell’Asse 3) del PSR (zone C e D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2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6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ccia in giù 4"/>
          <p:cNvSpPr/>
          <p:nvPr/>
        </p:nvSpPr>
        <p:spPr>
          <a:xfrm>
            <a:off x="4071960" y="300024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Entità Aiu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6760" y="1571400"/>
            <a:ext cx="8572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% di aiu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euro 327.4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 de minim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euro 447.662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80 % de minimis </a:t>
            </a:r>
            <a:r>
              <a:rPr b="0" lang="it-IT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solo per consulenza forestale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1): euro 1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2): euro 3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0" name="Rettangolo 4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ocedura (FASI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90400" y="17859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zione domanda di aiu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strutto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rovazione e negoziaz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cess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uazione prog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3" name="Freccia in giù 3"/>
          <p:cNvSpPr/>
          <p:nvPr/>
        </p:nvSpPr>
        <p:spPr>
          <a:xfrm>
            <a:off x="4500720" y="221472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ccia in giù 5"/>
          <p:cNvSpPr/>
          <p:nvPr/>
        </p:nvSpPr>
        <p:spPr>
          <a:xfrm>
            <a:off x="4500720" y="30718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ccia in giù 6"/>
          <p:cNvSpPr/>
          <p:nvPr/>
        </p:nvSpPr>
        <p:spPr>
          <a:xfrm>
            <a:off x="4500720" y="40006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ccia in giù 7"/>
          <p:cNvSpPr/>
          <p:nvPr/>
        </p:nvSpPr>
        <p:spPr>
          <a:xfrm>
            <a:off x="4500720" y="485784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8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642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57120" y="2071800"/>
            <a:ext cx="8462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“cassetti”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1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luglio 2013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2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settembre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IMPORTANT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entro le ore 12:00 della data di scadenza, indipendentemente dalle modalità di inolt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0" name="CasellaDiTesto 5"/>
          <p:cNvSpPr/>
          <p:nvPr/>
        </p:nvSpPr>
        <p:spPr>
          <a:xfrm>
            <a:off x="166680" y="651024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2920" y="2287080"/>
            <a:ext cx="885816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presenz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la documentazione prevista dal Bando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cumenti essenzial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ltri documen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firm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 legale rappresentante e coordinatore tecnico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(ove previs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compilazione e </a:t>
            </a: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rilascio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sul portale SIA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33"/>
                </a:solidFill>
                <a:latin typeface="Arial"/>
              </a:rPr>
              <a:t>NON RICEVIBILITA’ DELLA DOMANDA DI AI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3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ccia in giù 4"/>
          <p:cNvSpPr/>
          <p:nvPr/>
        </p:nvSpPr>
        <p:spPr>
          <a:xfrm>
            <a:off x="4143240" y="5072040"/>
            <a:ext cx="6429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42920" y="2071800"/>
            <a:ext cx="8858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umenti essenzial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odello SIAN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pia della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rta d’identità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 corso di validità del rappresentante legal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finanziari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i documenti (in base al Band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regime IVA e altri finanziamenti con fondi pubblic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“de minimis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urricul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Rettangolo 4"/>
          <p:cNvSpPr/>
          <p:nvPr/>
        </p:nvSpPr>
        <p:spPr>
          <a:xfrm>
            <a:off x="1940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2:33:51Z</dcterms:modified>
  <cp:revision>100</cp:revision>
  <dc:subject/>
  <dc:title>Presentazione standard di PowerPoint</dc:title>
</cp:coreProperties>
</file>