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BAC3-5E37-45C2-9FF1-B0CCC5F63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410C-B5E6-4D63-B2DF-E47E4021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2333BD-7AC0-4219-A185-CACF9EF6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DD4EC2-2BF0-4BDA-9844-C24B499D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585C9A-96F0-4F0A-AE78-C1A0A086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36854F-4D2F-48A5-8C8F-EA052E8F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0EAC30-2A98-4D88-A081-550065CB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2E8C6-8726-4D9F-9E85-6EF09662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C0CA0-7F69-4F2F-BACF-CA50F291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E56743-DA00-42FE-9E10-5D6C2E792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40EA57-635A-4031-A0BC-902AC2581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040C3F-D311-47D4-AEB1-BC4910A70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01A7-2C0A-49A1-920B-83D117CD4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19FFEF-F2B4-4461-AA01-03DF9011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F50A5B-6EAF-448B-8557-701D9A7C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667C16-0285-489B-AA63-2E5008C4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F44F95-C0E9-4115-8C99-B0A0B9BA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B6B6D4-0B9A-4EA4-AC51-FE2D8F0C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C801E3-FB08-47C0-A603-628BEA02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7A86E8-9600-4D8D-8374-6A7B3CBD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690B90-5C53-4176-92BD-1611E1DA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59DEC5-731D-4B33-AF43-039CF809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70468A-CE10-43A9-BE5D-6CCB3CB19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B9B7-BF2A-4ADB-9B5F-F6D05B618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0CBB64-665B-4846-B829-F14B94AB9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FB82E-D0DC-45FA-9150-BDBF33DDF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353C8-BB0B-485F-8611-ABADC64C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511D92-6848-4F74-A276-3CF5B961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5BE5C5-8F31-4FDF-926F-60707D8C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B36092-6C59-4947-BA8C-991BB182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5EDAB2-3B48-43BF-B146-550A70A0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4CCD01-2D78-49FC-9410-D54E4218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F84FB4-1678-4C2A-A08E-67890E32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8FAAC-EE9E-4FEE-9F3E-EE2F1D2D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A442-0FF9-454B-9B94-311751D3B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B701D7-EBD2-4BDE-8DA1-535CC859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2EBB7-D5FA-46D8-90EB-0FD0E0D89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90AA4A-35C4-4938-A9DD-84A78A271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B3A2CB-CB17-4BF0-ADDC-7FDEE29E0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5D7F74-52AD-4589-9FE5-8CB254FB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6F2282-FD1A-478C-AABD-DC118DAF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D5BCC4-94DB-4AF1-B176-50C1ADC7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BDD5F6-6457-497A-AEB4-A74C1100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B7BDEE-3645-40DE-A28B-29C29976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6D227B-021E-407F-A3BA-2AC491E5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DCB7-29B6-497A-B70C-019463B5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6786D7-E029-4733-A3C6-1C5A6B41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C80633-59C0-4ED7-B3B0-7A872EBA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96E9F6-EB83-4E93-BBF6-9FE97658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256350-CEEF-49AB-A175-9719C945E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519401-FAE0-4156-853A-51AA0F5FB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C25233-1A95-4784-8E39-33E1C5493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8D0EFC-0733-4C7A-B30F-CA026BA2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EEC1A1-7EEA-4D8B-909E-AB1E1AE0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2DA943-6E72-41B8-B283-26AC358E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E13BC6-736E-4045-B178-3A7B18ED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4869-A4BB-44EB-B47A-7A68936B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5A0B00-AFEC-42CD-814A-C9F68B5E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F86F16-4E90-4349-8A04-05B4B3D9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8AE7CB-BC66-4F56-BE53-6098DA9E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3B057D-7FF7-479A-8261-CFB23AC6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4AA372-C590-4350-A2C0-B181AFCF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49A24C-8299-4902-8ABF-706BDA868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229263-EC7D-47A1-B812-4D1EBA01B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10D92D-F974-4ACF-AAC5-3153638DA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3754F6-61CE-4535-9F42-2D6193ED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5C35B8-AD7B-477C-9108-A57135F7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7B64-26B6-4A79-B05A-ABD68494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B629F2-804D-48B1-A502-40566F7E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8193B1-8A67-4EB8-AE27-950D9099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5EC901-07C3-4937-887A-0ED56946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6463C7-7F50-461F-A6AB-EE129443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EBED40-049B-4D22-A772-84E36027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9E73D4-7686-49CA-AFE3-98F708EE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5248F9-533F-48EF-AEC2-827B7FAC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09461D-E2F9-4D72-B16D-DC816A566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665FB3-A59A-4C7A-81B7-F55EF45BA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3DB2A4-C531-4506-940A-44D9C5C16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553F-F5D8-4779-B8C7-E035E994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29EF0E-3BDF-43F7-A30B-9DC985C8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35FFCB-D102-463A-BA73-D6F79634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915614-A791-41B0-BC07-1A784B75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F4D697-51A2-4FDF-A17B-9685E51C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7B611C-F8EA-423E-8F64-D8422E91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4C46D1-118E-43D3-BAF0-D957C385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8018AB-02DF-44D1-A3B7-468D4CCD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AC201B-D176-4404-A7D7-2E4AE001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9D931C-4459-45F9-9A3C-A527BDC0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47C87B-6C3A-429B-A7B8-328FD8F36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3B238-FCA9-4C81-AE00-178F9BDF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77978C-1A24-4906-A8EA-F1EFA786E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E7E195-6B49-4A10-B934-9F0846F2E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3D84B5-0CD6-4B21-9D3E-AF37B7A1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8B41EB-B60F-4105-B47D-0C1732E2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CDF267-B599-4835-8714-E7682C36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A5377C-A47F-4AE6-B0A3-093AFD1E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0D29F4-6167-4D8E-A7B1-BDD395BC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14F544-B618-47E4-AB5E-DE988ACA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5FE6A3-0C91-44C7-B70E-69394E80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5314EA-74B7-47CC-BBD8-9BBFA732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7ECEB-41D1-4437-8B85-5C7455B5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435B11-A0B0-46B6-B0D4-A9FEC404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C6E761-3075-4A7A-B7D4-5E02B563C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420936-BFF8-4058-8697-794AC165D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C18601-0744-4D81-86AB-35257506F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622FD8-D70B-40EB-BF6A-89FEBB39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C2D07E-4705-4C62-88B6-1DF44390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59AA88-1CCE-405C-961E-C8967900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AC169F-8BBF-4646-AD7B-6CB752E7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D40D39-8BEC-413E-85E7-628B0122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6E6454-4DF8-47B3-9708-A31695CD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2C6F-A71B-480C-B5D0-3A883F5A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AC10-0595-44A3-A2C9-98F5DD8D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A66825-2D9E-4E33-86F0-01C6A19D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DE1663-EEA9-42D8-84B1-D6E8E752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159568-4957-4B99-9C2F-129A6F0B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C3D561-D350-4062-9312-F2AC558A1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923068-E32E-4D70-BCA6-850717DA5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0D16D0-06EC-4913-BC54-259E73CCF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4F385E-1BFC-445B-BBE1-5213F4D6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814D27-9AEF-4708-B40D-50268150D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2378A8-F272-491E-850A-A1018BD9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1EC9A1-DD3A-45BD-A7E8-6F033604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E3A4D-BFAD-49AA-AEFA-F95BB8B2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DD57F8-CC75-4C99-AF34-997DAA35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37A93B-7757-48CC-A319-B7530AB9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D5E226-CCAD-455F-B97E-AEF6EFC9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1132DE-DE50-4536-B9BA-4EA37E20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91E901-A810-46FF-9ABD-36486B04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FAC388-B333-43D8-AB7D-23AA6A540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4496A6-011A-4DC8-A9A7-6669969E5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C23EA2-7995-47F7-B14B-3F9569391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EBBDB5-E8EE-448B-BD32-D0C81072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E68BEC-C65B-415A-8C65-18E77DFB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B973-6A0C-4F3F-B106-121C2EBA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F2B3D7-3336-44F5-85C1-72FB842D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B89F4D-7F3B-49BB-9E17-36712AE8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B9C473-D7EB-4E71-A7F1-2FB93CF5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D790D3-A7A0-49D5-8EB0-0007BFFD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81082C-8DB5-48BD-B224-D73D75B0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6C80C3-12EA-4E8A-9BC3-083167A4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36949A-EDB8-4304-8695-61D3565B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35FE7C-4E50-4B66-AB81-A1452AD4B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5AEA40-C4F3-4F14-B5A0-448BA57B8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2CFA3F-DC31-4B06-9046-E5DBC5BB8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0DC0A-33C2-4F81-87F5-BA4132B6D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9B1162-5BD8-45E8-9E47-326556B9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383D99-E193-445F-AC0C-CAFCE754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8DD470-C4A2-4AD6-A857-B9F84DC1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69D290-B256-4577-A121-88CC7E17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D953D7-C901-4BFB-A299-B44EA668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4C0CB0-AB24-4615-8351-D66F3711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09F66F-6DDB-4C57-9C58-54295E44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6F0F8B-F03B-4C4B-BCD4-438D4EE2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B14F4A-D073-410F-8615-D5BF6AA1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247BE0-E19A-48C6-AC33-15C69D988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6CD41-3089-4EFF-8CBB-19B485310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8B18B0-57D3-4B34-8676-2D4AE2E13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7EFC02-8480-48EC-AB5A-FC9328959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7DB40D-54BD-480A-830E-B81582A6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EC2FF9-BDF9-4AD1-95C4-30BF6884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DB4D4C-762D-41DF-9372-0162DFC7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C7398C-E02E-4B59-BE2F-15A63291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847057-65F0-489E-9D77-EBE50192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19B9C6-2953-47D1-B741-14963C8C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F6B682-F305-49B4-AB95-FF8672A3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D9D03F-1FCD-40B2-828F-08BDDB4A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AF92F-31F9-4C3D-968B-765D7E1AE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69F9B2-B774-41DE-B9DC-DFC022E6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0A15EE-242E-4C51-BF94-E4207FFD5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BBBEDF-D671-4158-B209-D2D4646E8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E792A4-D813-4EBB-915C-5E7BD1F6D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D50EC1-1614-4469-A81F-83E59B91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F4A1E1-A0F1-4BEF-9CE8-C5FE1CC9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BCC13F-1079-4D25-B217-AEC9C194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229128-947A-4748-A62A-D98B79E1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910A20-DE09-4378-BE5A-D3F2F3D9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A0CACB-06BD-4EB8-9200-04E18237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A0149-09EA-426D-8E0B-BE6839CB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18860D-2ED2-4230-B334-288378C7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627742-701B-427A-A419-C91B868F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7787B7-CA4C-4C96-B25C-6DDB43EC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1191B1-8E38-41A1-8DD7-3FF493B3F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C04519-3D2A-448C-B83C-76331C719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0C2E94-043D-4F59-9987-2794C3807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3C7563-BBDB-406F-9E81-620A3193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6C97D3-EF5F-43D1-8644-44096131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0173B2-3ABB-4128-8129-A4C48426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A90574-0C2F-43B3-B327-99F66E98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3DA50-ADB4-4217-B5E1-58EEC6DC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500D6C-7527-4591-BC13-AAD19A95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AF9431-5B35-405D-BD78-1FEE8D44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B0942A-5348-4768-8FED-F4B38BB8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3395A0-68FA-4371-A8E1-85F363CD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DD830A-903D-4C5D-9DA8-EFD4534E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437750-38C5-41C6-90EA-7ABC6E8A1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F549C8-AF4E-45D0-B6DE-5657E216D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46B07D-9903-4D89-93AD-B07141B5B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EE6E3D-2FCB-4A8F-9004-0BC6286C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DB97F3-2556-4830-A76B-F11197B3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C1169-D59F-41AB-802C-0A91A9EE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4893D2-237A-4BC8-AAD8-0DFDE776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1E8C52F-870A-4B0E-8A2D-2B80AE69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1DE87C-22FA-42FF-AA25-1D385472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62766E8-8F30-4A83-A1C2-B4B9A04C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1061B3-1DB6-4573-B877-76CD2896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E150F6-3ADE-4C50-BEA7-084EFA73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2B4CE1-8F72-4F72-B58F-DE2CE5F1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404F08-0A94-4868-85CD-794F92D96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4E92D36-A5A6-489F-8C62-4BD652414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02290-5156-49C7-95F4-403E3240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7801-4269-42DA-92F2-51FDAB5E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89C8F-55A6-4F21-9B3C-EC5FE2BF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5E473-B1B8-4A5B-839F-CE9DBE39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FB24C-A6C6-481D-82BF-603853B9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8CEB6-CD68-445F-9146-FEBB34C6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233D4-A6E6-4120-8E9C-F4200993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24AF3-6E4A-4BC2-A990-9F2E1DC80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2DB99-43DA-4EB6-8261-75E0E05D1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171E0-0297-4CC7-AF67-B679777E9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26D50-A6A8-46A0-BDC3-0F1CF332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0C47E-7200-4357-96D3-59890D99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4010-E72F-4025-8941-C4829621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BBD01-24E1-4CE9-9362-DF9472E3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003F6-5E50-435D-97FC-99CCCFB5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51BB4-56DB-4850-BF25-55351637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F8519-147E-47A7-9120-204FFA55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40CAE-9BBF-490D-8F19-34C49EB2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2CB24-C705-4E81-A1A2-67C9E3C3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47194-B0D4-4949-8DB5-B7F12A2E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32189-785F-45FE-B527-D4EEC13EB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4F305-13A0-43ED-A808-995A4586E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8F9D6-B8C9-4E25-97D7-6B11884FA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6742-B1F4-4042-9997-C65B5ECE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EEBC7-F1AC-41C3-B69A-A56EC15C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12450-0E53-4EC0-8BE7-2B8B902D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0845D-21A5-43CA-BF4B-3834FFBF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BA5F2-CDB1-4E43-8A2D-E80D2582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F1835-ED6C-4982-9CE2-7817A7CC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00137-1300-43F3-83B5-685908F2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1B24F-4FA1-47EE-B83C-7572688D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A5F1C-E99C-463A-9D07-ED4093BA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D2DD4-7607-4E74-92F5-D89461CB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017AE-FE48-4BF2-85C9-D67D8EDFA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6C87-D935-488C-9EBD-47807FA8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09F5D-2719-4FE3-ADA0-4EC8F9ACF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6C313-6668-4FAD-9CBB-FDC27D815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ADC51-B146-408D-A937-E1F1C597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39BB5-26B6-4C0B-82FF-215B4E0A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06575-F29D-4C0C-BC0B-302B71EA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95AEE-ACCF-4045-AB94-C2DC23E4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118F2-5C5C-4DD0-96F9-5FDC7AD8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ADC16-07F6-4306-A1A7-554B4A49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232E3-18CE-41EA-A844-9D4966E5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C1894-B13C-4CE8-B2B8-885EE67A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8BA6-F190-4362-91E1-56628D8B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BDB55-E7A2-41F9-95D5-7057D2C7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CDD60-853A-48EC-BA7F-ACABD53BF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4B710-89F7-41D4-9ABB-1ECB2D926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9D9BC-2CAF-4515-AA75-F0AA1F227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CCC48-D37D-488D-897E-8134FCB3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2F822-64E8-4173-8E1E-86FE8143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0D3F9-F994-48E2-90CC-F3E98F86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E1AC2-06E3-4B69-A6D0-47AA946A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949A6-38C8-4B9A-89C8-3A46FCFB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26C1F-54BF-4AC5-A369-DA55F30C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D66E-157A-47F9-843B-D55F89F2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E70FD-4B5D-4222-994F-D1055C2F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1A408-D562-41B8-9D62-B665E69F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49D72-1263-41D6-99D0-8F7B94E3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205B6-B2D5-4B27-9C77-5DC44010D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68B78-9228-4E53-B566-446DAFA34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6CC8C-4EA8-495F-BA37-735BDD923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3CE81-C818-40EA-91D3-AC1EFEBE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097D7-AA52-452A-BD3F-DB123E8B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00254-9D18-4027-823E-0BE1A6BE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BA804-1CCD-4EAB-A2E4-C0CD9FB2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4546-59BA-43BB-A826-DEF3232F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8F748-4E08-4E99-8086-E82E8555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48828-66B4-40F7-924C-DC5E0C30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783E8-D446-4501-A280-05BCA353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C3725-CE45-4DE3-A06D-B7C311CC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CC5B7-1497-49CC-BBC6-9B5D5612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6AF16-0396-4B4C-AC6C-0F2947C50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9BE98-A570-42AD-94BB-25BCA5790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4ACD5B-5D76-4535-87A0-B30F507BB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2419FD-97AD-475C-B040-C645C3E2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D7C494-0C06-42A2-A773-4718196A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BA51-D300-450D-AF24-7732977CE93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716A-7328-4E71-B36A-5EF89EF69BF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9FAB-F5F0-4224-9BF3-67B19D94341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75FF-6736-4858-933B-65A478DD91A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D5A5-08D3-4E77-AD37-F6D6F09BE2D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B3EB-E597-4D10-A5DA-8DF296AF9A3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55F7-BE32-40CF-B2BB-0F775EAC352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A169-80FB-4AA4-90CA-600D4E3F3B1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18AD-E8C0-4833-9C3C-CD047756640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33F1-5F5F-4AC4-9AD5-75101FD964A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645A-9FE6-41ED-BC0F-EFBA2FA8E7F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B9D0-7393-4C6F-A40F-76476DC686D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50EF-4F43-42D8-B4E2-1EB49A9A450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CA16-548E-49F8-8992-5CEC9B4D72A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E423-2B70-445D-AFBC-84C6ADF189F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CE52-5E0A-4CC9-BA59-FAD07E2EB57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F9B7-7405-47A8-85BD-736720D5A2F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C594-22BB-4B7B-A01A-CEFB659FEC0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4A06-8FD4-4A5F-87DF-EA929FC0418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F34B-05AB-425A-A2B4-241DBEA9945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40C7-2C16-48FA-82EA-A766C1E7813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C037-3274-4147-879C-F7098EDFCAD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727D-23E5-40D1-B810-144E3ACFA1E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77D6-70B7-4681-BCFE-65FBA75F0BE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331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ore sanitario alimentare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12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35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so base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2.400,00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o con 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re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 i documenti essenziali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lenco dei partecipanti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cors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e far compilare ai  partecipanti alle azioni formative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questionari di valutazio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artecipanti devono frequentare almeno il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%(75 % corso x OS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lle ore previste dal cors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li aiuti per la formazione previste dalla misura 331 possono essere concessi nei limiti del regime “de minimis” di cui al regolamento (CE) n. 1998/2006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 suddetti aiuti devono essere riferiti ai destinatari del cors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preventiva del cumulo degli aiuti complessivamente concessi alle imprese partecipanti, previa acquisizione di una dichiarazione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3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cors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356760" y="1571400"/>
            <a:ext cx="83581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14600" indent="-2514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dividuazione dei partecipanti (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 ammess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pese per l’individuazion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 partecipanti,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enute antecedentemente alla presentazione della domanda di aiut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re  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ue domande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corso) per tematic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sto massimo per ciascun corso: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uro 25,00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partecipante/or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mero destinatari e ore durata : variabile in base al cors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Rettangolo 4"/>
          <p:cNvSpPr/>
          <p:nvPr/>
        </p:nvSpPr>
        <p:spPr>
          <a:xfrm>
            <a:off x="34812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CasellaDiTesto 4"/>
          <p:cNvSpPr/>
          <p:nvPr/>
        </p:nvSpPr>
        <p:spPr>
          <a:xfrm>
            <a:off x="4429080" y="164304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8T07:04:42Z</dcterms:modified>
  <cp:revision>143</cp:revision>
  <dc:subject/>
  <dc:title>Presentazione standard di PowerPoint</dc:title>
</cp:coreProperties>
</file>