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2F077-95DD-4122-9870-B4DD64BB6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9755E-91BE-4CEB-BF7C-71D9E0D3C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6D50D-3F23-43B1-9C20-78452DAC4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ACE6C-569B-4693-9202-93375C17A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F9AD5-C4D5-4460-8507-076CE757E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7EBA1-DEA3-4BF4-B9FE-2997A54FD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91F60-39F2-462D-A236-FB983418B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E925D-BEA7-465B-8F66-740AC4E25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A7A51-C4C2-4A8B-A5D9-EFBA8FD9E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47D26-C067-4528-9B4B-5184AB031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EE6B3-AE00-4FD6-91C5-71257FCD5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895E1-CAF9-431C-A971-F9F2E1A00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1D0DC-339E-4E06-B26D-832F885A9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B0237-A220-4A0B-8317-ADCD4997C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53751-F5A1-440A-9D3F-57864C6A3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F469C-7D11-4AA0-B35A-049BFAD15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C2463-064E-48E0-B66E-63743B650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B5037-A9C6-414F-A018-96C75F1D3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4AC50-6E1B-4AD4-B547-140F728E8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8C8F9-8B2F-4DF1-BB1C-8458A891C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529B9-C558-4BA1-9AD3-F1AAE1B2B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516B6-6DED-4D37-BA36-8AC2ADF94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FED0C-4024-4DC0-80A8-CA8AFEBE7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EBDB2-D867-4C8F-B127-E5076901E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27f4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F88E4-B29D-4E51-80A3-E36F4AFC7E7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27f4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78E24-04C0-43D7-8271-A39CECA0320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11280" y="620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Tahoma"/>
              </a:rPr>
              <a:t>Regione Liguria</a:t>
            </a:r>
            <a:br>
              <a:rPr sz="4400"/>
            </a:b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Settore Prevenzione, Sanità Pubblica, Fasce Deboli, Sicurezza Alimentare e Sanità Animale</a:t>
            </a:r>
            <a:endParaRPr b="0" lang="en-US" sz="32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0" y="2997000"/>
            <a:ext cx="9144000" cy="36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cc"/>
                </a:solidFill>
                <a:latin typeface="Tahoma"/>
              </a:rPr>
              <a:t>La formazione degli alimentaristi e degli OSA ai sensi del Rg. 852/2004/CE e della DGR 793/201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0000cc"/>
                </a:solidFill>
                <a:latin typeface="Tahoma"/>
              </a:rPr>
              <a:t>Dott.ssa Elena Nicosia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Unità formativa  minima per tutti  </a:t>
            </a: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(durata 8 ore):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-</a:t>
            </a: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rischi e pericoli alimentari</a:t>
            </a:r>
            <a:br>
              <a:rPr sz="2400"/>
            </a:b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-principi HACCP e autocontrollo</a:t>
            </a:r>
            <a:br>
              <a:rPr sz="2400"/>
            </a:b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-legislazione alimentare obblighi e responsabilità OSA</a:t>
            </a:r>
            <a:br>
              <a:rPr sz="2400"/>
            </a:b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-Conservazione alimenti</a:t>
            </a:r>
            <a:br>
              <a:rPr sz="2400"/>
            </a:b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-approvvigionamento materie prime e  tracciabilità </a:t>
            </a:r>
            <a:br>
              <a:rPr sz="2400"/>
            </a:b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-pulizia e sanificazione locali e attrezzatura</a:t>
            </a:r>
            <a:br>
              <a:rPr sz="2400"/>
            </a:b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-igiene personale </a:t>
            </a:r>
            <a:br>
              <a:rPr sz="2400"/>
            </a:b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-manuali Buone Prassi igieniche</a:t>
            </a:r>
            <a:br>
              <a:rPr sz="2400"/>
            </a:b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-ambiti, tipologia e significato CU</a:t>
            </a:r>
            <a:br>
              <a:rPr sz="4000"/>
            </a:br>
            <a:endParaRPr b="0" lang="en-US" sz="24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Unità formativa  aggiuntiva  per titolari OSA, responsabili autocontrollo e addetti produzione e preparazione alimenti</a:t>
            </a: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(durata ulteriore 8 ore = </a:t>
            </a: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16 ore</a:t>
            </a: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):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-</a:t>
            </a: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piano autocontrollo</a:t>
            </a: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 punti critici (individuazione, monitoraggio, misure correttive)</a:t>
            </a: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GMP</a:t>
            </a: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Allergie e intolleranze alimentari</a:t>
            </a: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Rischi Specifici  del processo produttivo</a:t>
            </a: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 eventuale  modulo di 2 ore  per celiachia</a:t>
            </a:r>
            <a:endParaRPr b="0" lang="en-US" sz="28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ECCEZIONE per :</a:t>
            </a:r>
            <a:br>
              <a:rPr sz="4000"/>
            </a:br>
            <a:br>
              <a:rPr sz="4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- Per IMPRESE AGRICOLE </a:t>
            </a:r>
            <a:r>
              <a:rPr b="1" lang="it-IT" sz="3200" spc="-1" strike="noStrike">
                <a:solidFill>
                  <a:srgbClr val="0000cc"/>
                </a:solidFill>
                <a:latin typeface="Tahoma"/>
              </a:rPr>
              <a:t>che svolgono solo attività di produzione primaria  di prodotti vegetali  (no trasformazione, manipolazione ecc.)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Requisiti docenti:</a:t>
            </a:r>
            <a:br>
              <a:rPr sz="4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- </a:t>
            </a:r>
            <a:r>
              <a:rPr b="1" lang="it-IT" sz="3200" spc="-1" strike="noStrike">
                <a:solidFill>
                  <a:srgbClr val="0000cc"/>
                </a:solidFill>
                <a:latin typeface="Tahoma"/>
              </a:rPr>
              <a:t>esperienza professionale documentata  nell’alimentare almeno di 2 anni</a:t>
            </a:r>
            <a:br>
              <a:rPr sz="32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- </a:t>
            </a:r>
            <a:r>
              <a:rPr b="1" lang="it-IT" sz="2400" spc="-1" strike="noStrike">
                <a:solidFill>
                  <a:srgbClr val="0000cc"/>
                </a:solidFill>
                <a:latin typeface="Tahoma"/>
              </a:rPr>
              <a:t>laurea in medicina, veterinaria, produzioni animali, agraria, scienze ambientali, farmacia, chimica, biologia, tecnologia alimentare, dietitistica, prevenzione, </a:t>
            </a:r>
            <a:br>
              <a:rPr sz="2400"/>
            </a:br>
            <a:r>
              <a:rPr b="1" lang="it-IT" sz="2400" spc="-1" strike="noStrike">
                <a:solidFill>
                  <a:srgbClr val="0000cc"/>
                </a:solidFill>
                <a:latin typeface="Tahoma"/>
              </a:rPr>
              <a:t>- </a:t>
            </a:r>
            <a:r>
              <a:rPr b="1" lang="it-IT" sz="3200" spc="-1" strike="noStrike">
                <a:solidFill>
                  <a:srgbClr val="0000cc"/>
                </a:solidFill>
                <a:latin typeface="Tahoma"/>
              </a:rPr>
              <a:t>periti agrari e agrotecnici</a:t>
            </a:r>
            <a:br>
              <a:rPr sz="4000"/>
            </a:br>
            <a:br>
              <a:rPr sz="4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Possono svolgere docenze anche altre figure  ma su temi  specifici e in maniera residuale</a:t>
            </a:r>
            <a:endParaRPr b="0" lang="en-US" sz="40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- Aggiornamento:</a:t>
            </a: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di norma ogni 5 anni</a:t>
            </a:r>
            <a:br>
              <a:rPr sz="3200"/>
            </a:b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 (periodo transitorio 3 anni  e di 12 mesi  dal 25/07/2012)</a:t>
            </a: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- Addestramento (aspetti pratici e prassi  legate alla mansione e ai rischi propria impresa):</a:t>
            </a:r>
            <a:br>
              <a:rPr sz="40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almeno annuale ed entro 180 giorni  dal cambio mansione ( secondo modalità individuate nel piano autocontrollo)</a:t>
            </a:r>
            <a:br>
              <a:rPr sz="2800"/>
            </a:br>
            <a:br>
              <a:rPr sz="4000"/>
            </a:br>
            <a:endParaRPr b="0" lang="en-US" sz="28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per STAGIONALI  ecc.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- formazione  già acquisita 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- periodo transitorio e contratti lavoro inferiore a 30 giorni  solo addestramento  di 4 ore</a:t>
            </a:r>
            <a:br>
              <a:rPr sz="4000"/>
            </a:br>
            <a:endParaRPr b="0" lang="en-US" sz="40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  </a:t>
            </a:r>
            <a:r>
              <a:rPr b="1" lang="it-IT" sz="3200" spc="-1" strike="noStrike">
                <a:solidFill>
                  <a:srgbClr val="0000cc"/>
                </a:solidFill>
                <a:latin typeface="Tahoma"/>
              </a:rPr>
              <a:t>La formazione è solo uno strumento  per  assicurare  il rispetto dei criteri  igienico sanitari  previsti dal Pacchetto Igiene</a:t>
            </a:r>
            <a:br>
              <a:rPr sz="32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OBBLIGO DI RISULTATO E NON SOLO ADEMPIMENTO FORMALE!!!!</a:t>
            </a:r>
            <a:br>
              <a:rPr sz="4000"/>
            </a:br>
            <a:r>
              <a:rPr b="1" lang="it-IT" sz="3200" spc="-1" strike="noStrike">
                <a:solidFill>
                  <a:srgbClr val="0000cc"/>
                </a:solidFill>
                <a:latin typeface="Tahoma"/>
              </a:rPr>
              <a:t>Sanzioni anche  se  ottima formazione  ma condizioni igienico –sanitarie   scadenti</a:t>
            </a:r>
            <a:endParaRPr b="0" lang="en-US" sz="32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3924360" y="2349360"/>
            <a:ext cx="1008000" cy="1440000"/>
          </a:xfrm>
          <a:prstGeom prst="downArrow">
            <a:avLst>
              <a:gd name="adj1" fmla="val 50000"/>
              <a:gd name="adj2" fmla="val 35714"/>
            </a:avLst>
          </a:prstGeom>
          <a:solidFill>
            <a:srgbClr val="aaa57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REG. 852/2004/CE All. II cap. XII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in mancanza  di indirizzi nazionali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DGR 793/2012  </a:t>
            </a:r>
            <a:br>
              <a:rPr sz="4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per garantire omogeneità di valutazione   della formazione</a:t>
            </a:r>
            <a:r>
              <a:rPr b="1" lang="it-IT" sz="5400" spc="-1" strike="noStrike">
                <a:solidFill>
                  <a:srgbClr val="0000cc"/>
                </a:solidFill>
                <a:latin typeface="Tahoma"/>
              </a:rPr>
              <a:t>  </a:t>
            </a:r>
            <a:endParaRPr b="0" lang="en-US" sz="5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85" name=""/>
          <p:cNvSpPr/>
          <p:nvPr/>
        </p:nvSpPr>
        <p:spPr>
          <a:xfrm>
            <a:off x="4140360" y="2708280"/>
            <a:ext cx="1223640" cy="1224000"/>
          </a:xfrm>
          <a:prstGeom prst="downArrow">
            <a:avLst>
              <a:gd name="adj1" fmla="val 50000"/>
              <a:gd name="adj2" fmla="val 25007"/>
            </a:avLst>
          </a:prstGeom>
          <a:solidFill>
            <a:srgbClr val="aaa57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067280" y="907920"/>
            <a:ext cx="1295280" cy="863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aaa57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it-IT" sz="3200" spc="-1" strike="noStrike">
                <a:solidFill>
                  <a:srgbClr val="0000cc"/>
                </a:solidFill>
                <a:latin typeface="Tahoma"/>
              </a:rPr>
              <a:t>Chi  deve fare formazione ai sensi del REG. 852/2004/CE?:</a:t>
            </a:r>
            <a:br>
              <a:rPr sz="32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- tutti gli OSA (</a:t>
            </a:r>
            <a:r>
              <a:rPr b="1" lang="it-IT" sz="2000" spc="-1" strike="noStrike">
                <a:solidFill>
                  <a:srgbClr val="0000cc"/>
                </a:solidFill>
                <a:latin typeface="Tahoma"/>
              </a:rPr>
              <a:t>persona fisica o giuridica responsabile di garantire il rispetto della legislazione alimentare nell’impresa posta sotto il suo controllo)</a:t>
            </a:r>
            <a:br>
              <a:rPr sz="2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 - gli addetti alla produzione, manipolazione, somministrazione, confezionamento, deposito e trasporto  di alimenti</a:t>
            </a:r>
            <a:br>
              <a:rPr sz="4000"/>
            </a:br>
            <a:br>
              <a:rPr sz="4000"/>
            </a:br>
            <a:r>
              <a:rPr b="1" lang="it-IT" sz="2800" spc="-1" strike="noStrike">
                <a:solidFill>
                  <a:srgbClr val="ff0000"/>
                </a:solidFill>
                <a:latin typeface="Tahoma"/>
              </a:rPr>
              <a:t>DGR 793/2012 eccezione per formazione di base  per  alimentaristi  con specifici titoli di studio</a:t>
            </a: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Requisiti  della formazione: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- </a:t>
            </a: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specifica (per mansione)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 appropriata (per tipologia impresa)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 permanente (aggiornamento)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 documentata (attestati – libretto formativo ecc)</a:t>
            </a:r>
            <a:endParaRPr b="0" lang="en-US" sz="28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Chi può erogare  formazione?: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 - </a:t>
            </a: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gli organismi  formativi accreditati  dalla Regione Liguria </a:t>
            </a: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 le Associazioni di categoria, Università  CCIAA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 le AASSLL ( non direttamente alle imprese)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 le imprese alimentari  in proprio</a:t>
            </a:r>
            <a:endParaRPr b="0" lang="en-US" sz="28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it-IT" sz="3600" spc="-1" strike="noStrike">
                <a:solidFill>
                  <a:srgbClr val="0000cc"/>
                </a:solidFill>
                <a:latin typeface="Tahoma"/>
              </a:rPr>
              <a:t>Caratteristiche  generali dei corsi:</a:t>
            </a:r>
            <a:br>
              <a:rPr sz="3600"/>
            </a:br>
            <a:br>
              <a:rPr sz="3600"/>
            </a:br>
            <a:r>
              <a:rPr b="1" lang="it-IT" sz="3600" spc="-1" strike="noStrike">
                <a:solidFill>
                  <a:srgbClr val="0000cc"/>
                </a:solidFill>
                <a:latin typeface="Tahoma"/>
              </a:rPr>
              <a:t>- N° di discenti  25</a:t>
            </a:r>
            <a:br>
              <a:rPr sz="3600"/>
            </a:br>
            <a:br>
              <a:rPr sz="3600"/>
            </a:br>
            <a:r>
              <a:rPr b="1" lang="it-IT" sz="3600" spc="-1" strike="noStrike">
                <a:solidFill>
                  <a:srgbClr val="0000cc"/>
                </a:solidFill>
                <a:latin typeface="Tahoma"/>
              </a:rPr>
              <a:t>- verifica finale con prove  teoriche- pratiche</a:t>
            </a:r>
            <a:br>
              <a:rPr sz="3600"/>
            </a:br>
            <a:br>
              <a:rPr sz="3600"/>
            </a:br>
            <a:r>
              <a:rPr b="1" lang="it-IT" sz="3600" spc="-1" strike="noStrike">
                <a:solidFill>
                  <a:srgbClr val="0000cc"/>
                </a:solidFill>
                <a:latin typeface="Tahoma"/>
              </a:rPr>
              <a:t>- rilascio  di attestato di idoneità</a:t>
            </a: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it-IT" sz="2800" spc="-1" strike="noStrike">
                <a:solidFill>
                  <a:srgbClr val="0000cc"/>
                </a:solidFill>
                <a:latin typeface="Tahoma"/>
              </a:rPr>
              <a:t>con dati anagrafici, data di superamento  della verifica, n° di ore di addestramento, argomenti trattati, organismo che ha erogato la formazione</a:t>
            </a:r>
            <a:br>
              <a:rPr sz="2800"/>
            </a:br>
            <a:r>
              <a:rPr b="1" lang="it-IT" sz="2800" spc="-1" strike="noStrike">
                <a:solidFill>
                  <a:srgbClr val="0000cc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it-IT" sz="2800" spc="-1" strike="noStrike">
                <a:solidFill>
                  <a:srgbClr val="0000cc"/>
                </a:solidFill>
                <a:latin typeface="Tahoma"/>
              </a:rPr>
              <a:t>Per ogni corso                 programma formativo </a:t>
            </a:r>
            <a:br>
              <a:rPr sz="2800"/>
            </a:br>
            <a:br>
              <a:rPr sz="2800"/>
            </a:br>
            <a:r>
              <a:rPr b="1" lang="it-IT" sz="2800" spc="-1" strike="noStrike">
                <a:solidFill>
                  <a:srgbClr val="0000cc"/>
                </a:solidFill>
                <a:latin typeface="Tahoma"/>
              </a:rPr>
              <a:t>- </a:t>
            </a:r>
            <a:r>
              <a:rPr b="1" lang="it-IT" sz="2000" spc="-1" strike="noStrike">
                <a:solidFill>
                  <a:srgbClr val="0000cc"/>
                </a:solidFill>
                <a:latin typeface="Tahoma"/>
              </a:rPr>
              <a:t>responsabile del corso e qualifica professionale</a:t>
            </a:r>
            <a:br>
              <a:rPr sz="2000"/>
            </a:br>
            <a:r>
              <a:rPr b="1" lang="it-IT" sz="2000" spc="-1" strike="noStrike">
                <a:solidFill>
                  <a:srgbClr val="0000cc"/>
                </a:solidFill>
                <a:latin typeface="Tahoma"/>
              </a:rPr>
              <a:t>(resp. Gestionale, resp. Scientifico, referente interno ecc.)</a:t>
            </a:r>
            <a:br>
              <a:rPr sz="2000"/>
            </a:br>
            <a:br>
              <a:rPr sz="2000"/>
            </a:br>
            <a:r>
              <a:rPr b="1" lang="it-IT" sz="2000" spc="-1" strike="noStrike">
                <a:solidFill>
                  <a:srgbClr val="0000cc"/>
                </a:solidFill>
                <a:latin typeface="Tahoma"/>
              </a:rPr>
              <a:t>- N°partecipanti  tipologia attività e mansione  alla quale si rivolge il corso   </a:t>
            </a:r>
            <a:br>
              <a:rPr sz="2000"/>
            </a:br>
            <a:br>
              <a:rPr sz="2000"/>
            </a:br>
            <a:r>
              <a:rPr b="1" lang="it-IT" sz="2000" spc="-1" strike="noStrike">
                <a:solidFill>
                  <a:srgbClr val="0000cc"/>
                </a:solidFill>
                <a:latin typeface="Tahoma"/>
              </a:rPr>
              <a:t>- descrizione unità formative (contenuti,obiettivi, durata, metodologia  didattica)</a:t>
            </a:r>
            <a:br>
              <a:rPr sz="2000"/>
            </a:br>
            <a:br>
              <a:rPr sz="2000"/>
            </a:br>
            <a:r>
              <a:rPr b="1" lang="it-IT" sz="2000" spc="-1" strike="noStrike">
                <a:solidFill>
                  <a:srgbClr val="0000cc"/>
                </a:solidFill>
                <a:latin typeface="Tahoma"/>
              </a:rPr>
              <a:t>- calendario lezioni (con date orari,  sedi di svolgimento e docenti)</a:t>
            </a:r>
            <a:br>
              <a:rPr sz="2000"/>
            </a:br>
            <a:br>
              <a:rPr sz="2000"/>
            </a:br>
            <a:r>
              <a:rPr b="1" lang="it-IT" sz="2000" spc="-1" strike="noStrike">
                <a:solidFill>
                  <a:srgbClr val="0000cc"/>
                </a:solidFill>
                <a:latin typeface="Tahoma"/>
              </a:rPr>
              <a:t>- modalità di verifica  frequenza</a:t>
            </a:r>
            <a:br>
              <a:rPr sz="2000"/>
            </a:br>
            <a:br>
              <a:rPr sz="2000"/>
            </a:br>
            <a:r>
              <a:rPr b="1" lang="it-IT" sz="2000" spc="-1" strike="noStrike">
                <a:solidFill>
                  <a:srgbClr val="0000cc"/>
                </a:solidFill>
                <a:latin typeface="Tahoma"/>
              </a:rPr>
              <a:t>- curriculum docenti</a:t>
            </a:r>
            <a:br>
              <a:rPr sz="2000"/>
            </a:br>
            <a:br>
              <a:rPr sz="2000"/>
            </a:br>
            <a:r>
              <a:rPr b="1" lang="it-IT" sz="2000" spc="-1" strike="noStrike">
                <a:solidFill>
                  <a:srgbClr val="0000cc"/>
                </a:solidFill>
                <a:latin typeface="Tahoma"/>
              </a:rPr>
              <a:t>- dichiarazione di conformità</a:t>
            </a:r>
            <a:endParaRPr b="0" lang="en-US" sz="20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92" name=""/>
          <p:cNvSpPr/>
          <p:nvPr/>
        </p:nvSpPr>
        <p:spPr>
          <a:xfrm>
            <a:off x="3348000" y="692280"/>
            <a:ext cx="1295280" cy="287280"/>
          </a:xfrm>
          <a:prstGeom prst="rightArrow">
            <a:avLst>
              <a:gd name="adj1" fmla="val 50000"/>
              <a:gd name="adj2" fmla="val 112719"/>
            </a:avLst>
          </a:prstGeom>
          <a:solidFill>
            <a:srgbClr val="aaa57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Il programma formativo  può 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essere richiesto da AASSLL</a:t>
            </a:r>
            <a:endParaRPr b="0" lang="en-US" sz="40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Contenuti minimi del corso  </a:t>
            </a: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distinto in base a :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- </a:t>
            </a: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attività a minor rischio (solo vendita, somministrazione, deposito e trasporto alimenti)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- attività a maggior rischio (produzione, trasformazione, manipolazione  alimenti , somministrazione)</a:t>
            </a:r>
            <a:endParaRPr b="0" lang="en-US" sz="32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5T15:40:02Z</dcterms:created>
  <dc:creator>zappavigna</dc:creator>
  <dc:description/>
  <dc:language>en-US</dc:language>
  <cp:lastModifiedBy>nicosia</cp:lastModifiedBy>
  <dcterms:modified xsi:type="dcterms:W3CDTF">2013-07-03T16:42:05Z</dcterms:modified>
  <cp:revision>94</cp:revision>
  <dc:subject/>
  <dc:title>Regione Liguria Ufficio Veterinaria e Sanità Animale</dc:title>
</cp:coreProperties>
</file>