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5AA2-61E8-4C75-AFE3-8AB34E43D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D74B-788A-4D58-A339-5BCCF0066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599F-3109-4E29-8E1E-18A5E4874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45C6-442C-4779-9FAF-AE9F61CA0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6B8F4-384F-4591-BA7A-5D1674EDB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78614-52EF-45B2-BF98-52EE0FE4C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24A4B-17DE-4935-8AC3-796239FCD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4F4BE-57A9-4BD2-A28C-8A9368393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6F210-B1E5-4D23-903D-6B4A99DC5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5B29F-A34E-45FA-827D-6735E4F2A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9D996-9279-46A3-A38C-180A1CEBE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19B7-A91A-427A-916B-7F622EEB8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0E472-A590-4444-93C9-FE6E1E6E9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EF87D-A2DA-43A7-8345-BACC8FF4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6B902-CBD6-48FA-A170-A72F0EB57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002E2-BAF2-4FAC-96C2-F9D53AB66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F8CD2-1E3C-45C0-8908-1C40D4CED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103E-7B2F-4A69-A820-5298E2EC0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BDDC-A408-43F5-AC95-ED83F9E14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E1FE-51C1-4B65-B7ED-F1D935521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8C23-CD1F-406B-857C-7BE5F469F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E868-694E-4371-90EB-A3797DCBD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8255-1AD0-4220-9861-2D897F6D6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E17A-BB47-435A-96B3-431EAACB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5F5B0-5D0A-4495-9E1E-B3405B94EE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E0B0F-18D8-43EF-A2E4-F6001E6E7E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ahoma"/>
              </a:rPr>
              <a:t>Regione Liguria</a:t>
            </a:r>
            <a:br>
              <a:rPr sz="44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Settore Prevenzione, Sanità Pubblica, Fasce Deboli, Sicurezza Alimentare e Sanità Animale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2997000"/>
            <a:ext cx="914400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La formazione degli alimentaristi e degli OSA ai sensi del Rg. 852/2004/CE e della DGR 793/201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cc"/>
                </a:solidFill>
                <a:latin typeface="Tahoma"/>
              </a:rPr>
              <a:t>Dott.ssa Elena Nicosi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Unità formativa  minima per tutti 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(durata 8 ore)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</a:t>
            </a: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rischi e pericoli alimentari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principi HACCP e autocontrollo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legislazione alimentare obblighi e responsabilità OSA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Conservazione alimenti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approvvigionamento materie prime e  tracciabilità 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pulizia e sanificazione locali e attrezzatura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igiene personale 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manuali Buone Prassi igieniche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ambiti, tipologia e significato CU</a:t>
            </a:r>
            <a:br>
              <a:rPr sz="4000"/>
            </a:br>
            <a:endParaRPr b="0" lang="en-US" sz="24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Unità formativa  aggiuntiva  per titolari OSA, responsabili autocontrollo e addetti produzione e preparazione alimenti</a:t>
            </a: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(durata ulteriore 8 ore =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16 ore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)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piano autocontrollo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punti critici (individuazione, monitoraggio, misure correttive)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GMP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Allergie e intolleranze alimentari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Rischi Specifici  del processo produttivo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eventuale  modulo di 2 ore  per celiachia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ECCEZIONE per :</a:t>
            </a: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Per IMPRESE AGRICOLE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che svolgono solo attività di produzione primaria  di prodotti vegetali  (no trasformazione, manipolazione ecc.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Requisiti docenti: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esperienza professionale documentata  nell’alimentare almeno di 2 anni</a:t>
            </a:r>
            <a:br>
              <a:rPr sz="32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2400" spc="-1" strike="noStrike">
                <a:solidFill>
                  <a:srgbClr val="0000cc"/>
                </a:solidFill>
                <a:latin typeface="Tahoma"/>
              </a:rPr>
              <a:t>laurea in medicina, veterinaria, produzioni animali, agraria, scienze ambientali, farmacia, chimica, biologia, tecnologia alimentare, dietitistica, prevenzione, </a:t>
            </a:r>
            <a:br>
              <a:rPr sz="2400"/>
            </a:br>
            <a:r>
              <a:rPr b="1" lang="it-IT" sz="24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periti agrari e agrotecnici</a:t>
            </a: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Possono svolgere docenze anche altre figure  ma su temi  specifici e in maniera residuale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Aggiornamento: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di norma ogni 5 anni</a:t>
            </a: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(periodo transitorio 3 anni  e di 12 mesi  dal 25/07/2012)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Addestramento (aspetti pratici e prassi  legate alla mansione e ai rischi propria impresa):</a:t>
            </a:r>
            <a:br>
              <a:rPr sz="40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almeno annuale ed entro 180 giorni  dal cambio mansione ( secondo modalità individuate nel piano autocontrollo)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per STAGIONALI  ecc.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formazione  già acquisita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periodo transitorio e contratti lavoro inferiore a 30 giorni  solo addestramento  di 4 ore</a:t>
            </a:r>
            <a:br>
              <a:rPr sz="4000"/>
            </a:b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La formazione è solo uno strumento  per  assicurare  il rispetto dei criteri  igienico sanitari  previsti dal Pacchetto Igiene</a:t>
            </a:r>
            <a:br>
              <a:rPr sz="32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OBBLIGO DI RISULTATO E NON SOLO ADEMPIMENTO FORMALE!!!!</a:t>
            </a:r>
            <a:br>
              <a:rPr sz="4000"/>
            </a:b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Sanzioni anche  se  ottima formazione  ma condizioni igienico –sanitarie   scadenti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3924360" y="2349360"/>
            <a:ext cx="1008000" cy="1440000"/>
          </a:xfrm>
          <a:prstGeom prst="downArrow">
            <a:avLst>
              <a:gd name="adj1" fmla="val 50000"/>
              <a:gd name="adj2" fmla="val 35714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REG. 852/2004/CE All. II cap. XII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in mancanza  di indirizzi nazionali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DGR 793/2012 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per garantire omogeneità di valutazione   della formazione</a:t>
            </a:r>
            <a:r>
              <a:rPr b="1" lang="it-IT" sz="5400" spc="-1" strike="noStrike">
                <a:solidFill>
                  <a:srgbClr val="0000cc"/>
                </a:solidFill>
                <a:latin typeface="Tahoma"/>
              </a:rPr>
              <a:t>  </a:t>
            </a:r>
            <a:endParaRPr b="0" lang="en-US" sz="5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4140360" y="2708280"/>
            <a:ext cx="1223640" cy="1224000"/>
          </a:xfrm>
          <a:prstGeom prst="downArrow">
            <a:avLst>
              <a:gd name="adj1" fmla="val 50000"/>
              <a:gd name="adj2" fmla="val 25007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067280" y="907920"/>
            <a:ext cx="1295280" cy="863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Chi  deve fare formazione ai sensi del REG. 852/2004/CE?:</a:t>
            </a:r>
            <a:br>
              <a:rPr sz="32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tutti gli OSA (</a:t>
            </a: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persona fisica o giuridica responsabile di garantire il rispetto della legislazione alimentare nell’impresa posta sotto il suo controllo)</a:t>
            </a:r>
            <a:br>
              <a:rPr sz="2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- gli addetti alla produzione, manipolazione, somministrazione, confezionamento, deposito e trasporto  di alimenti</a:t>
            </a:r>
            <a:br>
              <a:rPr sz="4000"/>
            </a:br>
            <a:br>
              <a:rPr sz="4000"/>
            </a:br>
            <a:r>
              <a:rPr b="1" lang="it-IT" sz="2800" spc="-1" strike="noStrike">
                <a:solidFill>
                  <a:srgbClr val="ff0000"/>
                </a:solidFill>
                <a:latin typeface="Tahoma"/>
              </a:rPr>
              <a:t>DGR 793/2012 eccezione per formazione di base  per  alimentaristi  con specifici titoli di studio</a:t>
            </a: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Requisiti  della formazione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specifica (per mansione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appropriata (per tipologia impresa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permanente (aggiornamento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documentata (attestati – libretto formativo ecc)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Chi può erogare  formazione?: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gli organismi  formativi accreditati  dalla Regione Liguria 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Associazioni di categoria, Università  CCIAA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AASSLL ( non direttamente alle imprese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imprese alimentari  in proprio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Caratteristiche  generali dei corsi: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N° di discenti  25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verifica finale con prove  teoriche- pratiche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rilascio  di attestato di idoneità</a:t>
            </a: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con dati anagrafici, data di superamento  della verifica, n° di ore di addestramento, argomenti trattati, organismo che ha erogato la formazione</a:t>
            </a:r>
            <a:br>
              <a:rPr sz="28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Per ogni corso                 programma formativo </a:t>
            </a:r>
            <a:br>
              <a:rPr sz="2800"/>
            </a:br>
            <a:br>
              <a:rPr sz="28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responsabile del corso e qualifica professionale</a:t>
            </a: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(resp. Gestionale, resp. Scientifico, referente interno ecc.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N°partecipanti  tipologia attività e mansione  alla quale si rivolge il corso   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descrizione unità formative (contenuti,obiettivi, durata, metodologia  didattica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calendario lezioni (con date orari,  sedi di svolgimento e docenti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modalità di verifica  frequenza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curriculum docenti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dichiarazione di conformità</a:t>
            </a:r>
            <a:endParaRPr b="0" lang="en-US" sz="2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3348000" y="692280"/>
            <a:ext cx="1295280" cy="287280"/>
          </a:xfrm>
          <a:prstGeom prst="rightArrow">
            <a:avLst>
              <a:gd name="adj1" fmla="val 50000"/>
              <a:gd name="adj2" fmla="val 112719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Il programma formativo  può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essere richiesto da AASSLL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Contenuti minimi del corso 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distinto in base a 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attività a minor rischio (solo vendita, somministrazione, deposito e trasporto alimenti)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- attività a maggior rischio (produzione, trasformazione, manipolazione  alimenti , somministrazione)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15:40:02Z</dcterms:created>
  <dc:creator>zappavigna</dc:creator>
  <dc:description/>
  <dc:language>en-US</dc:language>
  <cp:lastModifiedBy>nicosia</cp:lastModifiedBy>
  <dcterms:modified xsi:type="dcterms:W3CDTF">2013-07-03T16:42:05Z</dcterms:modified>
  <cp:revision>94</cp:revision>
  <dc:subject/>
  <dc:title>Regione Liguria Ufficio Veterinaria e Sanità Animale</dc:title>
</cp:coreProperties>
</file>