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D6B4-B96F-4E0A-9DA5-1787F2B6D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6FFB-6C53-469E-8C35-2A78F8C42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21B5-647F-430B-8E29-E43302D06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D143-9837-4E5D-A781-C71477F6B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2F89F-E715-40A2-85B5-AC6951E32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46486-93FF-419C-AB07-6A0D79BB3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F3149-7802-4D48-B63B-70242E5D0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69345-B8A3-4435-B3D1-55DF1E86C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B9C7D-8B02-40A2-848F-CE003AF7A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DBB55-85E7-4D29-86F8-FF522403E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3A6D5-FC26-4288-A84C-6BF9D111C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2260-ECC3-4A9F-ACBA-D5D3EDD69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16B33-5643-4999-B7B6-427878357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E81E1-5270-44A0-A3C3-5CE179768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8020B-59C8-4C62-8F07-735F23115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6360F-BF7B-445B-8859-7046BD6DA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B23B4-89B2-4F11-BB67-AF0BDF4DE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C180-4DCC-420F-8408-699358075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7D02-E1A1-4580-9410-B94DB3FE3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9485-D200-4FD4-A55A-D49F2AE9C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9CC6-C764-44AF-ADBC-2953B9632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8AF5-64EA-4E20-919D-734661158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1E58-011C-48B0-9C95-3314E6BDE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601A-87E4-445E-AA6C-5FEC53411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0307B-EF85-4393-A765-C046247138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06CAC-039B-4FD4-9312-4EE46E6E18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Tahoma"/>
              </a:rPr>
              <a:t>Regione Liguria</a:t>
            </a:r>
            <a:br>
              <a:rPr sz="4400"/>
            </a:b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Settore Prevenzione, Sanità Pubblica, Fasce Deboli, Sicurezza Alimentare e Sanità Animale</a:t>
            </a:r>
            <a:endParaRPr b="0" lang="en-US" sz="32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0" y="2997000"/>
            <a:ext cx="914400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La formazione degli alimentaristi e degli OSA ai sensi del Rg. 852/2004/CE e della DGR 793/201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cc"/>
                </a:solidFill>
                <a:latin typeface="Tahoma"/>
              </a:rPr>
              <a:t>Dott.ssa Elena Nicosia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Unità formativa  minima per tutti 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(durata 8 ore)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</a:t>
            </a: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rischi e pericoli alimentari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principi HACCP e autocontrollo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legislazione alimentare obblighi e responsabilità OSA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Conservazione alimenti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approvvigionamento materie prime e  tracciabilità 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pulizia e sanificazione locali e attrezzatura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igiene personale 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manuali Buone Prassi igieniche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ambiti, tipologia e significato CU</a:t>
            </a:r>
            <a:br>
              <a:rPr sz="4000"/>
            </a:br>
            <a:endParaRPr b="0" lang="en-US" sz="24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Unità formativa  aggiuntiva  per titolari OSA, responsabili autocontrollo e addetti produzione e preparazione alimenti</a:t>
            </a: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(durata ulteriore 8 ore = </a:t>
            </a: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16 ore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)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piano autocontrollo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punti critici (individuazione, monitoraggio, misure correttive)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GMP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Allergie e intolleranze alimentari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Rischi Specifici  del processo produttivo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eventuale  modulo di 2 ore  per celiachia</a:t>
            </a:r>
            <a:endParaRPr b="0" lang="en-US" sz="28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ECCEZIONE per :</a:t>
            </a:r>
            <a:br>
              <a:rPr sz="4000"/>
            </a:b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- Per IMPRESE AGRICOLE </a:t>
            </a: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che svolgono solo attività di produzione primaria  di prodotti vegetali  (no trasformazione, manipolazione ecc.)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Requisiti docenti:</a:t>
            </a: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- </a:t>
            </a: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esperienza professionale documentata  nell’alimentare almeno di 2 anni</a:t>
            </a:r>
            <a:br>
              <a:rPr sz="32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- </a:t>
            </a:r>
            <a:r>
              <a:rPr b="1" lang="it-IT" sz="2400" spc="-1" strike="noStrike">
                <a:solidFill>
                  <a:srgbClr val="0000cc"/>
                </a:solidFill>
                <a:latin typeface="Tahoma"/>
              </a:rPr>
              <a:t>laurea in medicina, veterinaria, produzioni animali, agraria, scienze ambientali, farmacia, chimica, biologia, tecnologia alimentare, dietitistica, prevenzione, </a:t>
            </a:r>
            <a:br>
              <a:rPr sz="2400"/>
            </a:br>
            <a:r>
              <a:rPr b="1" lang="it-IT" sz="2400" spc="-1" strike="noStrike">
                <a:solidFill>
                  <a:srgbClr val="0000cc"/>
                </a:solidFill>
                <a:latin typeface="Tahoma"/>
              </a:rPr>
              <a:t>- </a:t>
            </a: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periti agrari e agrotecnici</a:t>
            </a:r>
            <a:br>
              <a:rPr sz="4000"/>
            </a:b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Possono svolgere docenze anche altre figure  ma su temi  specifici e in maniera residuale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 Aggiornamento: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di norma ogni 5 anni</a:t>
            </a:r>
            <a:br>
              <a:rPr sz="3200"/>
            </a:b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 (periodo transitorio 3 anni  e di 12 mesi  dal 25/07/2012)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 Addestramento (aspetti pratici e prassi  legate alla mansione e ai rischi propria impresa):</a:t>
            </a:r>
            <a:br>
              <a:rPr sz="40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almeno annuale ed entro 180 giorni  dal cambio mansione ( secondo modalità individuate nel piano autocontrollo)</a:t>
            </a:r>
            <a:br>
              <a:rPr sz="2800"/>
            </a:br>
            <a:br>
              <a:rPr sz="4000"/>
            </a:br>
            <a:endParaRPr b="0" lang="en-US" sz="28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per STAGIONALI  ecc.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 formazione  già acquisita 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 periodo transitorio e contratti lavoro inferiore a 30 giorni  solo addestramento  di 4 ore</a:t>
            </a:r>
            <a:br>
              <a:rPr sz="4000"/>
            </a:b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 </a:t>
            </a: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La formazione è solo uno strumento  per  assicurare  il rispetto dei criteri  igienico sanitari  previsti dal Pacchetto Igiene</a:t>
            </a:r>
            <a:br>
              <a:rPr sz="32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OBBLIGO DI RISULTATO E NON SOLO ADEMPIMENTO FORMALE!!!!</a:t>
            </a:r>
            <a:br>
              <a:rPr sz="4000"/>
            </a:b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Sanzioni anche  se  ottima formazione  ma condizioni igienico –sanitarie   scadenti</a:t>
            </a:r>
            <a:endParaRPr b="0" lang="en-US" sz="32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3924360" y="2349360"/>
            <a:ext cx="1008000" cy="1440000"/>
          </a:xfrm>
          <a:prstGeom prst="downArrow">
            <a:avLst>
              <a:gd name="adj1" fmla="val 50000"/>
              <a:gd name="adj2" fmla="val 35714"/>
            </a:avLst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REG. 852/2004/CE All. II cap. XII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in mancanza  di indirizzi nazionali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DGR 793/2012  </a:t>
            </a: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per garantire omogeneità di valutazione   della formazione</a:t>
            </a:r>
            <a:r>
              <a:rPr b="1" lang="it-IT" sz="5400" spc="-1" strike="noStrike">
                <a:solidFill>
                  <a:srgbClr val="0000cc"/>
                </a:solidFill>
                <a:latin typeface="Tahoma"/>
              </a:rPr>
              <a:t>  </a:t>
            </a:r>
            <a:endParaRPr b="0" lang="en-US" sz="5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85" name=""/>
          <p:cNvSpPr/>
          <p:nvPr/>
        </p:nvSpPr>
        <p:spPr>
          <a:xfrm>
            <a:off x="4140360" y="2708280"/>
            <a:ext cx="1223640" cy="1224000"/>
          </a:xfrm>
          <a:prstGeom prst="downArrow">
            <a:avLst>
              <a:gd name="adj1" fmla="val 50000"/>
              <a:gd name="adj2" fmla="val 25007"/>
            </a:avLst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067280" y="907920"/>
            <a:ext cx="1295280" cy="863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Chi  deve fare formazione ai sensi del REG. 852/2004/CE?:</a:t>
            </a:r>
            <a:br>
              <a:rPr sz="32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- tutti gli OSA (</a:t>
            </a: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persona fisica o giuridica responsabile di garantire il rispetto della legislazione alimentare nell’impresa posta sotto il suo controllo)</a:t>
            </a:r>
            <a:br>
              <a:rPr sz="2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- gli addetti alla produzione, manipolazione, somministrazione, confezionamento, deposito e trasporto  di alimenti</a:t>
            </a:r>
            <a:br>
              <a:rPr sz="4000"/>
            </a:br>
            <a:br>
              <a:rPr sz="4000"/>
            </a:br>
            <a:r>
              <a:rPr b="1" lang="it-IT" sz="2800" spc="-1" strike="noStrike">
                <a:solidFill>
                  <a:srgbClr val="ff0000"/>
                </a:solidFill>
                <a:latin typeface="Tahoma"/>
              </a:rPr>
              <a:t>DGR 793/2012 eccezione per formazione di base  per  alimentaristi  con specifici titoli di studio</a:t>
            </a: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Requisiti  della formazione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-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specifica (per mansione)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appropriata (per tipologia impresa)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permanente (aggiornamento)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documentata (attestati – libretto formativo ecc)</a:t>
            </a:r>
            <a:endParaRPr b="0" lang="en-US" sz="28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Chi può erogare  formazione?: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 -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gli organismi  formativi accreditati  dalla Regione Liguria 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le Associazioni di categoria, Università  CCIAA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le AASSLL ( non direttamente alle imprese)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le imprese alimentari  in proprio</a:t>
            </a:r>
            <a:endParaRPr b="0" lang="en-US" sz="28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it-IT" sz="3600" spc="-1" strike="noStrike">
                <a:solidFill>
                  <a:srgbClr val="0000cc"/>
                </a:solidFill>
                <a:latin typeface="Tahoma"/>
              </a:rPr>
              <a:t>Caratteristiche  generali dei corsi:</a:t>
            </a:r>
            <a:br>
              <a:rPr sz="3600"/>
            </a:br>
            <a:br>
              <a:rPr sz="3600"/>
            </a:br>
            <a:r>
              <a:rPr b="1" lang="it-IT" sz="3600" spc="-1" strike="noStrike">
                <a:solidFill>
                  <a:srgbClr val="0000cc"/>
                </a:solidFill>
                <a:latin typeface="Tahoma"/>
              </a:rPr>
              <a:t>- N° di discenti  25</a:t>
            </a:r>
            <a:br>
              <a:rPr sz="3600"/>
            </a:br>
            <a:br>
              <a:rPr sz="3600"/>
            </a:br>
            <a:r>
              <a:rPr b="1" lang="it-IT" sz="3600" spc="-1" strike="noStrike">
                <a:solidFill>
                  <a:srgbClr val="0000cc"/>
                </a:solidFill>
                <a:latin typeface="Tahoma"/>
              </a:rPr>
              <a:t>- verifica finale con prove  teoriche- pratiche</a:t>
            </a:r>
            <a:br>
              <a:rPr sz="3600"/>
            </a:br>
            <a:br>
              <a:rPr sz="3600"/>
            </a:br>
            <a:r>
              <a:rPr b="1" lang="it-IT" sz="3600" spc="-1" strike="noStrike">
                <a:solidFill>
                  <a:srgbClr val="0000cc"/>
                </a:solidFill>
                <a:latin typeface="Tahoma"/>
              </a:rPr>
              <a:t>- rilascio  di attestato di idoneità</a:t>
            </a: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it-IT" sz="2800" spc="-1" strike="noStrike">
                <a:solidFill>
                  <a:srgbClr val="0000cc"/>
                </a:solidFill>
                <a:latin typeface="Tahoma"/>
              </a:rPr>
              <a:t>con dati anagrafici, data di superamento  della verifica, n° di ore di addestramento, argomenti trattati, organismo che ha erogato la formazione</a:t>
            </a:r>
            <a:br>
              <a:rPr sz="2800"/>
            </a:br>
            <a:r>
              <a:rPr b="1" lang="it-IT" sz="2800" spc="-1" strike="noStrike">
                <a:solidFill>
                  <a:srgbClr val="0000cc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it-IT" sz="2800" spc="-1" strike="noStrike">
                <a:solidFill>
                  <a:srgbClr val="0000cc"/>
                </a:solidFill>
                <a:latin typeface="Tahoma"/>
              </a:rPr>
              <a:t>Per ogni corso                 programma formativo </a:t>
            </a:r>
            <a:br>
              <a:rPr sz="2800"/>
            </a:br>
            <a:br>
              <a:rPr sz="2800"/>
            </a:br>
            <a:r>
              <a:rPr b="1" lang="it-IT" sz="2800" spc="-1" strike="noStrike">
                <a:solidFill>
                  <a:srgbClr val="0000cc"/>
                </a:solidFill>
                <a:latin typeface="Tahoma"/>
              </a:rPr>
              <a:t>- </a:t>
            </a: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responsabile del corso e qualifica professionale</a:t>
            </a: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(resp. Gestionale, resp. Scientifico, referente interno ecc.)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N°partecipanti  tipologia attività e mansione  alla quale si rivolge il corso   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descrizione unità formative (contenuti,obiettivi, durata, metodologia  didattica)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calendario lezioni (con date orari,  sedi di svolgimento e docenti)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modalità di verifica  frequenza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curriculum docenti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dichiarazione di conformità</a:t>
            </a:r>
            <a:endParaRPr b="0" lang="en-US" sz="20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3348000" y="692280"/>
            <a:ext cx="1295280" cy="287280"/>
          </a:xfrm>
          <a:prstGeom prst="rightArrow">
            <a:avLst>
              <a:gd name="adj1" fmla="val 50000"/>
              <a:gd name="adj2" fmla="val 112719"/>
            </a:avLst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Il programma formativo  può 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essere richiesto da AASSLL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Contenuti minimi del corso 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distinto in base a 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 </a:t>
            </a: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attività a minor rischio (solo vendita, somministrazione, deposito e trasporto alimenti)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- attività a maggior rischio (produzione, trasformazione, manipolazione  alimenti , somministrazione)</a:t>
            </a:r>
            <a:endParaRPr b="0" lang="en-US" sz="32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5T15:40:02Z</dcterms:created>
  <dc:creator>zappavigna</dc:creator>
  <dc:description/>
  <dc:language>en-US</dc:language>
  <cp:lastModifiedBy>nicosia</cp:lastModifiedBy>
  <dcterms:modified xsi:type="dcterms:W3CDTF">2013-07-03T16:42:05Z</dcterms:modified>
  <cp:revision>94</cp:revision>
  <dc:subject/>
  <dc:title>Regione Liguria Ufficio Veterinaria e Sanità Animale</dc:title>
</cp:coreProperties>
</file>