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26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37.xml" ContentType="application/vnd.openxmlformats-officedocument.theme+xml"/>
  <Override PartName="/ppt/theme/theme12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39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431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</p:sldMasterIdLst>
  <p:notesMasterIdLst>
    <p:notesMasterId r:id="rId38"/>
  </p:notesMasterIdLst>
  <p:sldIdLst>
    <p:sldId id="256" r:id="rId39"/>
    <p:sldId id="257" r:id="rId40"/>
    <p:sldId id="258" r:id="rId41"/>
    <p:sldId id="259" r:id="rId42"/>
    <p:sldId id="260" r:id="rId43"/>
    <p:sldId id="261" r:id="rId44"/>
    <p:sldId id="262" r:id="rId45"/>
    <p:sldId id="263" r:id="rId46"/>
    <p:sldId id="264" r:id="rId47"/>
    <p:sldId id="265" r:id="rId48"/>
    <p:sldId id="266" r:id="rId49"/>
    <p:sldId id="267" r:id="rId50"/>
    <p:sldId id="268" r:id="rId51"/>
    <p:sldId id="269" r:id="rId52"/>
    <p:sldId id="270" r:id="rId53"/>
    <p:sldId id="271" r:id="rId54"/>
    <p:sldId id="272" r:id="rId55"/>
    <p:sldId id="273" r:id="rId56"/>
    <p:sldId id="274" r:id="rId57"/>
    <p:sldId id="275" r:id="rId58"/>
    <p:sldId id="276" r:id="rId59"/>
    <p:sldId id="277" r:id="rId6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notesMaster" Target="notesMasters/notesMaster1.xml"/><Relationship Id="rId39" Type="http://schemas.openxmlformats.org/officeDocument/2006/relationships/slide" Target="slides/slide1.xml"/><Relationship Id="rId40" Type="http://schemas.openxmlformats.org/officeDocument/2006/relationships/slide" Target="slides/slide2.xml"/><Relationship Id="rId41" Type="http://schemas.openxmlformats.org/officeDocument/2006/relationships/slide" Target="slides/slide3.xml"/><Relationship Id="rId42" Type="http://schemas.openxmlformats.org/officeDocument/2006/relationships/slide" Target="slides/slide4.xml"/><Relationship Id="rId43" Type="http://schemas.openxmlformats.org/officeDocument/2006/relationships/slide" Target="slides/slide5.xml"/><Relationship Id="rId44" Type="http://schemas.openxmlformats.org/officeDocument/2006/relationships/slide" Target="slides/slide6.xml"/><Relationship Id="rId45" Type="http://schemas.openxmlformats.org/officeDocument/2006/relationships/slide" Target="slides/slide7.xml"/><Relationship Id="rId46" Type="http://schemas.openxmlformats.org/officeDocument/2006/relationships/slide" Target="slides/slide8.xml"/><Relationship Id="rId47" Type="http://schemas.openxmlformats.org/officeDocument/2006/relationships/slide" Target="slides/slide9.xml"/><Relationship Id="rId48" Type="http://schemas.openxmlformats.org/officeDocument/2006/relationships/slide" Target="slides/slide10.xml"/><Relationship Id="rId49" Type="http://schemas.openxmlformats.org/officeDocument/2006/relationships/slide" Target="slides/slide11.xml"/><Relationship Id="rId50" Type="http://schemas.openxmlformats.org/officeDocument/2006/relationships/slide" Target="slides/slide12.xml"/><Relationship Id="rId51" Type="http://schemas.openxmlformats.org/officeDocument/2006/relationships/slide" Target="slides/slide13.xml"/><Relationship Id="rId52" Type="http://schemas.openxmlformats.org/officeDocument/2006/relationships/slide" Target="slides/slide14.xml"/><Relationship Id="rId53" Type="http://schemas.openxmlformats.org/officeDocument/2006/relationships/slide" Target="slides/slide15.xml"/><Relationship Id="rId54" Type="http://schemas.openxmlformats.org/officeDocument/2006/relationships/slide" Target="slides/slide16.xml"/><Relationship Id="rId55" Type="http://schemas.openxmlformats.org/officeDocument/2006/relationships/slide" Target="slides/slide17.xml"/><Relationship Id="rId56" Type="http://schemas.openxmlformats.org/officeDocument/2006/relationships/slide" Target="slides/slide18.xml"/><Relationship Id="rId57" Type="http://schemas.openxmlformats.org/officeDocument/2006/relationships/slide" Target="slides/slide19.xml"/><Relationship Id="rId58" Type="http://schemas.openxmlformats.org/officeDocument/2006/relationships/slide" Target="slides/slide20.xml"/><Relationship Id="rId59" Type="http://schemas.openxmlformats.org/officeDocument/2006/relationships/slide" Target="slides/slide21.xml"/><Relationship Id="rId60" Type="http://schemas.openxmlformats.org/officeDocument/2006/relationships/slide" Target="slides/slide22.xml"/><Relationship Id="rId6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PlaceHolder 2"/>
          <p:cNvSpPr>
            <a:spLocks noGrp="1"/>
          </p:cNvSpPr>
          <p:nvPr>
            <p:ph type="dt" idx="10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8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1" name="PlaceHolder 5"/>
          <p:cNvSpPr>
            <a:spLocks noGrp="1"/>
          </p:cNvSpPr>
          <p:nvPr>
            <p:ph type="ftr" idx="11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PlaceHolder 6"/>
          <p:cNvSpPr>
            <a:spLocks noGrp="1"/>
          </p:cNvSpPr>
          <p:nvPr>
            <p:ph type="sldNum" idx="11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25638-684D-4F44-8D0F-68699FEB3F4C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2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55F3E-D29D-49CA-8FBF-65D9823EC538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27A52-E111-4159-A596-97F96ED47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F8366-A287-42EF-936B-3FD2CF303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AC4CA1-34CD-42A0-9B84-30E85AD2A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5BD7A2-E9D7-413B-81BA-770A471E1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E9571C-E788-4A59-BC91-5F8F0C3E4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DF5498-61E5-41BC-932A-0F18061CF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8E5767-90B2-4E10-9E3A-B668F28FD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5851A3-02D1-4396-9195-55864217C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8D45CF-9CD7-4EAA-B279-BDA0455DB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A06CE5-AC67-47CE-96D4-448B1706D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1E34C6-EA36-4B9E-B852-E58DBB713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7E9295-550C-48A2-9AF1-635901E28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8B2F1-80FC-4134-8432-ADD63D274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EB4595-2632-41F0-9FCE-2C111CE48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A7AF36-5C79-40B3-ABC4-12107346E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9B2EA0-B295-4569-BE5E-64214FA7C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28244E-CAAD-40EC-A788-B4A55683C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0FD80B-FDD5-4372-896F-D479F6052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2FAA97-83B1-4F73-946E-C2C26FF1C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F88ABD-3FC8-461E-B62E-03CE04B5F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F88A47-EF7B-474D-B009-CA6372CC5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9AC011-6654-49A2-B982-149B276BD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15BC6F-F756-44E9-9043-DC123E0D2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D8A5E-F647-4C5B-9386-432A632BA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5F920C-EE15-4D97-B4BD-0300D2127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360D5D-1F1A-4ED5-9F39-399D3ABB8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A2DFF3-32E6-4BD6-9946-C5A93B410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53487D-E490-49DA-B5A5-E5E6DB8B7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A8D42C-4BA6-41CF-838E-BFACB9BE2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1054E6-C466-4F96-8394-C2330773D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9E80B9-2F2A-47BA-8F8C-5C11A9EB0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3CB1AA-DD12-44DF-BABF-335B543CC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65C5E5-53E9-4DA2-B4B4-F64B2439C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FFAE36-C6BE-4AD0-A339-8E4FDB069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4A77E-95BD-4670-B17D-3526DD66A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BBAE00-3E26-4EF6-81EE-A3F2B3A9A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7AD074-3725-48D6-8A8E-BD6CE34F2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28930F-C33E-45F3-83BB-00AFCD4A8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150754-BF86-4827-935F-058263688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C03773-59B9-4930-A1A5-FD74C72CA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5A007A-6A22-4A5C-86D0-BAF590600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8D1F65-2C62-4DD0-9190-32B15876B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522ADC-D6D7-4AF5-802C-486A71D8E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F83B91-D47F-4186-901A-EA257B362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4D73B8-07CA-47C6-BE81-3A5B23646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2612E-4D0D-4E7C-8092-76936405D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6BC8BF-80E7-461A-A4F2-7F4544D8E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E3EB92-D99D-4FC9-AF35-F82C1250A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FEDB3C-C5C4-41C2-92FB-13E458F56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B3337C-A26F-4E76-86E8-ECBC270C5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7BEC95-49D2-45D0-8A2F-55ED9BC4D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104B336-6A70-4DBA-ABBE-70FEE8984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75E4E4E-4D58-451D-9105-9301D5744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474A21E-6AF0-4DF8-9A19-32A8E2E3D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C3A3D06-7965-42D6-BF4E-FB3862C88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ADA48D1-8FFD-4866-B376-7E7302639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2F25D-9B21-4AF3-8F7E-93B9C28B6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B0AB65A-3FF9-44A2-B940-E5C84EC7C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0AF76C4-3F58-47B5-9171-1AE9EB4BB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391D857-AE4B-4BB1-BD43-82683856A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B4BFCAE-1836-4390-9DDB-62D056CCE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205C1B1-CA06-4BEA-A0FC-E90594799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C5DE554-DB1F-42EE-B991-41B4C1769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EA23606-CE57-4725-9478-2F11D3C39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B629A06-4DBE-42FA-8DC9-0A0A8EA7B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E6ACE31-3B0A-4AB5-8170-CE5DB37CA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5310606-DD1E-42EE-A69E-876D05B70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BDEC7-E12D-438D-9C4C-94E48E32D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503116B-43F9-47E6-9702-B718B6806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254EB4E-7E0F-47B8-A5E9-009FB160F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C091BBA-FD30-4A48-86C6-7FAFF2814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96E37E7-FCA8-4B6E-91F0-17AA97CD5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E57AF43-9F80-4783-8245-66483205E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3E4EF5D-C7A9-445F-9064-9647B2FFD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1C14A0C-2882-4AFB-BB6B-8066F21CA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306B9BA-D9B9-44A9-83CA-261BDB3C1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1BCB686-A32A-49C3-AE51-6D24334D9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4BDCA86-0FDD-46B4-820F-6F5454478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B20DD-443A-481F-A44A-966A30DF5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F152CB2-DCDD-4D8D-906E-DC0E3C94C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028A9D3-8D6E-422D-9CF7-A0FB96BAF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3353F17-6219-4E34-8DC6-533BF2CCF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E7C8A83-3577-45A2-8336-D47C944CB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6A0C48A-87F2-42A1-A8AF-7C19EC2FF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574C9FF-3C29-4EA9-90A1-564377CB3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ACC5E3F-E8DA-4BB6-BA56-A02DF8762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D32FD1C-86AC-4A41-A02D-9E529CA5D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A1731F1-822B-4622-BF5A-ACB3756A2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C24A1A5-A448-4659-87DC-D7C621100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B1C2F-E12A-46C9-9E8A-430471B4E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4FF7C6E-E468-4E7D-90C9-036EC8D01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9ACFA93-0290-4799-926C-ECFAC7F7C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41B1DF8-DD31-4CCF-B21C-56119AAE9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2679B3D-45A2-495F-8C3A-4BE064A64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9583BC2-2E7F-4E25-BC42-2A43E8C40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E7536ED-D69D-43CA-8241-27D9AD3A6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C9E696E-E5E4-4871-9221-A536D79B5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FC73359-92AE-4937-8B05-444E10E5D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126F1A0-E595-4768-AFB9-D0470E2D4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4A55B7A-731F-4E08-BB06-6ECAB2AEF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FA37A-8165-48F2-B1A1-47AEA8DDA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C05244F-0E3C-432A-AA00-F58D8D4E5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6A4A704-9688-4094-87C7-07E9C1A08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BA24B2B-5947-427A-815D-73D6B0ADA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8F5C005-2DD7-4907-9482-A432C39E7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AC1D115-FD1C-490F-A328-18B633FDA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CFF0484-B656-4C50-B29F-910553B19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4CAC43A-FAB6-4803-80B9-D46AD8240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B906B2A-ABD1-40CC-A1F8-EEECB9BCF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61A6C10-F64F-4AE3-B869-E845BE7FA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63476B1-6264-40C7-908C-DEFC59B39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C0BBA-C064-4A33-9D5A-93976B625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F760D-16AE-4425-8742-5DBDD8EFF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9ED9DDF-E760-4E8D-9FE1-5F402F3F7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BEFDDFA-6FDB-4D7B-A936-9CA127380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35987B9-0A3F-4BD5-AADF-9B820329F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1ABB9C3-16C4-47D1-AD1A-2E5A3083A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4C88BE0-B0E5-4866-A3B1-02A051602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0598F8B-08BA-4128-A22A-E6C0B91C6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2307490-981E-4C1F-944F-1D8675908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E7B0E62-3F81-4C24-8A3C-A0C9EDAA2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455AABF-75F8-4EEF-BADE-A7BDC4172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C95891A-C031-4B3A-B819-69DFF10E3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EDDC2-9A95-4E88-A4B4-6E493B804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1315770-83B5-456B-BE96-3EC183353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E3ADF6E-CE3B-46DB-AC9B-47E7E2206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A215FC6-3DAF-4D39-B0E0-3DDF1E2A7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93C4C1A-37F1-4867-898B-FFE80F3F8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29822D7-4918-452B-87FA-ADDB7C1E5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5B04215-6988-4E4D-AB79-BB67781AF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EB4987C-845E-4100-A833-9B2C4B452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46AF3BE-7397-4CDB-BA02-E0F8000A5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52F1776-2E76-4C88-935F-0C53AA46A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4B43799-1688-467A-A554-DDF534556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9CDE3-3D58-462B-9D32-9F17AA80A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FC170A2-1019-4B2D-85B1-194CEB70D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999F3EB-1A0D-4014-B0BD-F5A1DAD88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264C799-DB00-4D84-9CF6-4209D6A8D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B41AA8C-25CD-429A-A4EC-164ABA215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9770CE0-3860-4D08-B822-11EF36673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33456F0-F57E-4EEB-B87E-F898A413A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D3978E6-FBFB-4D3C-96B8-95AD6CFB2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83F6A71-C929-41DB-A798-0D60925CF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8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18154D2-43E4-4946-B958-8E3F9F942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B4AA8FB-43C3-479F-826C-CE5DAFF11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37922-55BA-4C9D-A0E3-EDF09D964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E12A7B0-8786-4FB5-909E-6F0C00C7D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D703E7B-39EA-4CE8-90BE-9DFEB77AB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0F0BB4B-F528-45B4-8E9D-8E41457CA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954A470-AB80-4C60-A897-4FAE98383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B413F33-ED8C-449D-991B-8653C2F1E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C98E52E-2D61-43BD-B469-1BDECB969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4E3B7F0-7410-4BF5-8977-E5C108088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67B0361-7501-45A5-9FA5-0E298FE5C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37C51AD-9FC0-4864-915D-E567A5040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5F5D68F-2F1F-4F1F-8FD1-ECCEB40FF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A59E9-60BA-4A45-A7F7-A7BED198C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D82FE9B-FBAD-4BDC-BF02-316C85082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E645963-E909-46A6-9764-F614CC433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61F2054-5609-4C31-9EE2-506C6F30E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8384D9D-05F3-43A9-9B18-0E7B355F4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C77A0BE-3A50-4FC3-A84D-AAE02AC47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39A5EB3-C698-494A-AE9F-8721701C9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5CC2C1C-3AEF-419C-91DF-283CC6C5C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EEED487-4148-451A-87D3-57F7384AD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FFCB7F5-16E9-40E4-B342-A3FA17162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2795868-3DE7-4B87-A6C1-359897D41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11978B-132D-4BD6-BDC9-8ED678F4D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75DC587-C652-4C1B-BDF0-7E72C5F06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6E521B0-93BA-4250-BCB0-A825DAE59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30F3E05-3608-416B-84BA-B87E99BF2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F65ACF2-D660-43DB-A353-C54A51A2D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88DB01F-EB05-485E-8AB1-2153EFBE1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175EAC5-B993-4D78-B1AE-E71439FDF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AE102E9-E56B-4969-9A7C-3616E8E00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910DAFD-2962-414E-A7C8-EFC39A8C0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9F95AC8-9859-4C26-BF07-7298D4190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9425363-1621-4D91-9FC7-186952C49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CE2BEE-468B-4A31-9ACB-F74C4F0C9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354D5AB-51E3-494D-B4C7-88FC48A48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13FDD29-0B45-484C-B3CD-F4C8E5951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B0D5AD9-F495-45FC-A237-ADC71DDE3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E779A46-4FA6-4F53-AE31-5CB1CBC3A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08A7400-D467-4003-A934-9E44BB5B8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D782CFF-BB51-4DEE-84A0-C1C46A1B1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5CE7DFF-09E7-4D75-8ED3-0EF744351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561CFF9-D9F2-4610-BBEB-0ACFACCED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0BEBBAD-E39F-4981-8E75-4702BE597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F4A121B-8474-429C-9206-93A405CDA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0196B8-0204-498D-8098-FAD3DE413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1FEAE6D-5416-4FF6-89E6-7B735502C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60CD058-CBEE-4989-8B24-DC5301576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0EBAF15-7CD8-4270-BE82-D0D11E3AC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3F57D9D-8068-404D-A58A-B57D45B43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8EFACC5-D638-4E08-8B41-D4C31500E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C6BD536-32EF-4F55-B79A-BF5DE4747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77B89DC-83C8-4692-BC23-4655DEFA0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9417717-DB77-4B5C-8240-95FB2D787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AA8C7D7-B7D4-4EB9-B95B-2803A3038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362123B-E704-47EF-A588-10C2A7625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5A2297-272D-4D16-92CB-C6C79F455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37A8288-FFCD-4BF1-BACF-26E8662A0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4D4CD37-5A2C-4828-BB5F-8741213C2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D94403E-FB63-4835-8ADF-A2FC647EF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F3EB703-0A29-40EA-A92E-A9C035415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5A93DA0-6370-4E63-9FBB-2382B615E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CB404E0-8C8C-43A9-9F1F-F4B015F4F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6E7011D-33FA-45C0-A5B0-81CEF9610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6703C3C-5DDA-4033-A765-C58527D97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E4E2DFF-26F5-4CF2-9121-B6A3D53C3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3AACFCF-2149-4CD4-8A53-DBA6BF1B1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02BB98-8E1E-48BB-8760-A4F2F776F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AA87C33-D447-4078-98DF-EFA0D1923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7D15427-1EB2-498E-B433-0C031E7AD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67C0896-1DA5-429D-AB27-763F90126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6F75AFD-4192-4AB7-87B9-2B6D63F63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95C74AF-2964-4B9C-9286-8C6562117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E70DC3F-8351-4961-A934-5D75E39DF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6DC395E-756D-4837-841C-F7A8056F7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F611CE8-541D-4E34-B53D-3A5EAC8C8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D30449C-E78F-4EEB-ADBE-8D2504D71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7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1E9B290-83CF-46EA-94AA-34FC9CF45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A39D1-4764-4563-90C9-4D6BC91EE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4C75C1-C156-420E-B908-86362E95A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2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3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4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1A447E7-0F62-4DE2-8DC6-A235CCEAF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5FBAC6A-8667-407C-98BF-362551952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9ABB6FF-12F7-4D47-8B07-236BA1B42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2517A7D-8E2A-4208-935C-768E17F3C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9ECF86D-0646-471A-863D-ACEE97208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7ADAAF1-3B3A-4A3D-B2E9-CD2FE4BD2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F0E5302-0D19-4E2D-A630-B76DF532B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405072C-8171-455F-B93F-BE4569E97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9BD2322-05DA-418A-8C10-4BEBAEB43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99DFEFE-7316-4751-AC28-D4A8887C0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EBB476-EB80-4F08-BE33-C32F233D4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D8F67AF-4486-4E3A-B178-C7EB1D5D8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8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385151B-0737-414C-9F2B-BAD81EB95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3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4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5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895A5A5-A903-4B4E-82A2-4993AEA4A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A807B5F-84DE-486A-AAD1-6CCFEBFED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ABEBAF8-E4EA-41C5-9AE7-7FCFA4375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74EE9D5-63F3-482A-A5C3-63B94A7A0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EF05E18-D45C-472C-8347-0D7171F54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B948551-1F0A-450B-A970-544E96058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F71E8D1-0026-45D8-9801-51D57603B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BC11DB4-4FCD-42C8-9571-48452F0C9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4A001F-C5C7-4A79-B3C0-573027BBD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903DA75-8A4F-471C-84D0-920A5BE43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6836B1D-F221-458F-BE47-66CF7D7F1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1D26C4C-891D-4549-8839-26F3CEEE0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CD62E88-A328-4041-81F4-405F2E87D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005FAA3-5427-4ABF-A606-C3AE6B595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CA56592-3827-436E-B189-3A39AF845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A3D3204-2D68-4785-91B0-34A2DB72D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4E89F9F-6F14-43B3-9F43-CFE47D10E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6440BAF-EA7D-400D-96A8-E3D1FB41A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C01E600-51CF-4E98-BA0F-F2F4778C3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0E6F28-4CC9-40C3-AA9C-353CBA650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D6B64E9-657C-433C-94F0-AAA072728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D14DC03-9ED9-4B1C-A5F2-F4D4E5A4D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8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47ACCE3-C4E0-4B21-8072-8B57E5212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52FDB6D-FD5E-41A3-B00C-2706D16B1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037484A-5BC5-4BC7-8150-F516C6E2C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0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8DD14F8-CF77-48C6-86D2-5F4E3E804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3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4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5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6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7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28A7AF1-AEA3-4C5B-B639-E920AC807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5569ED2-0555-4243-9C7B-A944769AE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138882B-D91C-43BD-BE10-CE4CF628E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9F17018-BD93-4286-8197-25A1B0055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D8B5C3-CAEB-480A-9E3F-83557672B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359B11D-3E30-4A91-A311-77A20B0BC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8149699-3626-419D-BCBC-A886F74CD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969DC3B-4DA9-46BE-8CFD-EE9BBB1C8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5DF36E2-108C-423F-B103-0E16DD34B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9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22F546A-1A0C-4547-AC24-DF0978C13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8B139C6-990B-42EC-B4EF-CC5125A94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6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7CCB3AC-FC37-49CF-A311-432F34D6F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1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F1D54AE-F430-481F-BEBD-B93F79267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4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5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6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7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8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4374194-EBBA-44E4-BA67-9D139946A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9384811-8117-4BD4-976E-72ED5A8AA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C40171-5C23-4199-86E8-1741882A7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C0D6FE1-C647-4734-BCB5-7ECBF3813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16C9079-2BBE-4700-A429-D35B47B65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E696709-7247-4B31-AFC6-283BA2786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C9E28F2-A98D-4F00-9305-F64DC72F1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C513BBB-E89B-47FE-9ADA-412981D03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4F0AA32-2F61-447B-A33C-D6F524464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0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96E247E-ADE6-49B2-BEFA-B1DECEBE4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8B93D33-E9A1-4D90-B610-2300AECD5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3CE118D-CB5C-436E-B66B-045988DC9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2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C20BB23-272B-408F-BDA3-060B40BAE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AD6451-C5F8-498C-BD6D-0F51B704B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5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6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7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8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9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26784F4-D0D0-4B6A-B80A-B2409ACA7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9B16DA2-7C8A-487B-95F1-5C004FD46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0D3AE6E-434D-4D53-A47E-3FBC4BD80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15E36A9-A5E2-4B79-BC68-1421604FB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4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0CC8E0C-AF72-4DE2-9CF8-1BD7F99B7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7A243B2-538B-4ADE-9DA6-C6E14B832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1F7B3E4-2D10-47D3-899C-DFFE7F614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4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4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132D995-2ABD-452F-BAC9-6919735FE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1834029-8E5A-4880-BDD3-2287F71DB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984FE5A-82EE-437A-BF80-309CDAC8B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C1C799-B66D-4098-B444-B8D5C7F9E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A025800-362F-4B73-A124-6D8605C57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514C655-01CA-4579-AAE5-13E35A558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D9DE243-E27F-4388-A3F5-9811AD89A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06076B34-3C19-411B-B889-8D947322B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7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415C0E06-1B1F-4277-B00C-55A7EC61D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EF207D6A-A057-48CE-BDC1-7B24536C2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8B0EBD16-71D4-42B4-BC5B-E96681694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2806FF5C-AD28-486C-8C92-371619569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450E2B7F-CB38-40E7-9292-B9197661D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31C6049F-32EF-40BC-90AC-1ADD6D2E8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9D0EAA-61D2-4659-98C0-02C2F0CDD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A147C8BB-9829-4CE5-9CED-06908B342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D98626D4-5C39-4788-9E79-480793D10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7D469ACA-A31E-47A9-9C27-393563688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0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59756D5C-585D-4B2F-AD8B-5DA547654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0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8C70D969-CAC8-4E55-A805-ABDDE7D34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37A57C3D-38D7-4D81-82BC-489DC4E94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1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36806E59-7FB3-4BB2-B2EE-7AC8032EF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35C12B88-0E79-4876-B0D4-3FEC4BFEF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2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2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19A34ECA-28DF-4B95-A9DC-F000DB81C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1F735F18-6E24-4B3A-875C-99A994FDF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3B6E4A-E725-4549-8692-75B08CD1A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DF5E752F-6D70-40B3-9CC7-0D1EFC79B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2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2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4CF8CC41-3D12-4A45-8867-6DDF22B85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3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4F8CE84E-EDC9-47D0-A1E0-DD35EF9A1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6BC86345-19E8-4122-8A59-FB65112DE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7AA2D958-EE73-4CEE-B9C0-C612BDA48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4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725E54F4-AD9F-4224-8E7D-F76CE4556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5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5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5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234F7196-AF28-4D78-9D58-35B894F33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1ACC2948-0A56-467F-B8EA-36DD77CA9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5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BD98D76B-1C94-4F7D-8B66-2D330E2D5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44249FD0-FF57-4394-9CFD-485967B90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FF6EA-46A7-48CC-9213-A66DB1126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3B50C5-B68C-48F3-ADF7-774451C25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6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E39D5CAF-0C37-4F90-966E-1CEBD2A29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C2C4B03C-BA85-41DD-B75A-F8F3FF30D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B1E945D7-532A-4F41-90E5-F70751378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6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7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00162470-2CAE-4F63-AD4D-565FB4274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7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7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7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14501A28-509E-47B2-8058-13BD4D17D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7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7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8A5B8D40-56E8-4EF8-A57D-6B852FF7E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8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EFD43378-4CE5-4EE4-BF61-E9816B593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8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234F81B0-37DA-4D26-A1B2-F8DD1067A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8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D4037F73-7C6B-4CA3-B14B-F830FCB22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7E10FE3A-E65D-486E-AE6E-A115EAF6D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ABBF42-18EE-405D-8A16-08781E755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E04C8D11-8248-449B-B231-1B012FC2F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DD47446A-91DF-47C8-8413-D1BEAF9FD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0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DCE7CCC4-AD05-4A71-93D4-D9644B0C0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02DD401D-43EC-4B4C-945F-91C467801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45DF37CA-C528-44EA-945F-581592A2E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1487C857-F9DA-4C18-9EDE-167573A5B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1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5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8565A929-5FA2-4699-B46F-1F8582498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AF489163-5EEE-4483-94BD-61A5D60AC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2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9FD8C4D0-D959-4052-9C56-E07C9CBEC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2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7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72D9057F-C54C-4362-B7A2-4427A0A2A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F90A51-74D2-4A28-9524-51D8A240F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2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0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1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2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3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4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0D90C3AE-0DE7-46C4-8F7A-A8A3D8E0C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F1A984D3-245D-490B-9F31-FB01778A4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41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CAF8E459-BC57-4FB0-987F-AF181BA9F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2078E9EB-F416-48A9-801D-5FAACCA28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4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7AF244A2-B427-42D6-98DF-C8559F331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3D62F595-BD7D-4AA5-9FCD-E887D97C8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FB40BC8D-0E3C-419E-BACF-F94A84D37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7C8CFEA4-4E13-4D28-9F46-D50586D27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5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6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99366694-17B3-4CC3-9FD8-EC406B04D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8D2B04E4-1346-46E6-BD81-15A385A7D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195576-D70C-41E1-98A1-B8846AB3A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6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3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85119700-E485-4CA8-9E58-0F866D3AD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6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8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1D0CA478-AA0D-4719-B776-20E6AC2DC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7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1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2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3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4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5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2414799A-C93E-46DF-86FD-A3C12472E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53517E-CC03-455E-BC25-27DA928B0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296E28-CEA1-4C36-830D-72720CC4E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936633-1931-4E57-B21F-0C47D6A75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6A48B3-1D44-4D92-9EFB-0BD226B9B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B20A4E-7CE2-4ED1-B021-0390FC077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1C3DA5-7B0E-4B0A-86AD-8B3CC1842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D6A4E-56AC-4361-8875-E5BBE43DB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6044AC-BC9C-4A04-9B0D-B4A8D8AD5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6ACF96-C999-4DEC-B47E-9062576B7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C86103-2C11-4361-BAF1-EF7225ADF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607C9E-19E7-489F-A960-05DCA161C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9B6149-C142-4764-881E-C2077B69F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C3687B-CCD8-4C41-9DCA-D499D281A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E13D63-2068-4327-9567-9EA219070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F81F37-6B30-4DC2-820C-DAAAD2495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2F01CC-31C6-4069-9BF7-69F453CF8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4907D6-49F1-4710-A30F-E6B7AA988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902F7-15B7-4CF4-9244-864AE9DCC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5E8674-DD30-4EEE-9179-0419869DF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3B631C-BC30-428F-AD60-90948CC9A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C8DD95-B622-480C-BE7E-8544564D1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019FD4-2CCC-4FC7-A23D-BF4F7532B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D3F496-3CBA-4885-A20A-11DDEDD2D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393CB0-D58D-4402-9E5A-8B74792BB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F6B325-5F73-4DBC-B531-0399CD2C8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95314E-BFD9-4EDF-8540-E15D06745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0F3B7B-71BE-410E-BAFF-62D413142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6CA67E-BF39-4BB7-B5A1-702AB3835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3F54F-B6DA-44FC-A6CE-EC87F4E21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E7C1C4-0C70-49DF-854D-EC68C3102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BDE574-25D1-4F30-87E3-F3EFBCC58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F498EB-39FB-4029-A170-CF53CE830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C7716C-A96F-49D6-ABDC-E224E9C31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80A81F-44F1-4E7E-932E-D0FA486ED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3936A4-5E44-4013-9504-3734C0D79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996406-8944-4189-A04F-E0F3762C3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6775A4-C6ED-41CA-84D5-A1DDA7DEE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5ED029-CEFC-4912-A7B0-B9BAB8742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79BB1E-A11C-44C7-AFCB-F6B553293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E0D9D-6BE2-4F1E-93E7-0A0897AE8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6FEE47-0BCF-46FE-B95D-D352B1781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661839-95A2-4CF5-BF71-DFA003B75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301E74-E1AB-4F17-8C7A-F1A1A0857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542F80-1236-477A-82B9-746F69E41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4BD7C6-7B06-4CB0-A9EE-8668EE17D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4F5BD2-186F-495D-BC0B-0FD4E8500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6B854C-0EEB-461B-BD0E-B952A2846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34B681-356E-471D-B56B-5B880B0DF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6499B5-E3E3-4A52-A279-1627DBE71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18E1F2-6831-48A2-9D66-F2961AD1C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AB77D-404C-4EA2-B825-B585A9F62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65255A-D878-4310-9127-1080C0617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5DE6A1-CDA1-4B5F-B62B-507B92DC5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20E87F-F28F-4EEF-9278-E1C2B4706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EB87DC-9C4F-4E84-B23D-D34FE6546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AFB91E-DCE4-4E7A-878D-C84556F98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4457AA-B123-4403-9803-8B34569F5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56C110-BF14-41AB-8741-D8EB44F0D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9855E4-FE3B-437E-91EC-74AB923F4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003D21-8266-4D3D-997D-C3DCEEBAF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B2FBD4-067B-4AB6-81CE-D7585FB25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13.xml"/><Relationship Id="rId4" Type="http://schemas.openxmlformats.org/officeDocument/2006/relationships/slideLayout" Target="../slideLayouts/slideLayout314.xml"/><Relationship Id="rId5" Type="http://schemas.openxmlformats.org/officeDocument/2006/relationships/slideLayout" Target="../slideLayouts/slideLayout315.xml"/><Relationship Id="rId6" Type="http://schemas.openxmlformats.org/officeDocument/2006/relationships/slideLayout" Target="../slideLayouts/slideLayout316.xml"/><Relationship Id="rId7" Type="http://schemas.openxmlformats.org/officeDocument/2006/relationships/slideLayout" Target="../slideLayouts/slideLayout317.xml"/><Relationship Id="rId8" Type="http://schemas.openxmlformats.org/officeDocument/2006/relationships/slideLayout" Target="../slideLayouts/slideLayout318.xml"/><Relationship Id="rId9" Type="http://schemas.openxmlformats.org/officeDocument/2006/relationships/slideLayout" Target="../slideLayouts/slideLayout319.xml"/><Relationship Id="rId10" Type="http://schemas.openxmlformats.org/officeDocument/2006/relationships/slideLayout" Target="../slideLayouts/slideLayout320.xml"/><Relationship Id="rId11" Type="http://schemas.openxmlformats.org/officeDocument/2006/relationships/slideLayout" Target="../slideLayouts/slideLayout321.xml"/><Relationship Id="rId12" Type="http://schemas.openxmlformats.org/officeDocument/2006/relationships/slideLayout" Target="../slideLayouts/slideLayout322.xml"/><Relationship Id="rId13" Type="http://schemas.openxmlformats.org/officeDocument/2006/relationships/slideLayout" Target="../slideLayouts/slideLayout323.xml"/><Relationship Id="rId14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37.xml"/><Relationship Id="rId4" Type="http://schemas.openxmlformats.org/officeDocument/2006/relationships/slideLayout" Target="../slideLayouts/slideLayout338.xml"/><Relationship Id="rId5" Type="http://schemas.openxmlformats.org/officeDocument/2006/relationships/slideLayout" Target="../slideLayouts/slideLayout339.xml"/><Relationship Id="rId6" Type="http://schemas.openxmlformats.org/officeDocument/2006/relationships/slideLayout" Target="../slideLayouts/slideLayout340.xml"/><Relationship Id="rId7" Type="http://schemas.openxmlformats.org/officeDocument/2006/relationships/slideLayout" Target="../slideLayouts/slideLayout341.xml"/><Relationship Id="rId8" Type="http://schemas.openxmlformats.org/officeDocument/2006/relationships/slideLayout" Target="../slideLayouts/slideLayout342.xml"/><Relationship Id="rId9" Type="http://schemas.openxmlformats.org/officeDocument/2006/relationships/slideLayout" Target="../slideLayouts/slideLayout343.xml"/><Relationship Id="rId10" Type="http://schemas.openxmlformats.org/officeDocument/2006/relationships/slideLayout" Target="../slideLayouts/slideLayout344.xml"/><Relationship Id="rId11" Type="http://schemas.openxmlformats.org/officeDocument/2006/relationships/slideLayout" Target="../slideLayouts/slideLayout345.xml"/><Relationship Id="rId12" Type="http://schemas.openxmlformats.org/officeDocument/2006/relationships/slideLayout" Target="../slideLayouts/slideLayout346.xml"/><Relationship Id="rId13" Type="http://schemas.openxmlformats.org/officeDocument/2006/relationships/slideLayout" Target="../slideLayouts/slideLayout347.xml"/><Relationship Id="rId14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49.xml"/><Relationship Id="rId4" Type="http://schemas.openxmlformats.org/officeDocument/2006/relationships/slideLayout" Target="../slideLayouts/slideLayout350.xml"/><Relationship Id="rId5" Type="http://schemas.openxmlformats.org/officeDocument/2006/relationships/slideLayout" Target="../slideLayouts/slideLayout351.xml"/><Relationship Id="rId6" Type="http://schemas.openxmlformats.org/officeDocument/2006/relationships/slideLayout" Target="../slideLayouts/slideLayout352.xml"/><Relationship Id="rId7" Type="http://schemas.openxmlformats.org/officeDocument/2006/relationships/slideLayout" Target="../slideLayouts/slideLayout353.xml"/><Relationship Id="rId8" Type="http://schemas.openxmlformats.org/officeDocument/2006/relationships/slideLayout" Target="../slideLayouts/slideLayout354.xml"/><Relationship Id="rId9" Type="http://schemas.openxmlformats.org/officeDocument/2006/relationships/slideLayout" Target="../slideLayouts/slideLayout355.xml"/><Relationship Id="rId10" Type="http://schemas.openxmlformats.org/officeDocument/2006/relationships/slideLayout" Target="../slideLayouts/slideLayout356.xml"/><Relationship Id="rId11" Type="http://schemas.openxmlformats.org/officeDocument/2006/relationships/slideLayout" Target="../slideLayouts/slideLayout357.xml"/><Relationship Id="rId12" Type="http://schemas.openxmlformats.org/officeDocument/2006/relationships/slideLayout" Target="../slideLayouts/slideLayout358.xml"/><Relationship Id="rId13" Type="http://schemas.openxmlformats.org/officeDocument/2006/relationships/slideLayout" Target="../slideLayouts/slideLayout359.xml"/><Relationship Id="rId14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61.xml"/><Relationship Id="rId4" Type="http://schemas.openxmlformats.org/officeDocument/2006/relationships/slideLayout" Target="../slideLayouts/slideLayout362.xml"/><Relationship Id="rId5" Type="http://schemas.openxmlformats.org/officeDocument/2006/relationships/slideLayout" Target="../slideLayouts/slideLayout363.xml"/><Relationship Id="rId6" Type="http://schemas.openxmlformats.org/officeDocument/2006/relationships/slideLayout" Target="../slideLayouts/slideLayout364.xml"/><Relationship Id="rId7" Type="http://schemas.openxmlformats.org/officeDocument/2006/relationships/slideLayout" Target="../slideLayouts/slideLayout365.xml"/><Relationship Id="rId8" Type="http://schemas.openxmlformats.org/officeDocument/2006/relationships/slideLayout" Target="../slideLayouts/slideLayout366.xml"/><Relationship Id="rId9" Type="http://schemas.openxmlformats.org/officeDocument/2006/relationships/slideLayout" Target="../slideLayouts/slideLayout367.xml"/><Relationship Id="rId10" Type="http://schemas.openxmlformats.org/officeDocument/2006/relationships/slideLayout" Target="../slideLayouts/slideLayout368.xml"/><Relationship Id="rId11" Type="http://schemas.openxmlformats.org/officeDocument/2006/relationships/slideLayout" Target="../slideLayouts/slideLayout369.xml"/><Relationship Id="rId12" Type="http://schemas.openxmlformats.org/officeDocument/2006/relationships/slideLayout" Target="../slideLayouts/slideLayout370.xml"/><Relationship Id="rId13" Type="http://schemas.openxmlformats.org/officeDocument/2006/relationships/slideLayout" Target="../slideLayouts/slideLayout371.xml"/><Relationship Id="rId14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3.xml"/><Relationship Id="rId4" Type="http://schemas.openxmlformats.org/officeDocument/2006/relationships/slideLayout" Target="../slideLayouts/slideLayout374.xml"/><Relationship Id="rId5" Type="http://schemas.openxmlformats.org/officeDocument/2006/relationships/slideLayout" Target="../slideLayouts/slideLayout375.xml"/><Relationship Id="rId6" Type="http://schemas.openxmlformats.org/officeDocument/2006/relationships/slideLayout" Target="../slideLayouts/slideLayout376.xml"/><Relationship Id="rId7" Type="http://schemas.openxmlformats.org/officeDocument/2006/relationships/slideLayout" Target="../slideLayouts/slideLayout377.xml"/><Relationship Id="rId8" Type="http://schemas.openxmlformats.org/officeDocument/2006/relationships/slideLayout" Target="../slideLayouts/slideLayout378.xml"/><Relationship Id="rId9" Type="http://schemas.openxmlformats.org/officeDocument/2006/relationships/slideLayout" Target="../slideLayouts/slideLayout379.xml"/><Relationship Id="rId10" Type="http://schemas.openxmlformats.org/officeDocument/2006/relationships/slideLayout" Target="../slideLayouts/slideLayout380.xml"/><Relationship Id="rId11" Type="http://schemas.openxmlformats.org/officeDocument/2006/relationships/slideLayout" Target="../slideLayouts/slideLayout381.xml"/><Relationship Id="rId12" Type="http://schemas.openxmlformats.org/officeDocument/2006/relationships/slideLayout" Target="../slideLayouts/slideLayout382.xml"/><Relationship Id="rId13" Type="http://schemas.openxmlformats.org/officeDocument/2006/relationships/slideLayout" Target="../slideLayouts/slideLayout383.xml"/><Relationship Id="rId14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85.xml"/><Relationship Id="rId4" Type="http://schemas.openxmlformats.org/officeDocument/2006/relationships/slideLayout" Target="../slideLayouts/slideLayout386.xml"/><Relationship Id="rId5" Type="http://schemas.openxmlformats.org/officeDocument/2006/relationships/slideLayout" Target="../slideLayouts/slideLayout387.xml"/><Relationship Id="rId6" Type="http://schemas.openxmlformats.org/officeDocument/2006/relationships/slideLayout" Target="../slideLayouts/slideLayout388.xml"/><Relationship Id="rId7" Type="http://schemas.openxmlformats.org/officeDocument/2006/relationships/slideLayout" Target="../slideLayouts/slideLayout389.xml"/><Relationship Id="rId8" Type="http://schemas.openxmlformats.org/officeDocument/2006/relationships/slideLayout" Target="../slideLayouts/slideLayout390.xml"/><Relationship Id="rId9" Type="http://schemas.openxmlformats.org/officeDocument/2006/relationships/slideLayout" Target="../slideLayouts/slideLayout391.xml"/><Relationship Id="rId10" Type="http://schemas.openxmlformats.org/officeDocument/2006/relationships/slideLayout" Target="../slideLayouts/slideLayout392.xml"/><Relationship Id="rId11" Type="http://schemas.openxmlformats.org/officeDocument/2006/relationships/slideLayout" Target="../slideLayouts/slideLayout393.xml"/><Relationship Id="rId12" Type="http://schemas.openxmlformats.org/officeDocument/2006/relationships/slideLayout" Target="../slideLayouts/slideLayout394.xml"/><Relationship Id="rId13" Type="http://schemas.openxmlformats.org/officeDocument/2006/relationships/slideLayout" Target="../slideLayouts/slideLayout395.xml"/><Relationship Id="rId14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97.xml"/><Relationship Id="rId4" Type="http://schemas.openxmlformats.org/officeDocument/2006/relationships/slideLayout" Target="../slideLayouts/slideLayout398.xml"/><Relationship Id="rId5" Type="http://schemas.openxmlformats.org/officeDocument/2006/relationships/slideLayout" Target="../slideLayouts/slideLayout399.xml"/><Relationship Id="rId6" Type="http://schemas.openxmlformats.org/officeDocument/2006/relationships/slideLayout" Target="../slideLayouts/slideLayout400.xml"/><Relationship Id="rId7" Type="http://schemas.openxmlformats.org/officeDocument/2006/relationships/slideLayout" Target="../slideLayouts/slideLayout401.xml"/><Relationship Id="rId8" Type="http://schemas.openxmlformats.org/officeDocument/2006/relationships/slideLayout" Target="../slideLayouts/slideLayout402.xml"/><Relationship Id="rId9" Type="http://schemas.openxmlformats.org/officeDocument/2006/relationships/slideLayout" Target="../slideLayouts/slideLayout403.xml"/><Relationship Id="rId10" Type="http://schemas.openxmlformats.org/officeDocument/2006/relationships/slideLayout" Target="../slideLayouts/slideLayout404.xml"/><Relationship Id="rId11" Type="http://schemas.openxmlformats.org/officeDocument/2006/relationships/slideLayout" Target="../slideLayouts/slideLayout405.xml"/><Relationship Id="rId12" Type="http://schemas.openxmlformats.org/officeDocument/2006/relationships/slideLayout" Target="../slideLayouts/slideLayout406.xml"/><Relationship Id="rId13" Type="http://schemas.openxmlformats.org/officeDocument/2006/relationships/slideLayout" Target="../slideLayouts/slideLayout407.xml"/><Relationship Id="rId14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09.xml"/><Relationship Id="rId4" Type="http://schemas.openxmlformats.org/officeDocument/2006/relationships/slideLayout" Target="../slideLayouts/slideLayout410.xml"/><Relationship Id="rId5" Type="http://schemas.openxmlformats.org/officeDocument/2006/relationships/slideLayout" Target="../slideLayouts/slideLayout411.xml"/><Relationship Id="rId6" Type="http://schemas.openxmlformats.org/officeDocument/2006/relationships/slideLayout" Target="../slideLayouts/slideLayout412.xml"/><Relationship Id="rId7" Type="http://schemas.openxmlformats.org/officeDocument/2006/relationships/slideLayout" Target="../slideLayouts/slideLayout413.xml"/><Relationship Id="rId8" Type="http://schemas.openxmlformats.org/officeDocument/2006/relationships/slideLayout" Target="../slideLayouts/slideLayout414.xml"/><Relationship Id="rId9" Type="http://schemas.openxmlformats.org/officeDocument/2006/relationships/slideLayout" Target="../slideLayouts/slideLayout415.xml"/><Relationship Id="rId10" Type="http://schemas.openxmlformats.org/officeDocument/2006/relationships/slideLayout" Target="../slideLayouts/slideLayout416.xml"/><Relationship Id="rId11" Type="http://schemas.openxmlformats.org/officeDocument/2006/relationships/slideLayout" Target="../slideLayouts/slideLayout417.xml"/><Relationship Id="rId12" Type="http://schemas.openxmlformats.org/officeDocument/2006/relationships/slideLayout" Target="../slideLayouts/slideLayout418.xml"/><Relationship Id="rId13" Type="http://schemas.openxmlformats.org/officeDocument/2006/relationships/slideLayout" Target="../slideLayouts/slideLayout419.xml"/><Relationship Id="rId14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21.xml"/><Relationship Id="rId4" Type="http://schemas.openxmlformats.org/officeDocument/2006/relationships/slideLayout" Target="../slideLayouts/slideLayout422.xml"/><Relationship Id="rId5" Type="http://schemas.openxmlformats.org/officeDocument/2006/relationships/slideLayout" Target="../slideLayouts/slideLayout423.xml"/><Relationship Id="rId6" Type="http://schemas.openxmlformats.org/officeDocument/2006/relationships/slideLayout" Target="../slideLayouts/slideLayout424.xml"/><Relationship Id="rId7" Type="http://schemas.openxmlformats.org/officeDocument/2006/relationships/slideLayout" Target="../slideLayouts/slideLayout425.xml"/><Relationship Id="rId8" Type="http://schemas.openxmlformats.org/officeDocument/2006/relationships/slideLayout" Target="../slideLayouts/slideLayout426.xml"/><Relationship Id="rId9" Type="http://schemas.openxmlformats.org/officeDocument/2006/relationships/slideLayout" Target="../slideLayouts/slideLayout427.xml"/><Relationship Id="rId10" Type="http://schemas.openxmlformats.org/officeDocument/2006/relationships/slideLayout" Target="../slideLayouts/slideLayout428.xml"/><Relationship Id="rId11" Type="http://schemas.openxmlformats.org/officeDocument/2006/relationships/slideLayout" Target="../slideLayouts/slideLayout429.xml"/><Relationship Id="rId12" Type="http://schemas.openxmlformats.org/officeDocument/2006/relationships/slideLayout" Target="../slideLayouts/slideLayout430.xml"/><Relationship Id="rId13" Type="http://schemas.openxmlformats.org/officeDocument/2006/relationships/slideLayout" Target="../slideLayouts/slideLayout431.xml"/><Relationship Id="rId14" Type="http://schemas.openxmlformats.org/officeDocument/2006/relationships/slideLayout" Target="../slideLayouts/slideLayout432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136A3-C5E1-493E-9C51-0EA27C7DABAA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759EC-AA3E-4C80-B5DE-8322C46E0360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64CBC-B29C-42CD-91EC-0E824146DB97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D0111-1E6F-4E6B-8423-0C5E695B8960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C4F60-6F6F-405E-9395-12E43F186D8E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CA499-B42C-4308-8A20-83F77799F59F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7AB20-7DBD-4BA9-86AD-6CC40CABD518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4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3DA54-8867-41E4-BB3C-40C0EFCA30C3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5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2B75C-E2FF-4DA1-9557-949C209309E7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dt" idx="5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ftr" idx="5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C0C89-EEEB-40DE-A5EF-06D0A6846B10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 type="dt" idx="5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 type="ftr" idx="5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523A0-1DF4-42B1-B134-42ECAF6AB993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54A25-C49F-46F0-AACF-3E3CCEE07310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 type="dt" idx="5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 type="ftr" idx="5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B7A33-4AFC-4918-9389-9560DC1AC40E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 type="dt" idx="6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 type="ftr" idx="6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5F13E-4F16-4E88-8EA8-F629B74AAEE0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 type="dt" idx="6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 type="ftr" idx="6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 type="sldNum" idx="6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D4C40-1995-4499-9A36-E868C377FEDE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 type="dt" idx="6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 type="ftr" idx="6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 type="sldNum" idx="6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72C7A-CC17-4CC1-AF6E-B01AC2E6317D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 type="dt" idx="7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 type="ftr" idx="7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 type="sldNum" idx="7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9986A-85BA-4CA9-9862-503009B9AAEA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 type="dt" idx="7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 type="ftr" idx="7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5"/>
          <p:cNvSpPr>
            <a:spLocks noGrp="1"/>
          </p:cNvSpPr>
          <p:nvPr>
            <p:ph type="sldNum" idx="7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DF18F-81D1-4D20-BDA7-CF3810883E38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dt" idx="7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PlaceHolder 4"/>
          <p:cNvSpPr>
            <a:spLocks noGrp="1"/>
          </p:cNvSpPr>
          <p:nvPr>
            <p:ph type="ftr" idx="7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PlaceHolder 5"/>
          <p:cNvSpPr>
            <a:spLocks noGrp="1"/>
          </p:cNvSpPr>
          <p:nvPr>
            <p:ph type="sldNum" idx="7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3E733-A540-4C51-A09C-55C35F39F1E2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 type="dt" idx="7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 type="ftr" idx="8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 type="sldNum" idx="8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28DDE-2070-4136-9050-74DC48F3A464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3"/>
    <p:sldLayoutId id="2147483988" r:id="rId4"/>
    <p:sldLayoutId id="2147483989" r:id="rId5"/>
    <p:sldLayoutId id="2147483990" r:id="rId6"/>
    <p:sldLayoutId id="2147483991" r:id="rId7"/>
    <p:sldLayoutId id="2147483992" r:id="rId8"/>
    <p:sldLayoutId id="2147483993" r:id="rId9"/>
    <p:sldLayoutId id="2147483994" r:id="rId10"/>
    <p:sldLayoutId id="2147483995" r:id="rId11"/>
    <p:sldLayoutId id="2147483996" r:id="rId12"/>
    <p:sldLayoutId id="2147483997" r:id="rId13"/>
    <p:sldLayoutId id="2147483998" r:id="rId14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dt" idx="8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ftr" idx="8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sldNum" idx="8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A668C-E578-4A31-AC7B-4C9ED1269B4F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 type="dt" idx="8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PlaceHolder 4"/>
          <p:cNvSpPr>
            <a:spLocks noGrp="1"/>
          </p:cNvSpPr>
          <p:nvPr>
            <p:ph type="ftr" idx="8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5"/>
          <p:cNvSpPr>
            <a:spLocks noGrp="1"/>
          </p:cNvSpPr>
          <p:nvPr>
            <p:ph type="sldNum" idx="8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C02EE-0EBA-485A-92BF-F675C9BB5AC5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3"/>
    <p:sldLayoutId id="2147484014" r:id="rId4"/>
    <p:sldLayoutId id="2147484015" r:id="rId5"/>
    <p:sldLayoutId id="2147484016" r:id="rId6"/>
    <p:sldLayoutId id="2147484017" r:id="rId7"/>
    <p:sldLayoutId id="2147484018" r:id="rId8"/>
    <p:sldLayoutId id="2147484019" r:id="rId9"/>
    <p:sldLayoutId id="2147484020" r:id="rId10"/>
    <p:sldLayoutId id="2147484021" r:id="rId11"/>
    <p:sldLayoutId id="2147484022" r:id="rId12"/>
    <p:sldLayoutId id="2147484023" r:id="rId13"/>
    <p:sldLayoutId id="2147484024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F169E-51F3-4B36-9954-19EA5E71EEE2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1" name="PlaceHolder 3"/>
          <p:cNvSpPr>
            <a:spLocks noGrp="1"/>
          </p:cNvSpPr>
          <p:nvPr>
            <p:ph type="dt" idx="8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PlaceHolder 4"/>
          <p:cNvSpPr>
            <a:spLocks noGrp="1"/>
          </p:cNvSpPr>
          <p:nvPr>
            <p:ph type="ftr" idx="8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PlaceHolder 5"/>
          <p:cNvSpPr>
            <a:spLocks noGrp="1"/>
          </p:cNvSpPr>
          <p:nvPr>
            <p:ph type="sldNum" idx="9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61002-5454-40E2-AB14-795C280DBD97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3"/>
    <p:sldLayoutId id="2147484027" r:id="rId4"/>
    <p:sldLayoutId id="2147484028" r:id="rId5"/>
    <p:sldLayoutId id="2147484029" r:id="rId6"/>
    <p:sldLayoutId id="2147484030" r:id="rId7"/>
    <p:sldLayoutId id="2147484031" r:id="rId8"/>
    <p:sldLayoutId id="2147484032" r:id="rId9"/>
    <p:sldLayoutId id="2147484033" r:id="rId10"/>
    <p:sldLayoutId id="2147484034" r:id="rId11"/>
    <p:sldLayoutId id="2147484035" r:id="rId12"/>
    <p:sldLayoutId id="2147484036" r:id="rId13"/>
    <p:sldLayoutId id="2147484037" r:id="rId14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32" name="PlaceHolder 3"/>
          <p:cNvSpPr>
            <a:spLocks noGrp="1"/>
          </p:cNvSpPr>
          <p:nvPr>
            <p:ph type="dt" idx="9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PlaceHolder 4"/>
          <p:cNvSpPr>
            <a:spLocks noGrp="1"/>
          </p:cNvSpPr>
          <p:nvPr>
            <p:ph type="ftr" idx="9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PlaceHolder 5"/>
          <p:cNvSpPr>
            <a:spLocks noGrp="1"/>
          </p:cNvSpPr>
          <p:nvPr>
            <p:ph type="sldNum" idx="9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14FF9-CEA2-4D5E-A3F8-674C06EB7A7F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3"/>
    <p:sldLayoutId id="2147484040" r:id="rId4"/>
    <p:sldLayoutId id="2147484041" r:id="rId5"/>
    <p:sldLayoutId id="2147484042" r:id="rId6"/>
    <p:sldLayoutId id="2147484043" r:id="rId7"/>
    <p:sldLayoutId id="2147484044" r:id="rId8"/>
    <p:sldLayoutId id="2147484045" r:id="rId9"/>
    <p:sldLayoutId id="2147484046" r:id="rId10"/>
    <p:sldLayoutId id="2147484047" r:id="rId11"/>
    <p:sldLayoutId id="2147484048" r:id="rId12"/>
    <p:sldLayoutId id="2147484049" r:id="rId13"/>
    <p:sldLayoutId id="2147484050" r:id="rId14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3" name="PlaceHolder 3"/>
          <p:cNvSpPr>
            <a:spLocks noGrp="1"/>
          </p:cNvSpPr>
          <p:nvPr>
            <p:ph type="dt" idx="9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PlaceHolder 4"/>
          <p:cNvSpPr>
            <a:spLocks noGrp="1"/>
          </p:cNvSpPr>
          <p:nvPr>
            <p:ph type="ftr" idx="9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PlaceHolder 5"/>
          <p:cNvSpPr>
            <a:spLocks noGrp="1"/>
          </p:cNvSpPr>
          <p:nvPr>
            <p:ph type="sldNum" idx="9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1847B-5664-4F98-90A5-194AC6156B2E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3"/>
    <p:sldLayoutId id="2147484053" r:id="rId4"/>
    <p:sldLayoutId id="2147484054" r:id="rId5"/>
    <p:sldLayoutId id="2147484055" r:id="rId6"/>
    <p:sldLayoutId id="2147484056" r:id="rId7"/>
    <p:sldLayoutId id="2147484057" r:id="rId8"/>
    <p:sldLayoutId id="2147484058" r:id="rId9"/>
    <p:sldLayoutId id="2147484059" r:id="rId10"/>
    <p:sldLayoutId id="2147484060" r:id="rId11"/>
    <p:sldLayoutId id="2147484061" r:id="rId12"/>
    <p:sldLayoutId id="2147484062" r:id="rId13"/>
    <p:sldLayoutId id="2147484063" r:id="rId14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1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4" name="PlaceHolder 3"/>
          <p:cNvSpPr>
            <a:spLocks noGrp="1"/>
          </p:cNvSpPr>
          <p:nvPr>
            <p:ph type="dt" idx="9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PlaceHolder 4"/>
          <p:cNvSpPr>
            <a:spLocks noGrp="1"/>
          </p:cNvSpPr>
          <p:nvPr>
            <p:ph type="ftr" idx="9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PlaceHolder 5"/>
          <p:cNvSpPr>
            <a:spLocks noGrp="1"/>
          </p:cNvSpPr>
          <p:nvPr>
            <p:ph type="sldNum" idx="9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8253B-8B41-4D1D-B3B6-113CE51DD5CB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3"/>
    <p:sldLayoutId id="2147484066" r:id="rId4"/>
    <p:sldLayoutId id="2147484067" r:id="rId5"/>
    <p:sldLayoutId id="2147484068" r:id="rId6"/>
    <p:sldLayoutId id="2147484069" r:id="rId7"/>
    <p:sldLayoutId id="2147484070" r:id="rId8"/>
    <p:sldLayoutId id="2147484071" r:id="rId9"/>
    <p:sldLayoutId id="2147484072" r:id="rId10"/>
    <p:sldLayoutId id="2147484073" r:id="rId11"/>
    <p:sldLayoutId id="2147484074" r:id="rId12"/>
    <p:sldLayoutId id="2147484075" r:id="rId13"/>
    <p:sldLayoutId id="2147484076" r:id="rId14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55" name="PlaceHolder 3"/>
          <p:cNvSpPr>
            <a:spLocks noGrp="1"/>
          </p:cNvSpPr>
          <p:nvPr>
            <p:ph type="dt" idx="10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PlaceHolder 4"/>
          <p:cNvSpPr>
            <a:spLocks noGrp="1"/>
          </p:cNvSpPr>
          <p:nvPr>
            <p:ph type="ftr" idx="10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PlaceHolder 5"/>
          <p:cNvSpPr>
            <a:spLocks noGrp="1"/>
          </p:cNvSpPr>
          <p:nvPr>
            <p:ph type="sldNum" idx="10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9ADB0-6742-462B-A718-D5F50FC1EED0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3"/>
    <p:sldLayoutId id="2147484079" r:id="rId4"/>
    <p:sldLayoutId id="2147484080" r:id="rId5"/>
    <p:sldLayoutId id="2147484081" r:id="rId6"/>
    <p:sldLayoutId id="2147484082" r:id="rId7"/>
    <p:sldLayoutId id="2147484083" r:id="rId8"/>
    <p:sldLayoutId id="2147484084" r:id="rId9"/>
    <p:sldLayoutId id="2147484085" r:id="rId10"/>
    <p:sldLayoutId id="2147484086" r:id="rId11"/>
    <p:sldLayoutId id="2147484087" r:id="rId12"/>
    <p:sldLayoutId id="2147484088" r:id="rId13"/>
    <p:sldLayoutId id="2147484089" r:id="rId14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95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6" name="PlaceHolder 3"/>
          <p:cNvSpPr>
            <a:spLocks noGrp="1"/>
          </p:cNvSpPr>
          <p:nvPr>
            <p:ph type="dt" idx="10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PlaceHolder 4"/>
          <p:cNvSpPr>
            <a:spLocks noGrp="1"/>
          </p:cNvSpPr>
          <p:nvPr>
            <p:ph type="ftr" idx="10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PlaceHolder 5"/>
          <p:cNvSpPr>
            <a:spLocks noGrp="1"/>
          </p:cNvSpPr>
          <p:nvPr>
            <p:ph type="sldNum" idx="10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4BAA6-6A46-4365-ACC3-3AD7C77C8D30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3"/>
    <p:sldLayoutId id="2147484092" r:id="rId4"/>
    <p:sldLayoutId id="2147484093" r:id="rId5"/>
    <p:sldLayoutId id="2147484094" r:id="rId6"/>
    <p:sldLayoutId id="2147484095" r:id="rId7"/>
    <p:sldLayoutId id="2147484096" r:id="rId8"/>
    <p:sldLayoutId id="2147484097" r:id="rId9"/>
    <p:sldLayoutId id="2147484098" r:id="rId10"/>
    <p:sldLayoutId id="2147484099" r:id="rId11"/>
    <p:sldLayoutId id="2147484100" r:id="rId12"/>
    <p:sldLayoutId id="2147484101" r:id="rId13"/>
    <p:sldLayoutId id="2147484102" r:id="rId14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36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7" name="PlaceHolder 3"/>
          <p:cNvSpPr>
            <a:spLocks noGrp="1"/>
          </p:cNvSpPr>
          <p:nvPr>
            <p:ph type="dt" idx="10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PlaceHolder 4"/>
          <p:cNvSpPr>
            <a:spLocks noGrp="1"/>
          </p:cNvSpPr>
          <p:nvPr>
            <p:ph type="ftr" idx="10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PlaceHolder 5"/>
          <p:cNvSpPr>
            <a:spLocks noGrp="1"/>
          </p:cNvSpPr>
          <p:nvPr>
            <p:ph type="sldNum" idx="10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A1567-ACE5-4894-A349-D721D0C51444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3"/>
    <p:sldLayoutId id="2147484105" r:id="rId4"/>
    <p:sldLayoutId id="2147484106" r:id="rId5"/>
    <p:sldLayoutId id="2147484107" r:id="rId6"/>
    <p:sldLayoutId id="2147484108" r:id="rId7"/>
    <p:sldLayoutId id="2147484109" r:id="rId8"/>
    <p:sldLayoutId id="2147484110" r:id="rId9"/>
    <p:sldLayoutId id="2147484111" r:id="rId10"/>
    <p:sldLayoutId id="2147484112" r:id="rId11"/>
    <p:sldLayoutId id="2147484113" r:id="rId12"/>
    <p:sldLayoutId id="2147484114" r:id="rId13"/>
    <p:sldLayoutId id="2147484115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68727-D195-457E-A778-4377F86BA7E4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8DF84-1E16-447F-A28E-2D79FCF18CEF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06527-5E22-4B30-B413-6DA5497A6BCB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5ED63-846D-4F09-AF60-13328318BC5C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F6FAC-751E-494B-86EB-C6042B0058B8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B9DC8-29E8-41C1-B3E9-317D153F5B9F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69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3" name="Picture 2" descr=""/>
          <p:cNvPicPr/>
          <p:nvPr/>
        </p:nvPicPr>
        <p:blipFill>
          <a:blip r:embed="rId1"/>
          <a:stretch/>
        </p:blipFill>
        <p:spPr>
          <a:xfrm>
            <a:off x="684360" y="2060640"/>
            <a:ext cx="7848360" cy="3868560"/>
          </a:xfrm>
          <a:prstGeom prst="rect">
            <a:avLst/>
          </a:prstGeom>
          <a:ln w="0">
            <a:noFill/>
          </a:ln>
        </p:spPr>
      </p:pic>
      <p:sp>
        <p:nvSpPr>
          <p:cNvPr id="1484" name="Rectangle 3"/>
          <p:cNvSpPr/>
          <p:nvPr/>
        </p:nvSpPr>
        <p:spPr>
          <a:xfrm>
            <a:off x="0" y="106668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 baseline="12000">
                <a:solidFill>
                  <a:srgbClr val="669900"/>
                </a:solidFill>
                <a:latin typeface="Tahoma"/>
                <a:ea typeface="Times New Roman"/>
              </a:rPr>
              <a:t>Reg. (CE) n. 1698/2005 del Consigl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 baseline="12000">
                <a:solidFill>
                  <a:srgbClr val="ee8f04"/>
                </a:solidFill>
                <a:latin typeface="Tahoma"/>
                <a:ea typeface="Times New Roman"/>
              </a:rPr>
              <a:t> </a:t>
            </a:r>
            <a:r>
              <a:rPr b="1" i="1" lang="it-IT" sz="4400" spc="-1" strike="noStrike" baseline="12000">
                <a:solidFill>
                  <a:srgbClr val="669900"/>
                </a:solidFill>
                <a:latin typeface="Tahoma"/>
                <a:ea typeface="Tahoma"/>
              </a:rPr>
              <a:t>PROGRAMMA regionale di SVILUPPO RURA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 baseline="12000">
                <a:solidFill>
                  <a:srgbClr val="ee8f04"/>
                </a:solidFill>
                <a:latin typeface="Tahoma"/>
                <a:ea typeface="Times New Roman"/>
              </a:rPr>
              <a:t>      </a:t>
            </a:r>
            <a:r>
              <a:rPr b="1" lang="it-IT" sz="4800" spc="-1" strike="noStrike" baseline="12000">
                <a:solidFill>
                  <a:srgbClr val="ffff99"/>
                </a:solidFill>
                <a:latin typeface="Tahoma"/>
                <a:ea typeface="Times New Roman"/>
              </a:rPr>
              <a:t>2007 - 201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Rectangle 4"/>
          <p:cNvSpPr/>
          <p:nvPr/>
        </p:nvSpPr>
        <p:spPr>
          <a:xfrm>
            <a:off x="225360" y="4869000"/>
            <a:ext cx="8701200" cy="12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669900"/>
                </a:solidFill>
                <a:latin typeface="Tahoma"/>
              </a:rPr>
              <a:t>Genova -   4 luglio 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Rectangle 5"/>
          <p:cNvSpPr/>
          <p:nvPr/>
        </p:nvSpPr>
        <p:spPr>
          <a:xfrm>
            <a:off x="1428840" y="6541920"/>
            <a:ext cx="6572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ffffff"/>
                </a:solidFill>
                <a:latin typeface="Arial"/>
              </a:rPr>
              <a:t>SETTORE SERVIZI ALLE IMPRESE e FLOROVIVAISM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8" name="PlaceHolder 1"/>
          <p:cNvSpPr>
            <a:spLocks noGrp="1"/>
          </p:cNvSpPr>
          <p:nvPr>
            <p:ph type="title"/>
          </p:nvPr>
        </p:nvSpPr>
        <p:spPr>
          <a:xfrm>
            <a:off x="590400" y="919080"/>
            <a:ext cx="8229600" cy="93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Istruttoria Domande di Aiuto 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19" name=""/>
          <p:cNvSpPr txBox="1"/>
          <p:nvPr/>
        </p:nvSpPr>
        <p:spPr>
          <a:xfrm>
            <a:off x="142920" y="2428560"/>
            <a:ext cx="8858160" cy="31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33"/>
                </a:solidFill>
                <a:latin typeface="Arial"/>
              </a:rPr>
              <a:t>avvio del procedimento - </a:t>
            </a:r>
            <a:r>
              <a:rPr b="0" lang="it-IT" sz="1800" spc="-1" strike="noStrike">
                <a:solidFill>
                  <a:srgbClr val="333333"/>
                </a:solidFill>
                <a:latin typeface="Arial"/>
              </a:rPr>
              <a:t>art. 12 e 13 della L.R. n. 56/2009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Arial"/>
              </a:rPr>
              <a:t>notifica delle </a:t>
            </a:r>
            <a:r>
              <a:rPr b="1" lang="it-IT" sz="2000" spc="-1" strike="noStrike" u="sng">
                <a:solidFill>
                  <a:srgbClr val="333333"/>
                </a:solidFill>
                <a:uFillTx/>
                <a:latin typeface="Arial"/>
              </a:rPr>
              <a:t>comunicazioni di avvio del procedimento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3333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900" spc="-1" strike="noStrike">
                <a:solidFill>
                  <a:srgbClr val="333333"/>
                </a:solidFill>
                <a:latin typeface="Arial"/>
              </a:rPr>
              <a:t>il portale agriligurianet nella sezione PSR – sottosezione misure/;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3333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900" spc="-1" strike="noStrike">
                <a:solidFill>
                  <a:srgbClr val="333333"/>
                </a:solidFill>
                <a:latin typeface="Arial"/>
              </a:rPr>
              <a:t>il Bollettino ufficiale della Regione Liguria (BURL).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20" name="Rettangolo 3"/>
          <p:cNvSpPr/>
          <p:nvPr/>
        </p:nvSpPr>
        <p:spPr>
          <a:xfrm>
            <a:off x="40824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Freccia in giù 4"/>
          <p:cNvSpPr/>
          <p:nvPr/>
        </p:nvSpPr>
        <p:spPr>
          <a:xfrm>
            <a:off x="3857760" y="3714840"/>
            <a:ext cx="714240" cy="5713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2" name="PlaceHolder 1"/>
          <p:cNvSpPr>
            <a:spLocks noGrp="1"/>
          </p:cNvSpPr>
          <p:nvPr>
            <p:ph type="title"/>
          </p:nvPr>
        </p:nvSpPr>
        <p:spPr>
          <a:xfrm>
            <a:off x="571680" y="92844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Istruttoria Domande di Aiuto 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23" name=""/>
          <p:cNvSpPr txBox="1"/>
          <p:nvPr/>
        </p:nvSpPr>
        <p:spPr>
          <a:xfrm>
            <a:off x="142920" y="1714680"/>
            <a:ext cx="8858160" cy="43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cura del Settore Servizi alle Imprese Agricole: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verifica della ricevibilità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ispetto dei termini e delle modalità di presentazione della domanda di aiuto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esenza della documentazione (documenti essenziali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esenza della firma del legale rappresentante (ove richiesta)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istruttoria di merito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verifica dei requisiti dei soggetti proponenti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mmissibilità oggettiva delle domande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valutazione del progetto/corso/servizio di consulenza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ttribuzione del punteggio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eventuali prescrizioni e proposte di azioni correttive</a:t>
            </a:r>
            <a:r>
              <a:rPr b="0" lang="it-IT" sz="1800" spc="-1" strike="noStrike">
                <a:solidFill>
                  <a:srgbClr val="333333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24" name="Rettangolo 3"/>
          <p:cNvSpPr/>
          <p:nvPr/>
        </p:nvSpPr>
        <p:spPr>
          <a:xfrm>
            <a:off x="40824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5" name="PlaceHolder 1"/>
          <p:cNvSpPr>
            <a:spLocks noGrp="1"/>
          </p:cNvSpPr>
          <p:nvPr>
            <p:ph type="title"/>
          </p:nvPr>
        </p:nvSpPr>
        <p:spPr>
          <a:xfrm>
            <a:off x="590400" y="919080"/>
            <a:ext cx="8229600" cy="93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Istruttoria Domande di Aiuto 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26" name=""/>
          <p:cNvSpPr txBox="1"/>
          <p:nvPr/>
        </p:nvSpPr>
        <p:spPr>
          <a:xfrm>
            <a:off x="142560" y="1785960"/>
            <a:ext cx="8643960" cy="430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er la misura 331 e 2° bando Misura 111 “informazione”: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ecreto del dirigente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graduatoria delle domande di aiuto ammissibili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elenco delle domande aiuto ammissibili e finanziabili in base alle risorse disponibili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dempimenti per le domande non ammissibili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Arial"/>
              </a:rPr>
              <a:t>ACCORDO tra Regione e Soggetto beneficiario</a:t>
            </a:r>
            <a:r>
              <a:rPr b="1" lang="it-IT" sz="1600" spc="-1" strike="noStrike">
                <a:solidFill>
                  <a:srgbClr val="333333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er la misura 114 e 1° Bando “informazione”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Nullaosta (Atto di concessione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27" name="Rettangolo 3"/>
          <p:cNvSpPr/>
          <p:nvPr/>
        </p:nvSpPr>
        <p:spPr>
          <a:xfrm>
            <a:off x="47988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Freccia in giù 4"/>
          <p:cNvSpPr/>
          <p:nvPr/>
        </p:nvSpPr>
        <p:spPr>
          <a:xfrm>
            <a:off x="4143240" y="2071800"/>
            <a:ext cx="428760" cy="3571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Freccia in giù 5"/>
          <p:cNvSpPr/>
          <p:nvPr/>
        </p:nvSpPr>
        <p:spPr>
          <a:xfrm>
            <a:off x="4214880" y="3571920"/>
            <a:ext cx="428400" cy="3571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DURATA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31" name="PlaceHolder 2"/>
          <p:cNvSpPr>
            <a:spLocks noGrp="1"/>
          </p:cNvSpPr>
          <p:nvPr>
            <p:ph/>
          </p:nvPr>
        </p:nvSpPr>
        <p:spPr>
          <a:xfrm>
            <a:off x="590400" y="2000160"/>
            <a:ext cx="8229600" cy="32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ata di inizio e di conclusione del progetto/corso, preventivamente indicate nella scheda tecnica e definite nell’accordo/nullaosta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alizzare nei tempi previsti dal progetto/corso approvato;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eventuale richiesta motivata di proroga (escluso 1° bando – misura 111 informazione”) non superiore ai sei mesi sulla data di conclusione (compatibilmente con le scadenze comunitarie)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2" name="Rettangolo 3"/>
          <p:cNvSpPr/>
          <p:nvPr/>
        </p:nvSpPr>
        <p:spPr>
          <a:xfrm>
            <a:off x="47988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PlaceHolder 1"/>
          <p:cNvSpPr>
            <a:spLocks noGrp="1"/>
          </p:cNvSpPr>
          <p:nvPr>
            <p:ph type="title"/>
          </p:nvPr>
        </p:nvSpPr>
        <p:spPr>
          <a:xfrm>
            <a:off x="590400" y="919080"/>
            <a:ext cx="8229600" cy="8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343160" indent="0" algn="ct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Attuazione Progetto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34" name="PlaceHolder 2"/>
          <p:cNvSpPr>
            <a:spLocks noGrp="1"/>
          </p:cNvSpPr>
          <p:nvPr>
            <p:ph/>
          </p:nvPr>
        </p:nvSpPr>
        <p:spPr>
          <a:xfrm>
            <a:off x="214200" y="1928880"/>
            <a:ext cx="862488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pese Ammissibili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efinite nel Bando (punto 7), in particolare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confronto a consuntivo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tra n. 3 preventivi (non richiesta per beni altamente specializzati e per acquisti di beni - importo di 500 euro x domanda)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VA 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non riconosciuta 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seconda del regime IVA e per gli Enti pubblici</a:t>
            </a:r>
            <a:r>
              <a:rPr b="0" lang="it-IT" sz="1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ategorie di spesa e voci di spesa 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previste dal Bando)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mmissibilità delle spese è valutata ai sensi della DGR n. 372/2008, e ss.mm.ii (DGR n. 1396/2008, n. 317/2010, n. 580/2010, n. 815/2011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ongrue, conformi ai prezzi di mercato e coerenti con il progetto/corso approvato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quantificate e giustificate (preventivo e consuntivo) - distinte per categoria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5" name="Text Box 5"/>
          <p:cNvSpPr/>
          <p:nvPr/>
        </p:nvSpPr>
        <p:spPr>
          <a:xfrm>
            <a:off x="0" y="6524640"/>
            <a:ext cx="291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Text Box 6"/>
          <p:cNvSpPr/>
          <p:nvPr/>
        </p:nvSpPr>
        <p:spPr>
          <a:xfrm>
            <a:off x="0" y="6491160"/>
            <a:ext cx="406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Rectangle 7"/>
          <p:cNvSpPr/>
          <p:nvPr/>
        </p:nvSpPr>
        <p:spPr>
          <a:xfrm>
            <a:off x="0" y="652140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Rettangolo 6"/>
          <p:cNvSpPr/>
          <p:nvPr/>
        </p:nvSpPr>
        <p:spPr>
          <a:xfrm>
            <a:off x="33696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Variant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40" name="PlaceHolder 2"/>
          <p:cNvSpPr>
            <a:spLocks noGrp="1"/>
          </p:cNvSpPr>
          <p:nvPr>
            <p:ph/>
          </p:nvPr>
        </p:nvSpPr>
        <p:spPr>
          <a:xfrm>
            <a:off x="468000" y="1844280"/>
            <a:ext cx="828684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669900"/>
                </a:solidFill>
                <a:uFillTx/>
                <a:latin typeface="Times New Roman"/>
                <a:ea typeface="Times New Roman"/>
              </a:rPr>
              <a:t>non sono ammesse varianti</a:t>
            </a:r>
            <a:r>
              <a:rPr b="1" lang="it-IT" sz="20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: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iminuzione del punteggio attribuito ;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erdita dei requisiti di ammissibilità;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odifiche del progetto/corso/s originario in termini di obiettivi e di risultati;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odifiche sostanziali tecniche ed economiche della singole tipologie di intervento approvate;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umento dell’onere a carico del contributo pubblico.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1" name="Rectangle 4"/>
          <p:cNvSpPr/>
          <p:nvPr/>
        </p:nvSpPr>
        <p:spPr>
          <a:xfrm>
            <a:off x="0" y="654192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Rettangolo 5"/>
          <p:cNvSpPr/>
          <p:nvPr/>
        </p:nvSpPr>
        <p:spPr>
          <a:xfrm>
            <a:off x="55116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609480" y="999720"/>
            <a:ext cx="8229600" cy="42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Variant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44" name="PlaceHolder 2"/>
          <p:cNvSpPr>
            <a:spLocks noGrp="1"/>
          </p:cNvSpPr>
          <p:nvPr>
            <p:ph/>
          </p:nvPr>
        </p:nvSpPr>
        <p:spPr>
          <a:xfrm>
            <a:off x="142560" y="1500120"/>
            <a:ext cx="8715240" cy="45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Arial Black"/>
              </a:rPr>
              <a:t>Per la misura 111 e 33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 Costituiscono </a:t>
            </a:r>
            <a:r>
              <a:rPr b="1" lang="it-IT" sz="16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varianti in corso d’opera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446040" indent="-181080" algn="just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odifiche immateriali di carattere giuridico, tecnico ed amministrativo (es. cambio di sede di realizzazione dell’intervento, adeguamento del crono programma, sostituzione del personale coinvolto)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446040" indent="-181080" algn="just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odifiche materiali: riduzione della spesa prevista per la realizzazione di un intervento ammesso all’aiuto (a causa di economia o mancata realizzazione, parziale o totale) e contestuale incremento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446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Variazione in aumento fino ad un massimo del 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30 %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dell’importo inizialmente determinato </a:t>
            </a:r>
            <a:r>
              <a:rPr b="1" lang="it-IT" sz="16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tra le diverse categoria di spesa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es. spese di personale, materiale consumabile, etc.)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44604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OTA BENE</a:t>
            </a:r>
            <a:r>
              <a:rPr b="0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446040" indent="-181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ssimo una variante finanziaria per domanda di aiuto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446040" indent="-181080" algn="just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e richieste di varianti devono essere preventivamente 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omunicate (preavviso di 10 giorni) e autorizzate dal Settore Ispettorato Agrario regionale (prima della data di scadenza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5" name="Rectangle 4"/>
          <p:cNvSpPr/>
          <p:nvPr/>
        </p:nvSpPr>
        <p:spPr>
          <a:xfrm>
            <a:off x="0" y="654192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Rettangolo 5"/>
          <p:cNvSpPr/>
          <p:nvPr/>
        </p:nvSpPr>
        <p:spPr>
          <a:xfrm>
            <a:off x="55116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7" name="PlaceHolder 1"/>
          <p:cNvSpPr>
            <a:spLocks noGrp="1"/>
          </p:cNvSpPr>
          <p:nvPr>
            <p:ph type="title"/>
          </p:nvPr>
        </p:nvSpPr>
        <p:spPr>
          <a:xfrm>
            <a:off x="609480" y="1066680"/>
            <a:ext cx="822960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Variant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48" name="PlaceHolder 2"/>
          <p:cNvSpPr>
            <a:spLocks noGrp="1"/>
          </p:cNvSpPr>
          <p:nvPr>
            <p:ph/>
          </p:nvPr>
        </p:nvSpPr>
        <p:spPr>
          <a:xfrm>
            <a:off x="213840" y="1714680"/>
            <a:ext cx="864396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333333"/>
                </a:solidFill>
                <a:latin typeface="Arial"/>
              </a:rPr>
              <a:t>b) 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Non costituiscon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variante in corso d’opera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 (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non comunicate e autorizzate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181080" indent="-181080">
              <a:lnSpc>
                <a:spcPct val="150000"/>
              </a:lnSpc>
              <a:spcBef>
                <a:spcPts val="45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a riduzione dell’importo (per economia di spesa) in una o più voce di spesa ammesse all’aiuto, senza contestuale incremento di altre voci di spesa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181080" indent="-181080">
              <a:lnSpc>
                <a:spcPct val="150000"/>
              </a:lnSpc>
              <a:spcBef>
                <a:spcPts val="45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le modifiche di portata minore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he non determinino 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tra le diverse categoria di spesa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un aumento superiore al 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10 %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dell’importo inizialmente determinato per ciascuna categoria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9" name="Rectangle 4"/>
          <p:cNvSpPr/>
          <p:nvPr/>
        </p:nvSpPr>
        <p:spPr>
          <a:xfrm>
            <a:off x="0" y="654192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Rettangolo 5"/>
          <p:cNvSpPr/>
          <p:nvPr/>
        </p:nvSpPr>
        <p:spPr>
          <a:xfrm>
            <a:off x="55116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PlaceHolder 1"/>
          <p:cNvSpPr>
            <a:spLocks noGrp="1"/>
          </p:cNvSpPr>
          <p:nvPr>
            <p:ph type="title"/>
          </p:nvPr>
        </p:nvSpPr>
        <p:spPr>
          <a:xfrm>
            <a:off x="590400" y="919080"/>
            <a:ext cx="8229600" cy="8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343160" indent="0" algn="ct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Domande di Pagamento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52" name="PlaceHolder 2"/>
          <p:cNvSpPr>
            <a:spLocks noGrp="1"/>
          </p:cNvSpPr>
          <p:nvPr>
            <p:ph/>
          </p:nvPr>
        </p:nvSpPr>
        <p:spPr>
          <a:xfrm>
            <a:off x="609480" y="1785600"/>
            <a:ext cx="82296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just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e domande di pagamento e le relative rendicontazioni tecniche e finanziarie devono essere inviate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l Settore Ispettorato Agrario Regionale (competente per territorio)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entro la data di scadenza 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misura 114 e misura 331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entro 60 giorni dalla data di scadenza 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Bandi misura 111 “informazione”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odulistica predisposta dalla Region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tati avanzamento lavori (se previste) e saldo finale (non ammesse anticipazioni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45720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Le modalità di rendicontazione e di pagamento sono definiti nel dettaglio nella DGR n. 372/2008 e ss.mm.ii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4572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3" name="Text Box 5"/>
          <p:cNvSpPr/>
          <p:nvPr/>
        </p:nvSpPr>
        <p:spPr>
          <a:xfrm>
            <a:off x="0" y="6524640"/>
            <a:ext cx="291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Text Box 6"/>
          <p:cNvSpPr/>
          <p:nvPr/>
        </p:nvSpPr>
        <p:spPr>
          <a:xfrm>
            <a:off x="0" y="6491160"/>
            <a:ext cx="406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Rectangle 7"/>
          <p:cNvSpPr/>
          <p:nvPr/>
        </p:nvSpPr>
        <p:spPr>
          <a:xfrm>
            <a:off x="0" y="652140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Rettangolo 7"/>
          <p:cNvSpPr/>
          <p:nvPr/>
        </p:nvSpPr>
        <p:spPr>
          <a:xfrm>
            <a:off x="55116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6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3352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Violazioni di Impegn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58" name="PlaceHolder 2"/>
          <p:cNvSpPr>
            <a:spLocks noGrp="1"/>
          </p:cNvSpPr>
          <p:nvPr>
            <p:ph/>
          </p:nvPr>
        </p:nvSpPr>
        <p:spPr>
          <a:xfrm>
            <a:off x="285840" y="1571400"/>
            <a:ext cx="8555040" cy="45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e fattispecie di violazione di impegni e dei livelli di gravità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, entità e durata per ciascuna violazione sono disciplinate dall’alleg. 7 del Bando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IDUZIONE e/o DECADENZA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lcuni esempi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itardo nella presentazione domanda di pagamento, non conformità del materiale informativo, variazioni varianti, comunicazioni di varianti, etc.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fatto salvo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quanto disposto ai sensi dell’art. 31 del Reg. CE 1975/2006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’inapplicabilità di quanto disposto al presente articolo per i casi di forza maggiore previsti dalla normativa in materia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’applicazione di ulteriori norme comunitarie nazionali e regionali in materia di illeciti amministrativi e penali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9" name="Rettangolo 3"/>
          <p:cNvSpPr/>
          <p:nvPr/>
        </p:nvSpPr>
        <p:spPr>
          <a:xfrm>
            <a:off x="47988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Freccia in giù 4"/>
          <p:cNvSpPr/>
          <p:nvPr/>
        </p:nvSpPr>
        <p:spPr>
          <a:xfrm>
            <a:off x="4286160" y="2214720"/>
            <a:ext cx="642960" cy="5713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669900"/>
                </a:solidFill>
                <a:latin typeface="Arial"/>
              </a:rPr>
              <a:t>TITOLO</a:t>
            </a:r>
            <a:endParaRPr b="1" lang="en-US" sz="3600" spc="-1" strike="noStrike">
              <a:solidFill>
                <a:srgbClr val="669900"/>
              </a:solidFill>
              <a:latin typeface="Arial"/>
            </a:endParaRPr>
          </a:p>
        </p:txBody>
      </p:sp>
      <p:pic>
        <p:nvPicPr>
          <p:cNvPr id="1488" name="Picture 4" descr=""/>
          <p:cNvPicPr/>
          <p:nvPr/>
        </p:nvPicPr>
        <p:blipFill>
          <a:blip r:embed="rId1"/>
          <a:stretch/>
        </p:blipFill>
        <p:spPr>
          <a:xfrm>
            <a:off x="2357280" y="1268280"/>
            <a:ext cx="5346720" cy="2519640"/>
          </a:xfrm>
          <a:prstGeom prst="rect">
            <a:avLst/>
          </a:prstGeom>
          <a:ln w="0">
            <a:noFill/>
          </a:ln>
        </p:spPr>
      </p:pic>
      <p:sp>
        <p:nvSpPr>
          <p:cNvPr id="1489" name="PlaceHolder 2"/>
          <p:cNvSpPr>
            <a:spLocks noGrp="1"/>
          </p:cNvSpPr>
          <p:nvPr>
            <p:ph type="subTitle"/>
          </p:nvPr>
        </p:nvSpPr>
        <p:spPr>
          <a:xfrm>
            <a:off x="356760" y="3929040"/>
            <a:ext cx="8643960" cy="22147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Arial Black"/>
              </a:rPr>
              <a:t>Seminario Informativo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 Black"/>
              </a:rPr>
              <a:t>nuovi bandi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 Black"/>
              </a:rPr>
              <a:t>misura 111 “informazione” </a:t>
            </a:r>
            <a:r>
              <a:rPr b="1" lang="it-IT" sz="2000" spc="-1" strike="noStrike">
                <a:solidFill>
                  <a:srgbClr val="ff0000"/>
                </a:solidFill>
                <a:latin typeface="Arial Black"/>
              </a:rPr>
              <a:t>(DGR nn. 677/2013 e 672/2013)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 Black"/>
              </a:rPr>
              <a:t>misura 114 “consulenza aziendale” </a:t>
            </a:r>
            <a:r>
              <a:rPr b="1" lang="it-IT" sz="2000" spc="-1" strike="noStrike">
                <a:solidFill>
                  <a:srgbClr val="ff0000"/>
                </a:solidFill>
                <a:latin typeface="Arial Black"/>
              </a:rPr>
              <a:t>(DGR n. 510/2013)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 Black"/>
              </a:rPr>
              <a:t>Misura 331 “Formazione e informazione” </a:t>
            </a:r>
            <a:r>
              <a:rPr b="1" lang="it-IT" sz="2000" spc="-1" strike="noStrike">
                <a:solidFill>
                  <a:srgbClr val="ff0000"/>
                </a:solidFill>
                <a:latin typeface="Arial Black"/>
              </a:rPr>
              <a:t>(DGR n. 531/2013)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PlaceHolder 1"/>
          <p:cNvSpPr>
            <a:spLocks noGrp="1"/>
          </p:cNvSpPr>
          <p:nvPr>
            <p:ph type="title"/>
          </p:nvPr>
        </p:nvSpPr>
        <p:spPr>
          <a:xfrm>
            <a:off x="684360" y="907560"/>
            <a:ext cx="8229600" cy="56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3352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Revoche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62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er accertata falsità di dichiarazioni sostitutive di certificazioni o di atti di notorietà contenute nella domanda di contributo o allegate ad essa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ancata realizzazione del progetto/corso/servizio di consulenza ammesso a contribut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alizzazione del progetto diverso da quello ammesso a contributo o diverso dalle varianti autorizza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omanda di liquidazione del contributo irregolar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grave irregolarità dei documenti che attestano le spese sostenute dal beneficiari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erdita dei requisiti necessari per la concessione del contribut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inuncia del beneficiari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3" name="Rettangolo 3"/>
          <p:cNvSpPr/>
          <p:nvPr/>
        </p:nvSpPr>
        <p:spPr>
          <a:xfrm>
            <a:off x="55116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Obblighi General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65" name="PlaceHolder 2"/>
          <p:cNvSpPr>
            <a:spLocks noGrp="1"/>
          </p:cNvSpPr>
          <p:nvPr>
            <p:ph/>
          </p:nvPr>
        </p:nvSpPr>
        <p:spPr>
          <a:xfrm>
            <a:off x="285480" y="1857240"/>
            <a:ext cx="864396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izzare il progetto nei tempi che consentono il raggiungimento delle finalità della misura in conformità agli obblighi derivanti  dalla normativa vigente e dal PSR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izzare il progetto in modo conforme e in coerenza con la proposta approvata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tere a disposizione  della Regione e di ogni altra autorità pubblica incaricata dei controlli, tutta la documentazione necessaria a svolgere l’attività di controllo, anche nel caso sia detenuto da terzi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entire l’accesso degli incaricati dei controlli ai luoghi  dove si trovano i documenti oggetto  dell’aiuto pubblico ed ai luoghi dove viene svolta l’attività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ervare  per almeno 5 anni tutta la documentazione (lett. C, art.7, c. LR 42/2007)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icurare il libero accesso alle iniziative previste a tutti i potenziali destinatari, senza nessun vincolo di appartenenza a forme associative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6" name="Rettangolo 3"/>
          <p:cNvSpPr/>
          <p:nvPr/>
        </p:nvSpPr>
        <p:spPr>
          <a:xfrm>
            <a:off x="55116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7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Normativa di Riferimento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68" name="PlaceHolder 2"/>
          <p:cNvSpPr>
            <a:spLocks noGrp="1"/>
          </p:cNvSpPr>
          <p:nvPr>
            <p:ph/>
          </p:nvPr>
        </p:nvSpPr>
        <p:spPr>
          <a:xfrm>
            <a:off x="356760" y="1642680"/>
            <a:ext cx="8643960" cy="43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ipali adempimenti e gli obblighi sono previsti da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golamenti comunitari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ogramma di Sviluppo Rurale 2007 – 2013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R n. 42/2007, in particolare l’art. 7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BANDI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Fattispecie di violazione di impegni e dei livelli di gravità, entità e durata per ciascuna violazione, ai sensi del DM 22/12/2009 (all. 7 del Bando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GR n. 1038 del 10/09/2010, relativa all’individuazione delle percentuali di riduzione in base ai livelli di gravità, entità e durata delle violazioni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GR n. 1233/2008 “Disposizione in materia di pubblicità e informazione sul sostegno da parte del FEASR”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GR n. 372 del 4/4/2008, e ss.mm.ii  (DGR n. 1396 del 29/10/2008, n. 317 del 9/2/2010 e n. 580 del 28/5/2010, relative ai criteri per l’ammissibilità delle spes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9" name="Rettangolo 3"/>
          <p:cNvSpPr/>
          <p:nvPr/>
        </p:nvSpPr>
        <p:spPr>
          <a:xfrm>
            <a:off x="33696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"/>
          <p:cNvSpPr txBox="1"/>
          <p:nvPr/>
        </p:nvSpPr>
        <p:spPr>
          <a:xfrm>
            <a:off x="142920" y="1643040"/>
            <a:ext cx="8858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1653480" indent="-16534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RESTATORI DI SERVIZI AGROFORESTALI</a:t>
            </a:r>
            <a:r>
              <a:rPr b="1" lang="it-IT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ientrano esclusivamente i soggetti che hanno ottenuto il riconoscimento di Organismi abilitati dalla Regione a fornire i servizi di formazione, dimostrazione e consulenza alle aziende agricole e forestali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neficiari dell’aiuto: misura 111 e 331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ggetti attuatori: misura 114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 i BENEFICIARI DEGLI AIUTI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AFFIDABILITÀ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del soggetto proponente in base all’esito di eventuali altre operazioni cofinanziate dai PSR (dal 2000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INSUSSISTENZA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di relazioni di parentela o affinità con dipendenti regionali“ (Dichiarazione  sostitutiva di atto di notorietà  (“Piano di prevenzione della corruzione e Programma per la trasparenza e l'integrità 2013/2015“)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DE MINIMIS 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ove previst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 algn="ctr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 algn="ctr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91" name="PlaceHolder 1"/>
          <p:cNvSpPr>
            <a:spLocks noGrp="1"/>
          </p:cNvSpPr>
          <p:nvPr>
            <p:ph type="title"/>
          </p:nvPr>
        </p:nvSpPr>
        <p:spPr>
          <a:xfrm>
            <a:off x="250920" y="981000"/>
            <a:ext cx="864216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beneficiari e destinatari (1)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92" name="CasellaDiTesto 5"/>
          <p:cNvSpPr/>
          <p:nvPr/>
        </p:nvSpPr>
        <p:spPr>
          <a:xfrm>
            <a:off x="166680" y="6510240"/>
            <a:ext cx="361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Freccia in giù 4"/>
          <p:cNvSpPr/>
          <p:nvPr/>
        </p:nvSpPr>
        <p:spPr>
          <a:xfrm>
            <a:off x="3929040" y="2571840"/>
            <a:ext cx="571680" cy="3571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"/>
          <p:cNvSpPr txBox="1"/>
          <p:nvPr/>
        </p:nvSpPr>
        <p:spPr>
          <a:xfrm>
            <a:off x="142920" y="1714320"/>
            <a:ext cx="8858160" cy="45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mprenditori agricoli iscritti al registro delle imprese, dotati di numero di partita IVA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operatori forestali, iscritti al registro delle imprese, che abbiano un’attività principale o secondaria con codice ATECO che inizi con A02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oggetti beneficiari per la misura 114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estinatari della formazione e informazione per la misura 111 e 331 (possono partecipare coadiuvanti familiari, iscritti all’INPS, e lavoratori dipendenti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er la misura 331 i destinatari con sede legale nelle aree rurali ricomprese nell’Asse 3) del PSR (zone C e D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250920" y="981000"/>
            <a:ext cx="864216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beneficiari e destinatari (2)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96" name="CasellaDiTesto 5"/>
          <p:cNvSpPr/>
          <p:nvPr/>
        </p:nvSpPr>
        <p:spPr>
          <a:xfrm>
            <a:off x="166680" y="6510240"/>
            <a:ext cx="361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Freccia in giù 4"/>
          <p:cNvSpPr/>
          <p:nvPr/>
        </p:nvSpPr>
        <p:spPr>
          <a:xfrm>
            <a:off x="4071960" y="3000240"/>
            <a:ext cx="785880" cy="6429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6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Entità Aiut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99" name=""/>
          <p:cNvSpPr txBox="1"/>
          <p:nvPr/>
        </p:nvSpPr>
        <p:spPr>
          <a:xfrm>
            <a:off x="356760" y="1571400"/>
            <a:ext cx="8572680" cy="45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isorse disponibili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% di aiut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isura 331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 euro 327.400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100 % de minimi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34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isura 114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  euro 447.662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80 % de minimis </a:t>
            </a:r>
            <a:r>
              <a:rPr b="0" lang="it-IT" sz="1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solo per consulenza forestale)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isura 111 – azione b) “informazione”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- Bando 1): euro 100.000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100 %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- Bando 2): euro 300.000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100 %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0" name="Rettangolo 4"/>
          <p:cNvSpPr/>
          <p:nvPr/>
        </p:nvSpPr>
        <p:spPr>
          <a:xfrm>
            <a:off x="40824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1" name="PlaceHolder 1"/>
          <p:cNvSpPr>
            <a:spLocks noGrp="1"/>
          </p:cNvSpPr>
          <p:nvPr>
            <p:ph type="title"/>
          </p:nvPr>
        </p:nvSpPr>
        <p:spPr>
          <a:xfrm>
            <a:off x="590400" y="919080"/>
            <a:ext cx="8229600" cy="8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Procedura (FASI)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02" name=""/>
          <p:cNvSpPr txBox="1"/>
          <p:nvPr/>
        </p:nvSpPr>
        <p:spPr>
          <a:xfrm>
            <a:off x="590400" y="1785960"/>
            <a:ext cx="8229600" cy="430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esentazione domanda di aiu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struttoria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pprovazione e negoziazion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oncession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ttuazione proget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3" name="Freccia in giù 3"/>
          <p:cNvSpPr/>
          <p:nvPr/>
        </p:nvSpPr>
        <p:spPr>
          <a:xfrm>
            <a:off x="4500720" y="2214720"/>
            <a:ext cx="500040" cy="500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Freccia in giù 5"/>
          <p:cNvSpPr/>
          <p:nvPr/>
        </p:nvSpPr>
        <p:spPr>
          <a:xfrm>
            <a:off x="4500720" y="3071880"/>
            <a:ext cx="500040" cy="500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Freccia in giù 6"/>
          <p:cNvSpPr/>
          <p:nvPr/>
        </p:nvSpPr>
        <p:spPr>
          <a:xfrm>
            <a:off x="4500720" y="4000680"/>
            <a:ext cx="500040" cy="500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Freccia in giù 7"/>
          <p:cNvSpPr/>
          <p:nvPr/>
        </p:nvSpPr>
        <p:spPr>
          <a:xfrm>
            <a:off x="4500720" y="4857840"/>
            <a:ext cx="500040" cy="500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Rettangolo 8"/>
          <p:cNvSpPr/>
          <p:nvPr/>
        </p:nvSpPr>
        <p:spPr>
          <a:xfrm>
            <a:off x="33696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PlaceHolder 1"/>
          <p:cNvSpPr>
            <a:spLocks noGrp="1"/>
          </p:cNvSpPr>
          <p:nvPr>
            <p:ph type="title"/>
          </p:nvPr>
        </p:nvSpPr>
        <p:spPr>
          <a:xfrm>
            <a:off x="213840" y="1143000"/>
            <a:ext cx="864252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Presentazione Domande di Aiuto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09" name=""/>
          <p:cNvSpPr txBox="1"/>
          <p:nvPr/>
        </p:nvSpPr>
        <p:spPr>
          <a:xfrm>
            <a:off x="357120" y="2071800"/>
            <a:ext cx="8462880" cy="36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isorse disponibili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cadenza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isura 331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  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band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graduatoria)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31 luglio 2013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isura 114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  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sportell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“cassetti”)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31 luglio 2013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isura 111 – azione b) “informazione”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- Bando n. 1: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sportell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30 luglio 2013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- Bando n. 2: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band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graduatoria)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20 settembre 2013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333333"/>
                </a:solidFill>
                <a:uFillTx/>
                <a:latin typeface="Arial"/>
              </a:rPr>
              <a:t>IMPORTANTE</a:t>
            </a:r>
            <a:r>
              <a:rPr b="0" lang="it-IT" sz="1800" spc="-1" strike="noStrike">
                <a:solidFill>
                  <a:srgbClr val="333333"/>
                </a:solidFill>
                <a:latin typeface="Arial"/>
              </a:rPr>
              <a:t>: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33"/>
                </a:solidFill>
                <a:latin typeface="Arial"/>
              </a:rPr>
              <a:t>entro le ore 12:00 della data di scadenza, indipendentemente dalle modalità di inoltr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0" name="CasellaDiTesto 5"/>
          <p:cNvSpPr/>
          <p:nvPr/>
        </p:nvSpPr>
        <p:spPr>
          <a:xfrm>
            <a:off x="166680" y="6510240"/>
            <a:ext cx="34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1" name="PlaceHolder 1"/>
          <p:cNvSpPr>
            <a:spLocks noGrp="1"/>
          </p:cNvSpPr>
          <p:nvPr>
            <p:ph type="title"/>
          </p:nvPr>
        </p:nvSpPr>
        <p:spPr>
          <a:xfrm>
            <a:off x="714240" y="1071720"/>
            <a:ext cx="8229600" cy="78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Presentazione Domande di Aiuto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12" name=""/>
          <p:cNvSpPr txBox="1"/>
          <p:nvPr/>
        </p:nvSpPr>
        <p:spPr>
          <a:xfrm>
            <a:off x="142920" y="2287080"/>
            <a:ext cx="8858160" cy="380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 u="sng">
                <a:solidFill>
                  <a:srgbClr val="ff0000"/>
                </a:solidFill>
                <a:uFillTx/>
                <a:latin typeface="Arial"/>
              </a:rPr>
              <a:t>presenza</a:t>
            </a:r>
            <a:r>
              <a:rPr b="0" lang="it-IT" sz="2200" spc="-1" strike="noStrike">
                <a:solidFill>
                  <a:srgbClr val="333333"/>
                </a:solidFill>
                <a:latin typeface="Arial"/>
              </a:rPr>
              <a:t> della documentazione prevista dal Bando</a:t>
            </a:r>
            <a:r>
              <a:rPr b="0" lang="it-IT" sz="2000" spc="-1" strike="noStrike">
                <a:solidFill>
                  <a:srgbClr val="333333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0000"/>
                </a:solidFill>
                <a:latin typeface="Arial"/>
              </a:rPr>
              <a:t>documenti essenziali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3333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Arial"/>
              </a:rPr>
              <a:t>altri documenti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 u="sng">
                <a:solidFill>
                  <a:srgbClr val="ff0000"/>
                </a:solidFill>
                <a:uFillTx/>
                <a:latin typeface="Arial"/>
              </a:rPr>
              <a:t>firma</a:t>
            </a:r>
            <a:r>
              <a:rPr b="0" lang="it-IT" sz="2200" spc="-1" strike="noStrike">
                <a:solidFill>
                  <a:srgbClr val="333333"/>
                </a:solidFill>
                <a:latin typeface="Arial"/>
              </a:rPr>
              <a:t> del legale rappresentante e coordinatore tecnico </a:t>
            </a:r>
            <a:r>
              <a:rPr b="0" lang="it-IT" sz="1600" spc="-1" strike="noStrike">
                <a:solidFill>
                  <a:srgbClr val="333333"/>
                </a:solidFill>
                <a:latin typeface="Arial"/>
              </a:rPr>
              <a:t>(ove previsto)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333333"/>
                </a:solidFill>
                <a:latin typeface="Arial"/>
              </a:rPr>
              <a:t>compilazione e </a:t>
            </a:r>
            <a:r>
              <a:rPr b="1" lang="it-IT" sz="2200" spc="-1" strike="noStrike" u="sng">
                <a:solidFill>
                  <a:srgbClr val="ff0000"/>
                </a:solidFill>
                <a:uFillTx/>
                <a:latin typeface="Arial"/>
              </a:rPr>
              <a:t>rilascio</a:t>
            </a:r>
            <a:r>
              <a:rPr b="0" lang="it-IT" sz="2200" spc="-1" strike="noStrike">
                <a:solidFill>
                  <a:srgbClr val="333333"/>
                </a:solidFill>
                <a:latin typeface="Arial"/>
              </a:rPr>
              <a:t> sul portale SIAN.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332640" indent="-33264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333333"/>
                </a:solidFill>
                <a:latin typeface="Arial"/>
              </a:rPr>
              <a:t>NON RICEVIBILITA’ DELLA DOMANDA DI AIUT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3" name="Rettangolo 3"/>
          <p:cNvSpPr/>
          <p:nvPr/>
        </p:nvSpPr>
        <p:spPr>
          <a:xfrm>
            <a:off x="40824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Freccia in giù 4"/>
          <p:cNvSpPr/>
          <p:nvPr/>
        </p:nvSpPr>
        <p:spPr>
          <a:xfrm>
            <a:off x="4143240" y="5072040"/>
            <a:ext cx="642960" cy="5716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PlaceHolder 1"/>
          <p:cNvSpPr>
            <a:spLocks noGrp="1"/>
          </p:cNvSpPr>
          <p:nvPr>
            <p:ph type="title"/>
          </p:nvPr>
        </p:nvSpPr>
        <p:spPr>
          <a:xfrm>
            <a:off x="590400" y="1071360"/>
            <a:ext cx="8229600" cy="92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Presentazione Domande di Aiuto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16" name=""/>
          <p:cNvSpPr txBox="1"/>
          <p:nvPr/>
        </p:nvSpPr>
        <p:spPr>
          <a:xfrm>
            <a:off x="142920" y="2071800"/>
            <a:ext cx="8858160" cy="40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ocumenti essenziali</a:t>
            </a:r>
            <a:r>
              <a:rPr b="0" lang="it-IT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omanda di aiuto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modello SIAN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opia della 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arta d’identità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n corso di validità del rappresentante legale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cheda tecnica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anche su supporto informatic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cheda finanziaria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anche su supporto informatic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ltri documenti (in base al Bando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ichiarazione sostitutiva di atto di notorietà, relativa al regime IVA e altri finanziamenti con fondi pubblici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ichiarazione sostitutiva di atto di notorietà, relativa al “de minimis”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urricula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7" name="Rettangolo 4"/>
          <p:cNvSpPr/>
          <p:nvPr/>
        </p:nvSpPr>
        <p:spPr>
          <a:xfrm>
            <a:off x="19404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30T07:38:51Z</dcterms:created>
  <dc:creator>lavagnino</dc:creator>
  <dc:description/>
  <dc:language>en-US</dc:language>
  <cp:lastModifiedBy>Capurro</cp:lastModifiedBy>
  <dcterms:modified xsi:type="dcterms:W3CDTF">2013-07-02T12:33:51Z</dcterms:modified>
  <cp:revision>100</cp:revision>
  <dc:subject/>
  <dc:title>Presentazione standard di PowerPoint</dc:title>
</cp:coreProperties>
</file>