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26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37.xml" ContentType="application/vnd.openxmlformats-officedocument.theme+xml"/>
  <Override PartName="/ppt/theme/theme12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39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431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</p:sldMasterIdLst>
  <p:notesMasterIdLst>
    <p:notesMasterId r:id="rId38"/>
  </p:notesMasterIdLst>
  <p:sldIdLst>
    <p:sldId id="256" r:id="rId39"/>
    <p:sldId id="257" r:id="rId40"/>
    <p:sldId id="258" r:id="rId41"/>
    <p:sldId id="259" r:id="rId42"/>
    <p:sldId id="260" r:id="rId43"/>
    <p:sldId id="261" r:id="rId44"/>
    <p:sldId id="262" r:id="rId45"/>
    <p:sldId id="263" r:id="rId46"/>
    <p:sldId id="264" r:id="rId47"/>
    <p:sldId id="265" r:id="rId48"/>
    <p:sldId id="266" r:id="rId49"/>
    <p:sldId id="267" r:id="rId50"/>
    <p:sldId id="268" r:id="rId51"/>
    <p:sldId id="269" r:id="rId52"/>
    <p:sldId id="270" r:id="rId53"/>
    <p:sldId id="271" r:id="rId54"/>
    <p:sldId id="272" r:id="rId55"/>
    <p:sldId id="273" r:id="rId56"/>
    <p:sldId id="274" r:id="rId57"/>
    <p:sldId id="275" r:id="rId58"/>
    <p:sldId id="276" r:id="rId59"/>
    <p:sldId id="277" r:id="rId6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notesMaster" Target="notesMasters/notesMaster1.xml"/><Relationship Id="rId39" Type="http://schemas.openxmlformats.org/officeDocument/2006/relationships/slide" Target="slides/slide1.xml"/><Relationship Id="rId40" Type="http://schemas.openxmlformats.org/officeDocument/2006/relationships/slide" Target="slides/slide2.xml"/><Relationship Id="rId41" Type="http://schemas.openxmlformats.org/officeDocument/2006/relationships/slide" Target="slides/slide3.xml"/><Relationship Id="rId42" Type="http://schemas.openxmlformats.org/officeDocument/2006/relationships/slide" Target="slides/slide4.xml"/><Relationship Id="rId43" Type="http://schemas.openxmlformats.org/officeDocument/2006/relationships/slide" Target="slides/slide5.xml"/><Relationship Id="rId44" Type="http://schemas.openxmlformats.org/officeDocument/2006/relationships/slide" Target="slides/slide6.xml"/><Relationship Id="rId45" Type="http://schemas.openxmlformats.org/officeDocument/2006/relationships/slide" Target="slides/slide7.xml"/><Relationship Id="rId46" Type="http://schemas.openxmlformats.org/officeDocument/2006/relationships/slide" Target="slides/slide8.xml"/><Relationship Id="rId47" Type="http://schemas.openxmlformats.org/officeDocument/2006/relationships/slide" Target="slides/slide9.xml"/><Relationship Id="rId48" Type="http://schemas.openxmlformats.org/officeDocument/2006/relationships/slide" Target="slides/slide10.xml"/><Relationship Id="rId49" Type="http://schemas.openxmlformats.org/officeDocument/2006/relationships/slide" Target="slides/slide11.xml"/><Relationship Id="rId50" Type="http://schemas.openxmlformats.org/officeDocument/2006/relationships/slide" Target="slides/slide12.xml"/><Relationship Id="rId51" Type="http://schemas.openxmlformats.org/officeDocument/2006/relationships/slide" Target="slides/slide13.xml"/><Relationship Id="rId52" Type="http://schemas.openxmlformats.org/officeDocument/2006/relationships/slide" Target="slides/slide14.xml"/><Relationship Id="rId53" Type="http://schemas.openxmlformats.org/officeDocument/2006/relationships/slide" Target="slides/slide15.xml"/><Relationship Id="rId54" Type="http://schemas.openxmlformats.org/officeDocument/2006/relationships/slide" Target="slides/slide16.xml"/><Relationship Id="rId55" Type="http://schemas.openxmlformats.org/officeDocument/2006/relationships/slide" Target="slides/slide17.xml"/><Relationship Id="rId56" Type="http://schemas.openxmlformats.org/officeDocument/2006/relationships/slide" Target="slides/slide18.xml"/><Relationship Id="rId57" Type="http://schemas.openxmlformats.org/officeDocument/2006/relationships/slide" Target="slides/slide19.xml"/><Relationship Id="rId58" Type="http://schemas.openxmlformats.org/officeDocument/2006/relationships/slide" Target="slides/slide20.xml"/><Relationship Id="rId59" Type="http://schemas.openxmlformats.org/officeDocument/2006/relationships/slide" Target="slides/slide21.xml"/><Relationship Id="rId60" Type="http://schemas.openxmlformats.org/officeDocument/2006/relationships/slide" Target="slides/slide22.xml"/><Relationship Id="rId6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PlaceHolder 2"/>
          <p:cNvSpPr>
            <a:spLocks noGrp="1"/>
          </p:cNvSpPr>
          <p:nvPr>
            <p:ph type="dt" idx="10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8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1" name="PlaceHolder 5"/>
          <p:cNvSpPr>
            <a:spLocks noGrp="1"/>
          </p:cNvSpPr>
          <p:nvPr>
            <p:ph type="ftr" idx="11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PlaceHolder 6"/>
          <p:cNvSpPr>
            <a:spLocks noGrp="1"/>
          </p:cNvSpPr>
          <p:nvPr>
            <p:ph type="sldNum" idx="11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5AE63-FABF-4A3D-B950-70C33C0E6AB2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2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31E3F-886D-4BBD-A233-CA0965F2365F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E77FC-FE3B-4B2F-B10B-4241E7F8B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A746C-7E13-4A83-9BBB-5384DAED6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E20995-0D42-4566-93A6-11D13BFD8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09BA23-D7B7-429E-A53F-181B795D2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3922BB-3F54-4EE8-A329-F7FAC7167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BCA858-1318-4559-8E6F-288928964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4CA2E6-3CE3-4ADC-8224-3D2471EA8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D1FD39-0C74-440D-86D7-CE050919D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D79DEB-63EA-44DD-B28C-127B7DAA3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034E21-58B2-4EEB-91AE-FBC34DF3B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2F2F47-A73B-43C8-8F72-0B93844FF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522776-6DCF-4D8D-815C-DC85E910B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007CF-060B-490C-AB7E-1F3DDF99E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78C0A6-8BEE-49EB-9C8C-464572460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630344-9511-4415-B603-D103F6132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98847E-5C86-4601-B8B4-18261DA42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83AC94-7EF9-4A83-8AB8-8BFC8FAB7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BBBB03-9114-45A4-B119-36B123911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2E10BD-8365-4D55-AC5E-68797D0E3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2DCFF3-313B-4449-88DE-9A8DC5F07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D5A336-DAC1-4C34-ADB6-84A038F92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4FB11D-2CC6-4430-B0A4-05556D02B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58CC4F-6E5A-4EEF-810A-81E9A8D58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F4476-3A1A-4E50-B6E6-8EB54B559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EF1747-53E9-452E-AFDA-FDF4CDA96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965E3A-216F-49D1-A8F2-6910A2181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46B16B-B700-4C39-851E-1D1C35796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C041DF-1ED9-4180-9B37-A9EE2A71C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30E02C-9D9C-47B5-86B4-756F89BEF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FF1256-0EA3-4BAD-8774-C9FB7C059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7CFA4B-FE1A-49CA-B7C1-977F63E4A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DCEC7F-7612-4039-8F2F-CACC5D097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CF1AB7-7100-47F8-A2B7-D29DC6B61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38E3DA-BAE7-4DFF-9C8D-DBE8C37A5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F8619-FFE8-432F-84DA-31D778889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8C121A-3F12-4399-BD38-A0ED09F44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4B3A1E-EAA1-417D-BE60-A9F5ACE61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EE1359-599A-40C5-B5EE-BE68F0E92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B0ABD6-67F8-41F9-8873-277E5271F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819409-4EC9-4E4F-B9FB-42225DA3E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A4D964-213B-4421-AF58-6E8ED66BB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1C9AA0-1326-4AF7-BFBE-53B4B8BA0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4790FF-2FDF-407A-A860-9AB54ED9F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7C69F2-4ADB-4D37-80DD-211033ED8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5F6EA9-9CBD-48D6-BE06-F91647E6B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2AE11-A47A-46E6-A1FE-7F0E9D59E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998769-D6C7-4C0E-A2E0-67A693FC2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053187-CCD6-48E1-B3FD-0DAA00633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FBA2EF-D131-4450-B569-341FFED43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C27D6A-EA31-4EA2-A9C7-855981685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7CB9B1-78EA-46E5-B470-28EB8A316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6A5A8FE-D9D0-4232-8F6C-1A7DEF5BA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A1ACAE5-43B6-49B6-9865-11490F83E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29C3BA1-E82F-4C6A-A152-D0B2E142F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8BACCA8-51C0-4407-9213-00C447C56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422E85F-0F6E-43BB-B521-42AB9EFE0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BC698-AEF7-4CCC-A159-2A41F4143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C8737FA-4E3C-46E3-812F-C4D4038FB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EF27E8D-EBB0-452D-B187-2BC8CA035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621EBE3-B6DA-48ED-A5A5-3D4E2ED4F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EF0004A-B2D7-4451-873C-847198103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F8C35C1-2E73-4D36-8961-092ACE999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22D405E-827A-408F-971B-8EDEF3A4D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072EEC8-5C1B-4E33-86BF-4B1C3978A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68CBCA8-82E2-4C46-8583-07491F80F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3B5E112-6DC4-4EB3-914B-AE02124CA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EAE318E-66D2-4B20-8B3F-144AA1539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0F81E-F175-4E24-AB56-0B086F4F3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726B237-7C1D-4049-9F5C-F073AD29F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3F1C362-A003-452B-9831-776B1153C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055C588-687E-4760-A07A-E3F9C66E8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F267622-F084-4831-87B0-7482AEEB2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EF0A7FD-C15C-4C67-B4BC-77B275055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32E3F4E-BB1D-41A1-9A91-3A6329CB5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E3D26DC-3B60-4A8D-B8D8-73AB9B332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AA833BF-8181-4D5F-8501-539CD3284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1A65D52-0081-4113-976D-9AA48C3E1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D011C9C-9D99-4C8F-8165-5AC6AC91A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C58A4-3F67-466C-B171-057FFE05B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9387132-E147-41B2-B945-F50DC71B4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7CDCAEC-68B2-4E03-85DE-CA62E0B6A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72C384E-2906-48E8-9543-8A933992F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4FEB5CA-FD94-4486-828B-8573301A3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0135B07-E658-429C-994F-A8A80AF0F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A43992F-D1E7-470B-A4A1-F52200D12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E7EF0ED-A896-448D-9A22-C2FFBA0E4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890C3A4-39D0-4DFD-AF33-A64F39FCA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8EA920A-30B2-46AA-B745-1CC0495A5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235CAA0-63E8-4EE7-8A8F-4398310DC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51F40-5384-47BB-93B1-0225B72F5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55BFFE6-516A-4794-A32D-6D7A380E1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A511975-C390-4147-8E83-01BF8BBEF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E0DE4B0-C1FB-4219-9E92-01F48D92C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9D2D6F6-CAE8-4952-B2A5-9A2492F4B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D0ECEB3-C2FA-46C5-82EF-3D744C2ED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12010AA-F36A-4185-9793-4D9A9C12B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9AA92B1-E380-4CC0-92B4-F01991DA9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F89B9FB-BA64-4C9E-879B-82981A83C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5027388-D3E5-4652-A8A7-41997F8B5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14D1471-4447-4E11-BE31-294B3A8AB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C0762-1334-4F8C-9DF1-4D61A70C1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0140793-F7BF-472D-B855-0AC0D212F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234BD71-3068-4A15-9D66-FC0F3D2AD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5B96893-9ED1-41BA-A3A2-8DD908B4B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5A0C258-6520-4C75-BC19-E107FF7BA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7969D79-C0F4-42F0-AEE4-20C0CF56B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F7F01E6-D5F7-49F5-BD28-B7AC0AC59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6C51C76-4EF1-45B4-A661-AD9961398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68BFF3E-A211-4DB4-AF7B-A6DC52356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45BA0A6-5523-4610-ACE2-B7CC772D6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11035D6-E67C-49FD-8E39-84575BD42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45EC3-8A32-4198-9832-D929CB1FF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AF1CA-1A74-4E46-883D-975AE10A6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7BAD272-7E2E-4876-A0F9-447F4E250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AEB3A5C-220D-4B05-879F-1EB5CF168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805854D-19A6-44A6-A7B1-8B994FFC0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12CAC79-60E1-4F6A-983F-DAADE2601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D937C2F-6A4A-4E7C-8DC0-3913D0EE5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11A9EE8-9308-4CBD-8443-3F377970A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94E2921-575A-4707-9C3B-83DFE2232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6FC1BF5-64E9-44F5-8F78-68807059B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D4AFDAD-1BDE-457B-8D0B-6311AF8EC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3802F17-096A-4160-AEB3-5D68C9941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6C7BE-2254-4273-84AF-14F85C82F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6DBF6FB-DC8E-4DDF-BC97-29DDBABA7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3D74D5F-6CDE-484C-94E4-E9820E793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3C4A424-6D6B-4657-99ED-B79A05DA7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83CA196-6412-40F8-A4F6-C9F5E0BA4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DE61E09-E054-4D30-9FC4-B7017FCC3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6B0BCF4-AD5A-4851-AF55-BF9F545A0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079894E-61D1-40DB-9B2F-7E100B34D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BDCD882-B2BE-4876-8E49-7705DCEC5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2131BC3-4691-4EFE-8BBF-B31E629FE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3A3EBDF-7D51-43C5-BC01-5B974CE6D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7F93A-947B-4346-A692-0BC7F7062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E706EA8-306B-4A8E-A9E6-6AB36EA1D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446CED2-E538-4CC7-A2FD-B1BC263AF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A4CE7D6-1145-4950-8E5E-B2990E21F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9172E63-2B25-493A-9CCF-1682CDA75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65886EC-62CB-4ADF-8910-7BC2EAC80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532D461-1E3C-486E-9803-D8F610BB9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C34BE8D-41C4-41B0-A252-943E89EFF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78BBB2C-8FA8-4080-A2B9-82DF1C43B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8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21B9902-F479-49A7-AF50-F3F3553B0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39AA575-AB44-4792-8067-535FBB29B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764A1-9B18-41A8-ADFF-74A4999BA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9649573-282D-4655-A4E8-5FDB29704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7D937FE-6A61-4E86-8454-0259A84A3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82E14FE-D7FC-4E41-B2AC-2348E161F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9B239B8-4E00-4224-A816-ECDB79923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9802865-3A80-496C-AC76-FC3E0458D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DA4D9A1-DB61-4BDA-A389-843D77AD9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9B3FFD3-20C1-472F-9AEC-6F9148B0F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9EED976-CB00-49A3-88B4-664995C32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126DBF1-9CF4-4EA0-BC40-41A188BF0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02BDFBD-2788-437B-BEE0-BBC137EF7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E7855-A321-4023-B44A-16AD0D043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419CC48-14CE-4635-B4E3-27C52C199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9580D32-B7A5-451A-818E-283085F23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2ECE916-F941-44FB-9BE3-0C60FD900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D2E070B-7D06-4E46-8B4D-6ADC5C72E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3D7EDE1-4A39-45D1-95CA-B3496D50A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666D178-A99A-42E1-BDF2-42AE74C6F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E45F099-5422-4D36-BF6E-7C55D23B9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96C0347-1976-4A3D-9BBC-063C1A2ED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9BA26D5-C022-45DA-8AAE-E7358AA5C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13B4B19-80CA-4A25-9BBB-13A736164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05D1DD-9D51-4270-8F1D-9D1737AB5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B754C21-70D9-4AFF-99B8-E07A4BBED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FC8BE74-1E5E-46CD-AF62-A6A6B776D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A37F7FE-D1C7-4F21-847F-3B7CEA106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C3480BE-DF4E-4CB9-88C5-F17D7032A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BBCA254-A759-4690-B314-A0710F3E3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F7B7EED-9E68-4DE5-B8B2-E932405C2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14E3751-9DB6-42E2-A3EB-1E4314078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5969231-2FAC-4E51-832A-C53F8FEB6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0ABAF8E-FF3D-4E4D-8B24-F51B354C3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0924E48-1614-4C4D-B6A7-E0B52D79F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5755FA-AC7B-4A11-88A3-C4B955537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FB008CD-EBF8-4206-B452-B85A81FB3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BE11A36-D5F5-400A-BD60-392B79CDC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AFC914E-30AC-404D-8455-798728B9A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0FD4815-E006-4DC0-AE92-B17521209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3141860-35C3-4DE9-8280-68CEB0A0E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D0AC1A6-3F2E-41EE-8661-E5C6B9FD7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F545A39-5EA5-4480-A45B-E45D4C996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4520727-4335-4CC4-8DA8-8A6821E5D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6B0C1CD-387F-413E-B6E6-DABDCD76A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1793F7E-5B3A-4FF6-B6B4-DFB9B2384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4FF8A1-75A6-4946-B3E7-5794EB7CB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34DB775-4CB2-4F10-A366-9BB6C3B4D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DD883C5-148C-489D-84D9-38AF7CBB2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A006E42-5268-47A4-9A5C-4E9538110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DE698F3-53C5-4A4C-94DF-18DB3F6FF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167A064-A97B-4BF5-97A0-A4DF144A2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0EEE018-005C-4ABC-B2EC-E93A524AB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7F76ACE-D160-4E4D-9FB1-CCDA19E1C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5255512-4192-4CCC-AD12-51BD00214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40F6E95-5FD8-4295-B782-54D88A07E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518107D-FCAF-448B-A43B-F7A51B0FD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FAC89A-4198-4D09-AA51-A5353D1E6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6AA2EBB-C980-45E6-86E6-7699C4EC3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DE31603-6BE7-4441-8DF4-ADB6C0A02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88DA2F4-96CB-43A5-B796-6C90A9D5B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052FC93-E6C7-42F6-B93E-718A08837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4890FF2-1816-4C8B-BB5D-3F7AA654C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F635C62-9D31-4388-8FA3-455DC4418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AC0F823-9451-4CA9-868D-62BFBE20D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1BF62F8-FDA4-4233-84A8-235F33F0D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39F7DF8-53B9-40DB-B39A-D0FF6BA29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37C66BD-F585-425B-AB0C-C34AAF814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93842E-2A70-4AE0-A668-AB2EFBBBC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D82CEE3-C2A9-49A1-99D8-6E81493F7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F8E9DA3-712B-4507-93D1-51D30E505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53DD63B-6C2E-49BF-8460-617F884D1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C8E339B-D230-4C00-9E34-EF470A726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C099E76-E8C5-4F81-8008-9067E7CBA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C834233-561A-49B2-9594-BA7E85678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D2D8830-A97F-4E56-B395-42AF428CA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B33BF45-69F5-4048-89CE-652FF857E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8086DC9-2C1A-4EFC-AD0A-1F04F2FD2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7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14057AF-39D5-4D75-8EDE-5CBA127BE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9C0F1-5F93-4987-9D04-43F183FA4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CB386A-5D1E-4BFE-9B45-7DEC976F2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2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3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4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DFDC73D-821C-41A1-8C58-6EC9B653E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19505EB-FEF7-4F9D-87FB-C9791E5E2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5E4D0A6-79D4-4F12-91D6-ACD50FE00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334F4B0-F190-469E-A55C-96A60B00E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EA31981-3C11-4740-B1B8-51A8D8A48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26677F6-EC04-4731-976F-0580B6F48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27419D5-A422-4990-9FDE-DBBDA5751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3526D76-EA32-4ACB-96E3-BB712CD4E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4B91B18-34EC-4057-9C9A-AB7940494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45E3C00-39A6-4473-8251-688D56900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83484F-D92B-44E9-9B67-4EC56799F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2A22822-4305-4822-A211-FE177CB3F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8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BD06102-02EB-48CB-9313-702CE9A96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3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4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5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AD31340-598A-4457-892E-56C8DF7D9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E69F473-CAF0-47CB-A400-73A5A1A7D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4203A22-31E8-4FB6-B427-8C0395D7A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BF9A151-69AB-4149-BDFB-08B5E114A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7C3FD3E-F6E3-47B3-AE3C-F00A5A146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C55416C-EDDE-4FD9-8080-AD4120238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F3C68A6-0D50-4321-A037-523D30F56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0101901-A0F6-4187-92C4-8A62E558B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FCD3B2-75EB-4F2C-BF95-D51B0FA37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A780271-A39A-43DF-9502-1005E3A96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829027E-8B87-478C-983C-C5B170418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0E1EAF6-4F2A-4E9C-B824-7285CF572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788C968-C418-4846-AED3-3508E8FEC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73F87C5-ECD3-4C95-B4CD-A52129700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03671D8-E26C-43AA-80F4-0ACCA9F58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EE425AF-E9ED-4B42-993D-0B737F8DC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34C2CC8-E0C2-44AE-875E-BB7586398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96BFCFE-8436-4351-863B-8FB2C5F56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FE0F15B-6096-4FCA-8448-DFD4CBA74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B189D9-0B4C-430C-8722-CD5EB3113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6414516-71ED-4B40-A0C7-05CD2DD2D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0D01870-5E17-488F-9D62-37A5A5C9A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8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4D6A434-4F60-438D-BEC8-D9EF070E2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7C92D65-4D02-4EF7-9E0A-065D3E1F5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A6F95C3-E8C8-4124-9064-4EBD3ACE8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0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BD5686B-B30F-4BBA-A889-DB668B24B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3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4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5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6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7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176CC91-3309-4CA6-82E0-B51320F82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7E5510D-3AD6-4CDC-8103-A5DB07FA9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534F5A2-E2DA-4878-9344-46C3EC15D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25DDC19-407E-4E91-BA77-0E8E5AA1C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F1068E-0811-4F66-9E3E-968A5C022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885AC4A-136F-44A7-8B54-F6184424C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7576E0A-44AB-4B0D-9599-612D52520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1808380-5676-49DE-AE62-FF3B0C3FB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A609838-6222-49FD-A9E7-880F118B9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9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FA61E65-66E9-4AE1-98EB-89DF7025E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249C5B2-1DC7-4744-87E5-1BF089799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6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54D6251-C050-48C6-A3CB-E4521E256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1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4A652FA-CFDC-4319-A403-C5B07A458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4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5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6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7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8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548A694-83F8-49F6-806E-9A2FB3B6A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3CC116E-BE82-4FE0-AF67-61DCBE306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833793-B82F-4517-853D-CED55484C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37A4702-C53A-4801-A3D9-7BF1EC3A4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A383A67-AFC1-48AB-B4BF-ADDC8673D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2DF99E2-FFF3-4BA7-BE6A-6971A0E5D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31017CE-CB71-4F6E-9748-2B18B7092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F2CBE6A-A980-4333-96CC-C04D2565F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2E3060E-5E29-4966-92BF-D38F006D5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0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B1A8D0B-EC8E-4BE3-B10D-B6CF8DC6D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2E4C091-AE16-4D3A-90CA-EE5319FD0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D076457-E405-410F-983B-DB6334468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2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6B6AFBE-A089-4B2D-9549-5957991C0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6BCE59-93AD-4EF1-981C-8AE35CEFE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5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6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7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8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9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1C37914-E9E9-4681-969E-C8658CC64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32AE94B-5347-4C20-8BB1-A29E0D9C1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89D15CE-5AC6-441C-A53F-3946F1864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CD3ADF3-1AA2-4B76-9C5F-CE42C633D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4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7C45CBE-497B-4EC0-951C-9244B60A2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A89F837-2E25-4704-B39B-28D18E2EB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51EA03E-81C1-4101-8B6C-38EE826EF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4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4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1AA19C9-0BAF-4947-A853-7AE50C4F3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0D41F67-1A16-4B31-B98D-C87537C4F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5F3367A-55B9-4091-A45F-4C7894B2A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9DD15F-3E73-46D8-858D-1B2ABCB6D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13B0ED0-1F0E-421E-9D0A-A580D7032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251B673-CB18-4F3A-95A2-1B5AA1832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7E01F02-E781-445D-96CF-B5368AE9E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A69F27DA-BD81-4761-A243-2EF4B755F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7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BD9DA5FA-4FFA-40DC-AA43-22E2AA2A3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8BA31DAD-7716-41F3-9CE4-D294ECFAB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8A13399C-2AD8-4308-ACB0-3D453D46D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601C9AC8-1FFE-4F3D-9E5A-EC5C0FE79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E64F11F9-1A0C-4F84-A89E-4E9BAB87F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BC539BAC-C384-4D41-9563-B3E0327E6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4B3696-47F6-4B74-9336-B8D19563A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E0EA995A-C478-48E2-8A76-800EB1A59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C373E3AD-1FD0-465B-94E0-A7CE7244F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5320BFED-C356-405F-9C91-AD7BD2FC5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0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2DCB0D8E-2ED8-441C-82B7-DA6CD5042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0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4286EF44-294D-4321-BFE9-E0893B2A4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FD26438D-5A6B-47E2-AC7E-1165B5EEC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1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CE43F7AA-CDD2-4D51-B2BD-6A7FE3D4F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A287083D-EE22-47B3-83E3-CAC8500F9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2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2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2FA8C210-87B5-4623-B534-A1DA4303B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4E456F7D-ABB4-431D-B03C-25EBB99FE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E230E7-ED7C-4D1B-B9D4-A20E74E71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E2913FC1-D765-4908-AEDA-B739CD173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2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2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15BCCFD3-6AFC-485A-AE21-28A763E13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3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E8F431F5-78C1-4E2B-A87B-B40FA0F7E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DC97F152-FDB8-48AF-ADDE-5246D337D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FEA5D322-B08E-462F-BD2F-F015B548E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4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C1DB2F8F-1B9A-4EBE-85C2-B6732FEB9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5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5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5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FEBC5BCF-B0FB-4114-9B15-CAB3DC393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4C30EC34-B04A-4E9D-BFA1-DE68EDDAB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5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A86EF8AD-5A02-454D-8FE7-1561170C3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3C4C2575-1B96-46AB-AA6A-A32FF55A8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1F7C9-FD43-4017-ACF1-13808B702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77075D-7279-449C-8517-6CF8D82BC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6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FAB3E54D-7803-4DA9-94DA-B67337B4B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4D8188E7-7929-4D74-B2E0-99843A541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AA9AF1A1-91BB-4207-A25B-01B154199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6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7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B5671E50-6799-4FBD-8B4F-D8503CE8D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7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7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7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41AB62BE-6B21-46BC-AA91-FAB20E495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7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7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B43ECDFD-E622-4926-8E99-7A8F809FD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8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49F0D79F-1236-4C40-B456-3918018A2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8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4894533C-F9E0-4261-9FC4-C99B27938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8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C84E1D38-3AAA-48DE-B905-2FC811DF0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C490E402-F4D4-42DA-BF94-CA814D86D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0DDD3F-2EC6-4DFD-8FF9-8D07A877C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E48AC91F-4289-4CED-9230-38DE735FA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3E117A5F-6253-4E79-AAD1-9E76B146B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0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27F2B990-D9FF-4B8A-89D9-EF06A3DA9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5F132ECE-F362-4BF9-ABED-FB5E08969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E2D767DF-D8DF-4B17-ACEF-69A1CD139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F0F64BA4-A95A-4A9F-B4E6-1A2EF06D3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1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5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A41AB2A5-3BFC-4991-9CB6-5265286FD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2688EAAE-4440-4E54-9926-C45E7CE85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2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5B1BCC56-588D-4113-B9E3-4BD1FA7C0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2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7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FC7542C4-CAC6-4E44-9904-7F3F07F5E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6955EC-8194-48F5-B74D-49D3C3873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2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0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1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2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3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4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63C2A465-EA82-4C89-8AB8-6C00C187C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CDE071C0-1D33-4BE0-80D4-244B01958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41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A5301233-A903-4922-9385-788006350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AB9BEE94-9F7B-4B2F-9E2B-691F3DBE4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4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ACF4B9E3-C3D4-4A58-9377-63CFF6F43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7E40CE34-DE97-4C3B-AC62-3AE92C99D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3E12051F-347C-4FE8-A68D-3F73A7C15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56F9FDF3-8E4E-464C-AB9F-565396DF5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5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6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65740515-7271-4F87-9D95-3A4620946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452AFF8A-56E6-4886-9A47-89E7CC9A9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BF22DE-1A45-4340-ACAA-ECDB83E4F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6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3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ED7174F3-8F86-477F-B418-1DF7694A0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6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8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94997CA2-80C5-4B02-A472-2E0654B85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7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1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2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3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4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5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12D91FF4-C900-46C0-A315-BF02B5304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DA9BDD-813A-4032-B0B3-FF872B08F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A1B27C-6C2E-4802-A1F6-67C399F12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277F54-63AB-4B1E-8E9B-54BC883F8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22D08C-1CBC-4E04-ABEE-5B6398037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F6371A-21A0-44BF-9BFE-EA615517D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AC2A31-5F80-4A45-A2A6-547275E35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80314-EE34-4E41-AD60-50A26D603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F55FBC-7BDA-46C1-B2ED-A523E390D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289CF8-90B4-43F4-B62F-A83E7C76E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4EC8A8-E0C8-40B6-9A4D-051720516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DC9781-EAAA-4700-B5DE-13F704A1C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B02E14-B6A0-41D8-8E99-3C3FC2FFE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1CC1D9-1819-4A4D-8450-343DB1B82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765BA7-6DC5-4B60-86EB-C829166E3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6A9E51-171D-4358-9117-0F75BA7D2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6E5D3E-C791-41EB-B137-D1FC3F3B0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81F8D3-A95B-4FAA-8F18-05800CCD6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D19D4-DF82-4122-BFE6-6B7A4FE92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7E3287-665B-4B11-BB50-189D8C03B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A0AA10-CE9E-4BCA-AA6F-F7FD3DC8B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CFFD18-D0A6-4D58-8378-A6C025D13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7D684A-A032-418D-923D-B2439C406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24ABAD-9416-47C0-A917-CBBF91010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B9A4ED-D7F6-43A2-978A-C4269781D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171D09-8CEA-4B58-A6F8-5AC47DD9D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33AA9E-1F7C-4566-BF08-59B09AE2F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596220-90CC-4D45-9D8A-C99E29159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C50EF1-085F-4837-BB87-D94186F5C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0F9A6-E6F2-4E1A-B63C-4B425F18D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2B7A4D-11D1-4DE9-920B-10F21A23E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D01B42-E4DC-4258-8A6A-9A9B2D9DE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E7A54B-CBF1-4301-ADB4-68D15708A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4253F7-EB7D-41D9-8356-0319819BB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F78C7E-8B1C-44F4-A3B2-02B82CF52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4E0BD6-5D10-4077-9137-A6867E2FD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D382B6-008A-44E7-A050-0B7B0955C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486B96-7E2D-43CB-93AE-8079879F1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3CF0A6-5CD0-47A1-98D2-080D99CFC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756664-8A27-4AEB-BE6B-2CE37687C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A2CB5-F1A0-4571-970B-DF714DF5F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A274DB-6765-4B65-899B-F0D30037A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D70294-4D02-4B50-BF7B-84C2EC61C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547D39-E30C-4EA0-AF01-1FDFC10A8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152F26-2A0E-4D57-906D-2E389EAF5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F37A65-E53F-4C11-BC68-401B3CE36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9CDC8D-160A-4D12-90E3-C549B02B3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688252-A5B4-41E6-AE8A-D9FC411F0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83F36C-5B1A-485F-A675-BAB2D3930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F8F621-E22A-48CA-A445-03B083218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726630-DCAB-41E6-8CCA-F0EC88EB3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14AE8-94AF-4C58-9EAB-E604FCEDC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D7149C-1324-4031-B75A-0399BF526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C4BCEB-9BB5-43EE-9A8C-0C9C928C3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7823C8-2972-4047-9989-2C6C204B0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8F412F-245F-44FA-AD15-4E9D124CA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9DF274-8A89-402E-B1F4-47876023A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BDE23F-90B5-442E-8174-3AB646FF1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6CCCFD-9879-4E96-962F-CE98A4E6C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E39FF2-6BD6-4991-84AD-3FA2D0D7C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CAF614-AA06-4A32-977F-580CB1715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5B4557-1870-49C3-9DD9-978215357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13.xml"/><Relationship Id="rId4" Type="http://schemas.openxmlformats.org/officeDocument/2006/relationships/slideLayout" Target="../slideLayouts/slideLayout314.xml"/><Relationship Id="rId5" Type="http://schemas.openxmlformats.org/officeDocument/2006/relationships/slideLayout" Target="../slideLayouts/slideLayout315.xml"/><Relationship Id="rId6" Type="http://schemas.openxmlformats.org/officeDocument/2006/relationships/slideLayout" Target="../slideLayouts/slideLayout316.xml"/><Relationship Id="rId7" Type="http://schemas.openxmlformats.org/officeDocument/2006/relationships/slideLayout" Target="../slideLayouts/slideLayout317.xml"/><Relationship Id="rId8" Type="http://schemas.openxmlformats.org/officeDocument/2006/relationships/slideLayout" Target="../slideLayouts/slideLayout318.xml"/><Relationship Id="rId9" Type="http://schemas.openxmlformats.org/officeDocument/2006/relationships/slideLayout" Target="../slideLayouts/slideLayout319.xml"/><Relationship Id="rId10" Type="http://schemas.openxmlformats.org/officeDocument/2006/relationships/slideLayout" Target="../slideLayouts/slideLayout320.xml"/><Relationship Id="rId11" Type="http://schemas.openxmlformats.org/officeDocument/2006/relationships/slideLayout" Target="../slideLayouts/slideLayout321.xml"/><Relationship Id="rId12" Type="http://schemas.openxmlformats.org/officeDocument/2006/relationships/slideLayout" Target="../slideLayouts/slideLayout322.xml"/><Relationship Id="rId13" Type="http://schemas.openxmlformats.org/officeDocument/2006/relationships/slideLayout" Target="../slideLayouts/slideLayout323.xml"/><Relationship Id="rId14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37.xml"/><Relationship Id="rId4" Type="http://schemas.openxmlformats.org/officeDocument/2006/relationships/slideLayout" Target="../slideLayouts/slideLayout338.xml"/><Relationship Id="rId5" Type="http://schemas.openxmlformats.org/officeDocument/2006/relationships/slideLayout" Target="../slideLayouts/slideLayout339.xml"/><Relationship Id="rId6" Type="http://schemas.openxmlformats.org/officeDocument/2006/relationships/slideLayout" Target="../slideLayouts/slideLayout340.xml"/><Relationship Id="rId7" Type="http://schemas.openxmlformats.org/officeDocument/2006/relationships/slideLayout" Target="../slideLayouts/slideLayout341.xml"/><Relationship Id="rId8" Type="http://schemas.openxmlformats.org/officeDocument/2006/relationships/slideLayout" Target="../slideLayouts/slideLayout342.xml"/><Relationship Id="rId9" Type="http://schemas.openxmlformats.org/officeDocument/2006/relationships/slideLayout" Target="../slideLayouts/slideLayout343.xml"/><Relationship Id="rId10" Type="http://schemas.openxmlformats.org/officeDocument/2006/relationships/slideLayout" Target="../slideLayouts/slideLayout344.xml"/><Relationship Id="rId11" Type="http://schemas.openxmlformats.org/officeDocument/2006/relationships/slideLayout" Target="../slideLayouts/slideLayout345.xml"/><Relationship Id="rId12" Type="http://schemas.openxmlformats.org/officeDocument/2006/relationships/slideLayout" Target="../slideLayouts/slideLayout346.xml"/><Relationship Id="rId13" Type="http://schemas.openxmlformats.org/officeDocument/2006/relationships/slideLayout" Target="../slideLayouts/slideLayout347.xml"/><Relationship Id="rId14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49.xml"/><Relationship Id="rId4" Type="http://schemas.openxmlformats.org/officeDocument/2006/relationships/slideLayout" Target="../slideLayouts/slideLayout350.xml"/><Relationship Id="rId5" Type="http://schemas.openxmlformats.org/officeDocument/2006/relationships/slideLayout" Target="../slideLayouts/slideLayout351.xml"/><Relationship Id="rId6" Type="http://schemas.openxmlformats.org/officeDocument/2006/relationships/slideLayout" Target="../slideLayouts/slideLayout352.xml"/><Relationship Id="rId7" Type="http://schemas.openxmlformats.org/officeDocument/2006/relationships/slideLayout" Target="../slideLayouts/slideLayout353.xml"/><Relationship Id="rId8" Type="http://schemas.openxmlformats.org/officeDocument/2006/relationships/slideLayout" Target="../slideLayouts/slideLayout354.xml"/><Relationship Id="rId9" Type="http://schemas.openxmlformats.org/officeDocument/2006/relationships/slideLayout" Target="../slideLayouts/slideLayout355.xml"/><Relationship Id="rId10" Type="http://schemas.openxmlformats.org/officeDocument/2006/relationships/slideLayout" Target="../slideLayouts/slideLayout356.xml"/><Relationship Id="rId11" Type="http://schemas.openxmlformats.org/officeDocument/2006/relationships/slideLayout" Target="../slideLayouts/slideLayout357.xml"/><Relationship Id="rId12" Type="http://schemas.openxmlformats.org/officeDocument/2006/relationships/slideLayout" Target="../slideLayouts/slideLayout358.xml"/><Relationship Id="rId13" Type="http://schemas.openxmlformats.org/officeDocument/2006/relationships/slideLayout" Target="../slideLayouts/slideLayout359.xml"/><Relationship Id="rId14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61.xml"/><Relationship Id="rId4" Type="http://schemas.openxmlformats.org/officeDocument/2006/relationships/slideLayout" Target="../slideLayouts/slideLayout362.xml"/><Relationship Id="rId5" Type="http://schemas.openxmlformats.org/officeDocument/2006/relationships/slideLayout" Target="../slideLayouts/slideLayout363.xml"/><Relationship Id="rId6" Type="http://schemas.openxmlformats.org/officeDocument/2006/relationships/slideLayout" Target="../slideLayouts/slideLayout364.xml"/><Relationship Id="rId7" Type="http://schemas.openxmlformats.org/officeDocument/2006/relationships/slideLayout" Target="../slideLayouts/slideLayout365.xml"/><Relationship Id="rId8" Type="http://schemas.openxmlformats.org/officeDocument/2006/relationships/slideLayout" Target="../slideLayouts/slideLayout366.xml"/><Relationship Id="rId9" Type="http://schemas.openxmlformats.org/officeDocument/2006/relationships/slideLayout" Target="../slideLayouts/slideLayout367.xml"/><Relationship Id="rId10" Type="http://schemas.openxmlformats.org/officeDocument/2006/relationships/slideLayout" Target="../slideLayouts/slideLayout368.xml"/><Relationship Id="rId11" Type="http://schemas.openxmlformats.org/officeDocument/2006/relationships/slideLayout" Target="../slideLayouts/slideLayout369.xml"/><Relationship Id="rId12" Type="http://schemas.openxmlformats.org/officeDocument/2006/relationships/slideLayout" Target="../slideLayouts/slideLayout370.xml"/><Relationship Id="rId13" Type="http://schemas.openxmlformats.org/officeDocument/2006/relationships/slideLayout" Target="../slideLayouts/slideLayout371.xml"/><Relationship Id="rId14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3.xml"/><Relationship Id="rId4" Type="http://schemas.openxmlformats.org/officeDocument/2006/relationships/slideLayout" Target="../slideLayouts/slideLayout374.xml"/><Relationship Id="rId5" Type="http://schemas.openxmlformats.org/officeDocument/2006/relationships/slideLayout" Target="../slideLayouts/slideLayout375.xml"/><Relationship Id="rId6" Type="http://schemas.openxmlformats.org/officeDocument/2006/relationships/slideLayout" Target="../slideLayouts/slideLayout376.xml"/><Relationship Id="rId7" Type="http://schemas.openxmlformats.org/officeDocument/2006/relationships/slideLayout" Target="../slideLayouts/slideLayout377.xml"/><Relationship Id="rId8" Type="http://schemas.openxmlformats.org/officeDocument/2006/relationships/slideLayout" Target="../slideLayouts/slideLayout378.xml"/><Relationship Id="rId9" Type="http://schemas.openxmlformats.org/officeDocument/2006/relationships/slideLayout" Target="../slideLayouts/slideLayout379.xml"/><Relationship Id="rId10" Type="http://schemas.openxmlformats.org/officeDocument/2006/relationships/slideLayout" Target="../slideLayouts/slideLayout380.xml"/><Relationship Id="rId11" Type="http://schemas.openxmlformats.org/officeDocument/2006/relationships/slideLayout" Target="../slideLayouts/slideLayout381.xml"/><Relationship Id="rId12" Type="http://schemas.openxmlformats.org/officeDocument/2006/relationships/slideLayout" Target="../slideLayouts/slideLayout382.xml"/><Relationship Id="rId13" Type="http://schemas.openxmlformats.org/officeDocument/2006/relationships/slideLayout" Target="../slideLayouts/slideLayout383.xml"/><Relationship Id="rId14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85.xml"/><Relationship Id="rId4" Type="http://schemas.openxmlformats.org/officeDocument/2006/relationships/slideLayout" Target="../slideLayouts/slideLayout386.xml"/><Relationship Id="rId5" Type="http://schemas.openxmlformats.org/officeDocument/2006/relationships/slideLayout" Target="../slideLayouts/slideLayout387.xml"/><Relationship Id="rId6" Type="http://schemas.openxmlformats.org/officeDocument/2006/relationships/slideLayout" Target="../slideLayouts/slideLayout388.xml"/><Relationship Id="rId7" Type="http://schemas.openxmlformats.org/officeDocument/2006/relationships/slideLayout" Target="../slideLayouts/slideLayout389.xml"/><Relationship Id="rId8" Type="http://schemas.openxmlformats.org/officeDocument/2006/relationships/slideLayout" Target="../slideLayouts/slideLayout390.xml"/><Relationship Id="rId9" Type="http://schemas.openxmlformats.org/officeDocument/2006/relationships/slideLayout" Target="../slideLayouts/slideLayout391.xml"/><Relationship Id="rId10" Type="http://schemas.openxmlformats.org/officeDocument/2006/relationships/slideLayout" Target="../slideLayouts/slideLayout392.xml"/><Relationship Id="rId11" Type="http://schemas.openxmlformats.org/officeDocument/2006/relationships/slideLayout" Target="../slideLayouts/slideLayout393.xml"/><Relationship Id="rId12" Type="http://schemas.openxmlformats.org/officeDocument/2006/relationships/slideLayout" Target="../slideLayouts/slideLayout394.xml"/><Relationship Id="rId13" Type="http://schemas.openxmlformats.org/officeDocument/2006/relationships/slideLayout" Target="../slideLayouts/slideLayout395.xml"/><Relationship Id="rId14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97.xml"/><Relationship Id="rId4" Type="http://schemas.openxmlformats.org/officeDocument/2006/relationships/slideLayout" Target="../slideLayouts/slideLayout398.xml"/><Relationship Id="rId5" Type="http://schemas.openxmlformats.org/officeDocument/2006/relationships/slideLayout" Target="../slideLayouts/slideLayout399.xml"/><Relationship Id="rId6" Type="http://schemas.openxmlformats.org/officeDocument/2006/relationships/slideLayout" Target="../slideLayouts/slideLayout400.xml"/><Relationship Id="rId7" Type="http://schemas.openxmlformats.org/officeDocument/2006/relationships/slideLayout" Target="../slideLayouts/slideLayout401.xml"/><Relationship Id="rId8" Type="http://schemas.openxmlformats.org/officeDocument/2006/relationships/slideLayout" Target="../slideLayouts/slideLayout402.xml"/><Relationship Id="rId9" Type="http://schemas.openxmlformats.org/officeDocument/2006/relationships/slideLayout" Target="../slideLayouts/slideLayout403.xml"/><Relationship Id="rId10" Type="http://schemas.openxmlformats.org/officeDocument/2006/relationships/slideLayout" Target="../slideLayouts/slideLayout404.xml"/><Relationship Id="rId11" Type="http://schemas.openxmlformats.org/officeDocument/2006/relationships/slideLayout" Target="../slideLayouts/slideLayout405.xml"/><Relationship Id="rId12" Type="http://schemas.openxmlformats.org/officeDocument/2006/relationships/slideLayout" Target="../slideLayouts/slideLayout406.xml"/><Relationship Id="rId13" Type="http://schemas.openxmlformats.org/officeDocument/2006/relationships/slideLayout" Target="../slideLayouts/slideLayout407.xml"/><Relationship Id="rId14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09.xml"/><Relationship Id="rId4" Type="http://schemas.openxmlformats.org/officeDocument/2006/relationships/slideLayout" Target="../slideLayouts/slideLayout410.xml"/><Relationship Id="rId5" Type="http://schemas.openxmlformats.org/officeDocument/2006/relationships/slideLayout" Target="../slideLayouts/slideLayout411.xml"/><Relationship Id="rId6" Type="http://schemas.openxmlformats.org/officeDocument/2006/relationships/slideLayout" Target="../slideLayouts/slideLayout412.xml"/><Relationship Id="rId7" Type="http://schemas.openxmlformats.org/officeDocument/2006/relationships/slideLayout" Target="../slideLayouts/slideLayout413.xml"/><Relationship Id="rId8" Type="http://schemas.openxmlformats.org/officeDocument/2006/relationships/slideLayout" Target="../slideLayouts/slideLayout414.xml"/><Relationship Id="rId9" Type="http://schemas.openxmlformats.org/officeDocument/2006/relationships/slideLayout" Target="../slideLayouts/slideLayout415.xml"/><Relationship Id="rId10" Type="http://schemas.openxmlformats.org/officeDocument/2006/relationships/slideLayout" Target="../slideLayouts/slideLayout416.xml"/><Relationship Id="rId11" Type="http://schemas.openxmlformats.org/officeDocument/2006/relationships/slideLayout" Target="../slideLayouts/slideLayout417.xml"/><Relationship Id="rId12" Type="http://schemas.openxmlformats.org/officeDocument/2006/relationships/slideLayout" Target="../slideLayouts/slideLayout418.xml"/><Relationship Id="rId13" Type="http://schemas.openxmlformats.org/officeDocument/2006/relationships/slideLayout" Target="../slideLayouts/slideLayout419.xml"/><Relationship Id="rId14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21.xml"/><Relationship Id="rId4" Type="http://schemas.openxmlformats.org/officeDocument/2006/relationships/slideLayout" Target="../slideLayouts/slideLayout422.xml"/><Relationship Id="rId5" Type="http://schemas.openxmlformats.org/officeDocument/2006/relationships/slideLayout" Target="../slideLayouts/slideLayout423.xml"/><Relationship Id="rId6" Type="http://schemas.openxmlformats.org/officeDocument/2006/relationships/slideLayout" Target="../slideLayouts/slideLayout424.xml"/><Relationship Id="rId7" Type="http://schemas.openxmlformats.org/officeDocument/2006/relationships/slideLayout" Target="../slideLayouts/slideLayout425.xml"/><Relationship Id="rId8" Type="http://schemas.openxmlformats.org/officeDocument/2006/relationships/slideLayout" Target="../slideLayouts/slideLayout426.xml"/><Relationship Id="rId9" Type="http://schemas.openxmlformats.org/officeDocument/2006/relationships/slideLayout" Target="../slideLayouts/slideLayout427.xml"/><Relationship Id="rId10" Type="http://schemas.openxmlformats.org/officeDocument/2006/relationships/slideLayout" Target="../slideLayouts/slideLayout428.xml"/><Relationship Id="rId11" Type="http://schemas.openxmlformats.org/officeDocument/2006/relationships/slideLayout" Target="../slideLayouts/slideLayout429.xml"/><Relationship Id="rId12" Type="http://schemas.openxmlformats.org/officeDocument/2006/relationships/slideLayout" Target="../slideLayouts/slideLayout430.xml"/><Relationship Id="rId13" Type="http://schemas.openxmlformats.org/officeDocument/2006/relationships/slideLayout" Target="../slideLayouts/slideLayout431.xml"/><Relationship Id="rId14" Type="http://schemas.openxmlformats.org/officeDocument/2006/relationships/slideLayout" Target="../slideLayouts/slideLayout432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22FEF-A11E-430B-BCC8-C0D2E9977115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4C1C0-5CD2-47BB-A262-1023A0D98CB3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2E51F-28F7-48D4-B8D9-C86ED1C884F4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69BBE-A772-409C-AD73-897DCDF0A4FD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1F22D-B364-4AA0-AB5D-5F8C294E41F2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A8340-109F-42F9-A81B-BA5A2023E07C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C356C-82C1-447A-A159-5189D57633D3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4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14CBD-C2E2-4749-AE60-300AE23BD545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5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72190-61AB-4F95-9698-3846DE04F66E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dt" idx="5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ftr" idx="5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CDC84-5268-493E-AC0E-9EF3FC48B790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 type="dt" idx="5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 type="ftr" idx="5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8E7E5-96EF-4E78-B39D-0F9DB8D24D8C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7EA96-6921-428B-BC68-4DB8C081F3EC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 type="dt" idx="5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 type="ftr" idx="5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78556-576B-47E2-A129-CCAA3A2B1052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 type="dt" idx="6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 type="ftr" idx="6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D7EE4-F86D-4422-871A-470B883B0033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 type="dt" idx="6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 type="ftr" idx="6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 type="sldNum" idx="6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52707-79C6-458B-A73B-D4F333CB427A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 type="dt" idx="6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 type="ftr" idx="6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 type="sldNum" idx="6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77296-B716-4C01-BADD-37C8F7EE931D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 type="dt" idx="7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 type="ftr" idx="7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 type="sldNum" idx="7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4A175-C43E-4580-920C-D9BD12DE63C0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 type="dt" idx="7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 type="ftr" idx="7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5"/>
          <p:cNvSpPr>
            <a:spLocks noGrp="1"/>
          </p:cNvSpPr>
          <p:nvPr>
            <p:ph type="sldNum" idx="7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4BA6F-769F-4CBF-A866-D1E096EECD73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dt" idx="7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PlaceHolder 4"/>
          <p:cNvSpPr>
            <a:spLocks noGrp="1"/>
          </p:cNvSpPr>
          <p:nvPr>
            <p:ph type="ftr" idx="7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PlaceHolder 5"/>
          <p:cNvSpPr>
            <a:spLocks noGrp="1"/>
          </p:cNvSpPr>
          <p:nvPr>
            <p:ph type="sldNum" idx="7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EC204-EA93-4CCB-8F08-F4E7B8029F95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 type="dt" idx="7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 type="ftr" idx="8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 type="sldNum" idx="8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B6D63-6B60-4536-8749-C1B7A9E07E73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3"/>
    <p:sldLayoutId id="2147483988" r:id="rId4"/>
    <p:sldLayoutId id="2147483989" r:id="rId5"/>
    <p:sldLayoutId id="2147483990" r:id="rId6"/>
    <p:sldLayoutId id="2147483991" r:id="rId7"/>
    <p:sldLayoutId id="2147483992" r:id="rId8"/>
    <p:sldLayoutId id="2147483993" r:id="rId9"/>
    <p:sldLayoutId id="2147483994" r:id="rId10"/>
    <p:sldLayoutId id="2147483995" r:id="rId11"/>
    <p:sldLayoutId id="2147483996" r:id="rId12"/>
    <p:sldLayoutId id="2147483997" r:id="rId13"/>
    <p:sldLayoutId id="2147483998" r:id="rId14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dt" idx="8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ftr" idx="8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sldNum" idx="8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E18EF-180D-4F29-A055-B3FB7A959BA8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 type="dt" idx="8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PlaceHolder 4"/>
          <p:cNvSpPr>
            <a:spLocks noGrp="1"/>
          </p:cNvSpPr>
          <p:nvPr>
            <p:ph type="ftr" idx="8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5"/>
          <p:cNvSpPr>
            <a:spLocks noGrp="1"/>
          </p:cNvSpPr>
          <p:nvPr>
            <p:ph type="sldNum" idx="8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E5AF3-32F8-419F-AEF3-76DA0C21CE25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3"/>
    <p:sldLayoutId id="2147484014" r:id="rId4"/>
    <p:sldLayoutId id="2147484015" r:id="rId5"/>
    <p:sldLayoutId id="2147484016" r:id="rId6"/>
    <p:sldLayoutId id="2147484017" r:id="rId7"/>
    <p:sldLayoutId id="2147484018" r:id="rId8"/>
    <p:sldLayoutId id="2147484019" r:id="rId9"/>
    <p:sldLayoutId id="2147484020" r:id="rId10"/>
    <p:sldLayoutId id="2147484021" r:id="rId11"/>
    <p:sldLayoutId id="2147484022" r:id="rId12"/>
    <p:sldLayoutId id="2147484023" r:id="rId13"/>
    <p:sldLayoutId id="2147484024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0B8A1-D02B-46BF-A0D4-545DFBD52463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1" name="PlaceHolder 3"/>
          <p:cNvSpPr>
            <a:spLocks noGrp="1"/>
          </p:cNvSpPr>
          <p:nvPr>
            <p:ph type="dt" idx="8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PlaceHolder 4"/>
          <p:cNvSpPr>
            <a:spLocks noGrp="1"/>
          </p:cNvSpPr>
          <p:nvPr>
            <p:ph type="ftr" idx="8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PlaceHolder 5"/>
          <p:cNvSpPr>
            <a:spLocks noGrp="1"/>
          </p:cNvSpPr>
          <p:nvPr>
            <p:ph type="sldNum" idx="9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9073C-A00B-4731-9375-E54FFF09E5C6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3"/>
    <p:sldLayoutId id="2147484027" r:id="rId4"/>
    <p:sldLayoutId id="2147484028" r:id="rId5"/>
    <p:sldLayoutId id="2147484029" r:id="rId6"/>
    <p:sldLayoutId id="2147484030" r:id="rId7"/>
    <p:sldLayoutId id="2147484031" r:id="rId8"/>
    <p:sldLayoutId id="2147484032" r:id="rId9"/>
    <p:sldLayoutId id="2147484033" r:id="rId10"/>
    <p:sldLayoutId id="2147484034" r:id="rId11"/>
    <p:sldLayoutId id="2147484035" r:id="rId12"/>
    <p:sldLayoutId id="2147484036" r:id="rId13"/>
    <p:sldLayoutId id="2147484037" r:id="rId14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32" name="PlaceHolder 3"/>
          <p:cNvSpPr>
            <a:spLocks noGrp="1"/>
          </p:cNvSpPr>
          <p:nvPr>
            <p:ph type="dt" idx="9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PlaceHolder 4"/>
          <p:cNvSpPr>
            <a:spLocks noGrp="1"/>
          </p:cNvSpPr>
          <p:nvPr>
            <p:ph type="ftr" idx="9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PlaceHolder 5"/>
          <p:cNvSpPr>
            <a:spLocks noGrp="1"/>
          </p:cNvSpPr>
          <p:nvPr>
            <p:ph type="sldNum" idx="9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71AFE-769E-4F2C-944D-B694F2D51761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3"/>
    <p:sldLayoutId id="2147484040" r:id="rId4"/>
    <p:sldLayoutId id="2147484041" r:id="rId5"/>
    <p:sldLayoutId id="2147484042" r:id="rId6"/>
    <p:sldLayoutId id="2147484043" r:id="rId7"/>
    <p:sldLayoutId id="2147484044" r:id="rId8"/>
    <p:sldLayoutId id="2147484045" r:id="rId9"/>
    <p:sldLayoutId id="2147484046" r:id="rId10"/>
    <p:sldLayoutId id="2147484047" r:id="rId11"/>
    <p:sldLayoutId id="2147484048" r:id="rId12"/>
    <p:sldLayoutId id="2147484049" r:id="rId13"/>
    <p:sldLayoutId id="2147484050" r:id="rId14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3" name="PlaceHolder 3"/>
          <p:cNvSpPr>
            <a:spLocks noGrp="1"/>
          </p:cNvSpPr>
          <p:nvPr>
            <p:ph type="dt" idx="9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PlaceHolder 4"/>
          <p:cNvSpPr>
            <a:spLocks noGrp="1"/>
          </p:cNvSpPr>
          <p:nvPr>
            <p:ph type="ftr" idx="9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PlaceHolder 5"/>
          <p:cNvSpPr>
            <a:spLocks noGrp="1"/>
          </p:cNvSpPr>
          <p:nvPr>
            <p:ph type="sldNum" idx="9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89BE8-109F-4F9E-BC9B-D479AFFD374C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3"/>
    <p:sldLayoutId id="2147484053" r:id="rId4"/>
    <p:sldLayoutId id="2147484054" r:id="rId5"/>
    <p:sldLayoutId id="2147484055" r:id="rId6"/>
    <p:sldLayoutId id="2147484056" r:id="rId7"/>
    <p:sldLayoutId id="2147484057" r:id="rId8"/>
    <p:sldLayoutId id="2147484058" r:id="rId9"/>
    <p:sldLayoutId id="2147484059" r:id="rId10"/>
    <p:sldLayoutId id="2147484060" r:id="rId11"/>
    <p:sldLayoutId id="2147484061" r:id="rId12"/>
    <p:sldLayoutId id="2147484062" r:id="rId13"/>
    <p:sldLayoutId id="2147484063" r:id="rId14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1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4" name="PlaceHolder 3"/>
          <p:cNvSpPr>
            <a:spLocks noGrp="1"/>
          </p:cNvSpPr>
          <p:nvPr>
            <p:ph type="dt" idx="9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PlaceHolder 4"/>
          <p:cNvSpPr>
            <a:spLocks noGrp="1"/>
          </p:cNvSpPr>
          <p:nvPr>
            <p:ph type="ftr" idx="9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PlaceHolder 5"/>
          <p:cNvSpPr>
            <a:spLocks noGrp="1"/>
          </p:cNvSpPr>
          <p:nvPr>
            <p:ph type="sldNum" idx="9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AB701-0297-414F-8756-A725B623C637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3"/>
    <p:sldLayoutId id="2147484066" r:id="rId4"/>
    <p:sldLayoutId id="2147484067" r:id="rId5"/>
    <p:sldLayoutId id="2147484068" r:id="rId6"/>
    <p:sldLayoutId id="2147484069" r:id="rId7"/>
    <p:sldLayoutId id="2147484070" r:id="rId8"/>
    <p:sldLayoutId id="2147484071" r:id="rId9"/>
    <p:sldLayoutId id="2147484072" r:id="rId10"/>
    <p:sldLayoutId id="2147484073" r:id="rId11"/>
    <p:sldLayoutId id="2147484074" r:id="rId12"/>
    <p:sldLayoutId id="2147484075" r:id="rId13"/>
    <p:sldLayoutId id="2147484076" r:id="rId14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55" name="PlaceHolder 3"/>
          <p:cNvSpPr>
            <a:spLocks noGrp="1"/>
          </p:cNvSpPr>
          <p:nvPr>
            <p:ph type="dt" idx="10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PlaceHolder 4"/>
          <p:cNvSpPr>
            <a:spLocks noGrp="1"/>
          </p:cNvSpPr>
          <p:nvPr>
            <p:ph type="ftr" idx="10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PlaceHolder 5"/>
          <p:cNvSpPr>
            <a:spLocks noGrp="1"/>
          </p:cNvSpPr>
          <p:nvPr>
            <p:ph type="sldNum" idx="10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1FD91-6EF3-4693-82B8-CBDE767BAAED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3"/>
    <p:sldLayoutId id="2147484079" r:id="rId4"/>
    <p:sldLayoutId id="2147484080" r:id="rId5"/>
    <p:sldLayoutId id="2147484081" r:id="rId6"/>
    <p:sldLayoutId id="2147484082" r:id="rId7"/>
    <p:sldLayoutId id="2147484083" r:id="rId8"/>
    <p:sldLayoutId id="2147484084" r:id="rId9"/>
    <p:sldLayoutId id="2147484085" r:id="rId10"/>
    <p:sldLayoutId id="2147484086" r:id="rId11"/>
    <p:sldLayoutId id="2147484087" r:id="rId12"/>
    <p:sldLayoutId id="2147484088" r:id="rId13"/>
    <p:sldLayoutId id="2147484089" r:id="rId14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95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6" name="PlaceHolder 3"/>
          <p:cNvSpPr>
            <a:spLocks noGrp="1"/>
          </p:cNvSpPr>
          <p:nvPr>
            <p:ph type="dt" idx="10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PlaceHolder 4"/>
          <p:cNvSpPr>
            <a:spLocks noGrp="1"/>
          </p:cNvSpPr>
          <p:nvPr>
            <p:ph type="ftr" idx="10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PlaceHolder 5"/>
          <p:cNvSpPr>
            <a:spLocks noGrp="1"/>
          </p:cNvSpPr>
          <p:nvPr>
            <p:ph type="sldNum" idx="10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42500-3C87-43F6-B393-588E2CB6B452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3"/>
    <p:sldLayoutId id="2147484092" r:id="rId4"/>
    <p:sldLayoutId id="2147484093" r:id="rId5"/>
    <p:sldLayoutId id="2147484094" r:id="rId6"/>
    <p:sldLayoutId id="2147484095" r:id="rId7"/>
    <p:sldLayoutId id="2147484096" r:id="rId8"/>
    <p:sldLayoutId id="2147484097" r:id="rId9"/>
    <p:sldLayoutId id="2147484098" r:id="rId10"/>
    <p:sldLayoutId id="2147484099" r:id="rId11"/>
    <p:sldLayoutId id="2147484100" r:id="rId12"/>
    <p:sldLayoutId id="2147484101" r:id="rId13"/>
    <p:sldLayoutId id="2147484102" r:id="rId14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36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7" name="PlaceHolder 3"/>
          <p:cNvSpPr>
            <a:spLocks noGrp="1"/>
          </p:cNvSpPr>
          <p:nvPr>
            <p:ph type="dt" idx="10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PlaceHolder 4"/>
          <p:cNvSpPr>
            <a:spLocks noGrp="1"/>
          </p:cNvSpPr>
          <p:nvPr>
            <p:ph type="ftr" idx="10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PlaceHolder 5"/>
          <p:cNvSpPr>
            <a:spLocks noGrp="1"/>
          </p:cNvSpPr>
          <p:nvPr>
            <p:ph type="sldNum" idx="10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EE4E2-301C-4DF8-9C15-CD1C6A980489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3"/>
    <p:sldLayoutId id="2147484105" r:id="rId4"/>
    <p:sldLayoutId id="2147484106" r:id="rId5"/>
    <p:sldLayoutId id="2147484107" r:id="rId6"/>
    <p:sldLayoutId id="2147484108" r:id="rId7"/>
    <p:sldLayoutId id="2147484109" r:id="rId8"/>
    <p:sldLayoutId id="2147484110" r:id="rId9"/>
    <p:sldLayoutId id="2147484111" r:id="rId10"/>
    <p:sldLayoutId id="2147484112" r:id="rId11"/>
    <p:sldLayoutId id="2147484113" r:id="rId12"/>
    <p:sldLayoutId id="2147484114" r:id="rId13"/>
    <p:sldLayoutId id="2147484115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6198C-F439-4B87-A591-AC3C2F5AB34E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BB40D-FA88-4EEA-B909-ABA6C01FCACC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2DCE5-8836-4841-AE86-666DD5F7DAC3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90D34-C79D-4C3B-9CEC-E87B6DA257BE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2765C-07D5-4EB0-B37E-96CB59D0F064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F95AC-230B-4B33-B588-CE25C3C830F0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69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3" name="Picture 2" descr=""/>
          <p:cNvPicPr/>
          <p:nvPr/>
        </p:nvPicPr>
        <p:blipFill>
          <a:blip r:embed="rId1"/>
          <a:stretch/>
        </p:blipFill>
        <p:spPr>
          <a:xfrm>
            <a:off x="684360" y="2060640"/>
            <a:ext cx="7848360" cy="3868560"/>
          </a:xfrm>
          <a:prstGeom prst="rect">
            <a:avLst/>
          </a:prstGeom>
          <a:ln w="0">
            <a:noFill/>
          </a:ln>
        </p:spPr>
      </p:pic>
      <p:sp>
        <p:nvSpPr>
          <p:cNvPr id="1484" name="Rectangle 3"/>
          <p:cNvSpPr/>
          <p:nvPr/>
        </p:nvSpPr>
        <p:spPr>
          <a:xfrm>
            <a:off x="0" y="106668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 baseline="12000">
                <a:solidFill>
                  <a:srgbClr val="669900"/>
                </a:solidFill>
                <a:latin typeface="Tahoma"/>
                <a:ea typeface="Times New Roman"/>
              </a:rPr>
              <a:t>Reg. (CE) n. 1698/2005 del Consigl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 baseline="12000">
                <a:solidFill>
                  <a:srgbClr val="ee8f04"/>
                </a:solidFill>
                <a:latin typeface="Tahoma"/>
                <a:ea typeface="Times New Roman"/>
              </a:rPr>
              <a:t> </a:t>
            </a:r>
            <a:r>
              <a:rPr b="1" i="1" lang="it-IT" sz="4400" spc="-1" strike="noStrike" baseline="12000">
                <a:solidFill>
                  <a:srgbClr val="669900"/>
                </a:solidFill>
                <a:latin typeface="Tahoma"/>
                <a:ea typeface="Tahoma"/>
              </a:rPr>
              <a:t>PROGRAMMA regionale di SVILUPPO RURA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 baseline="12000">
                <a:solidFill>
                  <a:srgbClr val="ee8f04"/>
                </a:solidFill>
                <a:latin typeface="Tahoma"/>
                <a:ea typeface="Times New Roman"/>
              </a:rPr>
              <a:t>      </a:t>
            </a:r>
            <a:r>
              <a:rPr b="1" lang="it-IT" sz="4800" spc="-1" strike="noStrike" baseline="12000">
                <a:solidFill>
                  <a:srgbClr val="ffff99"/>
                </a:solidFill>
                <a:latin typeface="Tahoma"/>
                <a:ea typeface="Times New Roman"/>
              </a:rPr>
              <a:t>2007 - 201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Rectangle 4"/>
          <p:cNvSpPr/>
          <p:nvPr/>
        </p:nvSpPr>
        <p:spPr>
          <a:xfrm>
            <a:off x="225360" y="4869000"/>
            <a:ext cx="8701200" cy="12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669900"/>
                </a:solidFill>
                <a:latin typeface="Tahoma"/>
              </a:rPr>
              <a:t>Genova -   4 luglio 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Rectangle 5"/>
          <p:cNvSpPr/>
          <p:nvPr/>
        </p:nvSpPr>
        <p:spPr>
          <a:xfrm>
            <a:off x="1428840" y="6541920"/>
            <a:ext cx="6572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ffffff"/>
                </a:solidFill>
                <a:latin typeface="Arial"/>
              </a:rPr>
              <a:t>SETTORE SERVIZI ALLE IMPRESE e FLOROVIVAISM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8" name="PlaceHolder 1"/>
          <p:cNvSpPr>
            <a:spLocks noGrp="1"/>
          </p:cNvSpPr>
          <p:nvPr>
            <p:ph type="title"/>
          </p:nvPr>
        </p:nvSpPr>
        <p:spPr>
          <a:xfrm>
            <a:off x="590400" y="919080"/>
            <a:ext cx="8229600" cy="93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Istruttoria Domande di Aiuto 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19" name=""/>
          <p:cNvSpPr txBox="1"/>
          <p:nvPr/>
        </p:nvSpPr>
        <p:spPr>
          <a:xfrm>
            <a:off x="142920" y="2428560"/>
            <a:ext cx="8858160" cy="31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33"/>
                </a:solidFill>
                <a:latin typeface="Arial"/>
              </a:rPr>
              <a:t>avvio del procedimento - </a:t>
            </a:r>
            <a:r>
              <a:rPr b="0" lang="it-IT" sz="1800" spc="-1" strike="noStrike">
                <a:solidFill>
                  <a:srgbClr val="333333"/>
                </a:solidFill>
                <a:latin typeface="Arial"/>
              </a:rPr>
              <a:t>art. 12 e 13 della L.R. n. 56/2009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Arial"/>
              </a:rPr>
              <a:t>notifica delle </a:t>
            </a:r>
            <a:r>
              <a:rPr b="1" lang="it-IT" sz="2000" spc="-1" strike="noStrike" u="sng">
                <a:solidFill>
                  <a:srgbClr val="333333"/>
                </a:solidFill>
                <a:uFillTx/>
                <a:latin typeface="Arial"/>
              </a:rPr>
              <a:t>comunicazioni di avvio del procedimento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3333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900" spc="-1" strike="noStrike">
                <a:solidFill>
                  <a:srgbClr val="333333"/>
                </a:solidFill>
                <a:latin typeface="Arial"/>
              </a:rPr>
              <a:t>il portale agriligurianet nella sezione PSR – sottosezione misure/;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3333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900" spc="-1" strike="noStrike">
                <a:solidFill>
                  <a:srgbClr val="333333"/>
                </a:solidFill>
                <a:latin typeface="Arial"/>
              </a:rPr>
              <a:t>il Bollettino ufficiale della Regione Liguria (BURL).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20" name="Rettangolo 3"/>
          <p:cNvSpPr/>
          <p:nvPr/>
        </p:nvSpPr>
        <p:spPr>
          <a:xfrm>
            <a:off x="40824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Freccia in giù 4"/>
          <p:cNvSpPr/>
          <p:nvPr/>
        </p:nvSpPr>
        <p:spPr>
          <a:xfrm>
            <a:off x="3857760" y="3714840"/>
            <a:ext cx="714240" cy="5713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2" name="PlaceHolder 1"/>
          <p:cNvSpPr>
            <a:spLocks noGrp="1"/>
          </p:cNvSpPr>
          <p:nvPr>
            <p:ph type="title"/>
          </p:nvPr>
        </p:nvSpPr>
        <p:spPr>
          <a:xfrm>
            <a:off x="571680" y="92844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Istruttoria Domande di Aiuto 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23" name=""/>
          <p:cNvSpPr txBox="1"/>
          <p:nvPr/>
        </p:nvSpPr>
        <p:spPr>
          <a:xfrm>
            <a:off x="142920" y="1714680"/>
            <a:ext cx="8858160" cy="43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cura del Settore Servizi alle Imprese Agricole: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verifica della ricevibilità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ispetto dei termini e delle modalità di presentazione della domanda di aiuto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esenza della documentazione (documenti essenziali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esenza della firma del legale rappresentante (ove richiesta)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istruttoria di merito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verifica dei requisiti dei soggetti proponenti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mmissibilità oggettiva delle domande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valutazione del progetto/corso/servizio di consulenza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ttribuzione del punteggio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eventuali prescrizioni e proposte di azioni correttive</a:t>
            </a:r>
            <a:r>
              <a:rPr b="0" lang="it-IT" sz="1800" spc="-1" strike="noStrike">
                <a:solidFill>
                  <a:srgbClr val="333333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24" name="Rettangolo 3"/>
          <p:cNvSpPr/>
          <p:nvPr/>
        </p:nvSpPr>
        <p:spPr>
          <a:xfrm>
            <a:off x="40824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5" name="PlaceHolder 1"/>
          <p:cNvSpPr>
            <a:spLocks noGrp="1"/>
          </p:cNvSpPr>
          <p:nvPr>
            <p:ph type="title"/>
          </p:nvPr>
        </p:nvSpPr>
        <p:spPr>
          <a:xfrm>
            <a:off x="590400" y="919080"/>
            <a:ext cx="8229600" cy="93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Istruttoria Domande di Aiuto 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26" name=""/>
          <p:cNvSpPr txBox="1"/>
          <p:nvPr/>
        </p:nvSpPr>
        <p:spPr>
          <a:xfrm>
            <a:off x="142560" y="1785960"/>
            <a:ext cx="8643960" cy="430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er la misura 331 e 2° bando Misura 111 “informazione”: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ecreto del dirigente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graduatoria delle domande di aiuto ammissibili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elenco delle domande aiuto ammissibili e finanziabili in base alle risorse disponibili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dempimenti per le domande non ammissibili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Arial"/>
              </a:rPr>
              <a:t>ACCORDO tra Regione e Soggetto beneficiario</a:t>
            </a:r>
            <a:r>
              <a:rPr b="1" lang="it-IT" sz="1600" spc="-1" strike="noStrike">
                <a:solidFill>
                  <a:srgbClr val="333333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er la misura 114 e 1° Bando “informazione”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Nullaosta (Atto di concessione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27" name="Rettangolo 3"/>
          <p:cNvSpPr/>
          <p:nvPr/>
        </p:nvSpPr>
        <p:spPr>
          <a:xfrm>
            <a:off x="47988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Freccia in giù 4"/>
          <p:cNvSpPr/>
          <p:nvPr/>
        </p:nvSpPr>
        <p:spPr>
          <a:xfrm>
            <a:off x="4143240" y="2071800"/>
            <a:ext cx="428760" cy="3571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Freccia in giù 5"/>
          <p:cNvSpPr/>
          <p:nvPr/>
        </p:nvSpPr>
        <p:spPr>
          <a:xfrm>
            <a:off x="4214880" y="3571920"/>
            <a:ext cx="428400" cy="3571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DURATA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31" name="PlaceHolder 2"/>
          <p:cNvSpPr>
            <a:spLocks noGrp="1"/>
          </p:cNvSpPr>
          <p:nvPr>
            <p:ph/>
          </p:nvPr>
        </p:nvSpPr>
        <p:spPr>
          <a:xfrm>
            <a:off x="590400" y="2000160"/>
            <a:ext cx="8229600" cy="32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ata di inizio e di conclusione del progetto/corso, preventivamente indicate nella scheda tecnica e definite nell’accordo/nullaosta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alizzare nei tempi previsti dal progetto/corso approvato;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eventuale richiesta motivata di proroga (escluso 1° bando – misura 111 informazione”) non superiore ai sei mesi sulla data di conclusione (compatibilmente con le scadenze comunitarie)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2" name="Rettangolo 3"/>
          <p:cNvSpPr/>
          <p:nvPr/>
        </p:nvSpPr>
        <p:spPr>
          <a:xfrm>
            <a:off x="47988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PlaceHolder 1"/>
          <p:cNvSpPr>
            <a:spLocks noGrp="1"/>
          </p:cNvSpPr>
          <p:nvPr>
            <p:ph type="title"/>
          </p:nvPr>
        </p:nvSpPr>
        <p:spPr>
          <a:xfrm>
            <a:off x="590400" y="919080"/>
            <a:ext cx="8229600" cy="8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343160" indent="0" algn="ct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Attuazione Progetto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34" name="PlaceHolder 2"/>
          <p:cNvSpPr>
            <a:spLocks noGrp="1"/>
          </p:cNvSpPr>
          <p:nvPr>
            <p:ph/>
          </p:nvPr>
        </p:nvSpPr>
        <p:spPr>
          <a:xfrm>
            <a:off x="214200" y="1928880"/>
            <a:ext cx="862488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pese Ammissibili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efinite nel Bando (punto 7), in particolare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confronto a consuntivo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tra n. 3 preventivi (non richiesta per beni altamente specializzati e per acquisti di beni - importo di 500 euro x domanda)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VA 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non riconosciuta 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seconda del regime IVA e per gli Enti pubblici</a:t>
            </a:r>
            <a:r>
              <a:rPr b="0" lang="it-IT" sz="1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ategorie di spesa e voci di spesa 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previste dal Bando)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mmissibilità delle spese è valutata ai sensi della DGR n. 372/2008, e ss.mm.ii (DGR n. 1396/2008, n. 317/2010, n. 580/2010, n. 815/2011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ongrue, conformi ai prezzi di mercato e coerenti con il progetto/corso approvato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quantificate e giustificate (preventivo e consuntivo) - distinte per categoria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5" name="Text Box 5"/>
          <p:cNvSpPr/>
          <p:nvPr/>
        </p:nvSpPr>
        <p:spPr>
          <a:xfrm>
            <a:off x="0" y="6524640"/>
            <a:ext cx="291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Text Box 6"/>
          <p:cNvSpPr/>
          <p:nvPr/>
        </p:nvSpPr>
        <p:spPr>
          <a:xfrm>
            <a:off x="0" y="6491160"/>
            <a:ext cx="406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Rectangle 7"/>
          <p:cNvSpPr/>
          <p:nvPr/>
        </p:nvSpPr>
        <p:spPr>
          <a:xfrm>
            <a:off x="0" y="652140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Rettangolo 6"/>
          <p:cNvSpPr/>
          <p:nvPr/>
        </p:nvSpPr>
        <p:spPr>
          <a:xfrm>
            <a:off x="33696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Variant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40" name="PlaceHolder 2"/>
          <p:cNvSpPr>
            <a:spLocks noGrp="1"/>
          </p:cNvSpPr>
          <p:nvPr>
            <p:ph/>
          </p:nvPr>
        </p:nvSpPr>
        <p:spPr>
          <a:xfrm>
            <a:off x="468000" y="1844280"/>
            <a:ext cx="828684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669900"/>
                </a:solidFill>
                <a:uFillTx/>
                <a:latin typeface="Times New Roman"/>
                <a:ea typeface="Times New Roman"/>
              </a:rPr>
              <a:t>non sono ammesse varianti</a:t>
            </a:r>
            <a:r>
              <a:rPr b="1" lang="it-IT" sz="20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: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iminuzione del punteggio attribuito ;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erdita dei requisiti di ammissibilità;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odifiche del progetto/corso/s originario in termini di obiettivi e di risultati;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odifiche sostanziali tecniche ed economiche della singole tipologie di intervento approvate;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umento dell’onere a carico del contributo pubblico.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1" name="Rectangle 4"/>
          <p:cNvSpPr/>
          <p:nvPr/>
        </p:nvSpPr>
        <p:spPr>
          <a:xfrm>
            <a:off x="0" y="654192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Rettangolo 5"/>
          <p:cNvSpPr/>
          <p:nvPr/>
        </p:nvSpPr>
        <p:spPr>
          <a:xfrm>
            <a:off x="55116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609480" y="999720"/>
            <a:ext cx="8229600" cy="42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Variant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44" name="PlaceHolder 2"/>
          <p:cNvSpPr>
            <a:spLocks noGrp="1"/>
          </p:cNvSpPr>
          <p:nvPr>
            <p:ph/>
          </p:nvPr>
        </p:nvSpPr>
        <p:spPr>
          <a:xfrm>
            <a:off x="142560" y="1500120"/>
            <a:ext cx="8715240" cy="45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Arial Black"/>
              </a:rPr>
              <a:t>Per la misura 111 e 33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 Costituiscono </a:t>
            </a:r>
            <a:r>
              <a:rPr b="1" lang="it-IT" sz="16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varianti in corso d’opera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446040" indent="-181080" algn="just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odifiche immateriali di carattere giuridico, tecnico ed amministrativo (es. cambio di sede di realizzazione dell’intervento, adeguamento del crono programma, sostituzione del personale coinvolto)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446040" indent="-181080" algn="just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odifiche materiali: riduzione della spesa prevista per la realizzazione di un intervento ammesso all’aiuto (a causa di economia o mancata realizzazione, parziale o totale) e contestuale incremento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446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Variazione in aumento fino ad un massimo del 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30 %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dell’importo inizialmente determinato </a:t>
            </a:r>
            <a:r>
              <a:rPr b="1" lang="it-IT" sz="16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tra le diverse categoria di spesa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es. spese di personale, materiale consumabile, etc.)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44604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OTA BENE</a:t>
            </a:r>
            <a:r>
              <a:rPr b="0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446040" indent="-181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ssimo una variante finanziaria per domanda di aiuto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446040" indent="-181080" algn="just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e richieste di varianti devono essere preventivamente 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omunicate (preavviso di 10 giorni) e autorizzate dal Settore Ispettorato Agrario regionale (prima della data di scadenza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5" name="Rectangle 4"/>
          <p:cNvSpPr/>
          <p:nvPr/>
        </p:nvSpPr>
        <p:spPr>
          <a:xfrm>
            <a:off x="0" y="654192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Rettangolo 5"/>
          <p:cNvSpPr/>
          <p:nvPr/>
        </p:nvSpPr>
        <p:spPr>
          <a:xfrm>
            <a:off x="55116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7" name="PlaceHolder 1"/>
          <p:cNvSpPr>
            <a:spLocks noGrp="1"/>
          </p:cNvSpPr>
          <p:nvPr>
            <p:ph type="title"/>
          </p:nvPr>
        </p:nvSpPr>
        <p:spPr>
          <a:xfrm>
            <a:off x="609480" y="1066680"/>
            <a:ext cx="822960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Variant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48" name="PlaceHolder 2"/>
          <p:cNvSpPr>
            <a:spLocks noGrp="1"/>
          </p:cNvSpPr>
          <p:nvPr>
            <p:ph/>
          </p:nvPr>
        </p:nvSpPr>
        <p:spPr>
          <a:xfrm>
            <a:off x="213840" y="1714680"/>
            <a:ext cx="864396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333333"/>
                </a:solidFill>
                <a:latin typeface="Arial"/>
              </a:rPr>
              <a:t>b) 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Non costituiscon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variante in corso d’opera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 (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non comunicate e autorizzate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181080" indent="-181080">
              <a:lnSpc>
                <a:spcPct val="150000"/>
              </a:lnSpc>
              <a:spcBef>
                <a:spcPts val="45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a riduzione dell’importo (per economia di spesa) in una o più voce di spesa ammesse all’aiuto, senza contestuale incremento di altre voci di spesa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181080" indent="-181080">
              <a:lnSpc>
                <a:spcPct val="150000"/>
              </a:lnSpc>
              <a:spcBef>
                <a:spcPts val="45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le modifiche di portata minore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he non determinino 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tra le diverse categoria di spesa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un aumento superiore al 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10 %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dell’importo inizialmente determinato per ciascuna categoria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9" name="Rectangle 4"/>
          <p:cNvSpPr/>
          <p:nvPr/>
        </p:nvSpPr>
        <p:spPr>
          <a:xfrm>
            <a:off x="0" y="654192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Rettangolo 5"/>
          <p:cNvSpPr/>
          <p:nvPr/>
        </p:nvSpPr>
        <p:spPr>
          <a:xfrm>
            <a:off x="55116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PlaceHolder 1"/>
          <p:cNvSpPr>
            <a:spLocks noGrp="1"/>
          </p:cNvSpPr>
          <p:nvPr>
            <p:ph type="title"/>
          </p:nvPr>
        </p:nvSpPr>
        <p:spPr>
          <a:xfrm>
            <a:off x="590400" y="919080"/>
            <a:ext cx="8229600" cy="8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343160" indent="0" algn="ct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Domande di Pagamento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52" name="PlaceHolder 2"/>
          <p:cNvSpPr>
            <a:spLocks noGrp="1"/>
          </p:cNvSpPr>
          <p:nvPr>
            <p:ph/>
          </p:nvPr>
        </p:nvSpPr>
        <p:spPr>
          <a:xfrm>
            <a:off x="609480" y="1785600"/>
            <a:ext cx="82296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just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e domande di pagamento e le relative rendicontazioni tecniche e finanziarie devono essere inviate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l Settore Ispettorato Agrario Regionale (competente per territorio)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entro la data di scadenza 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misura 114 e misura 331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entro 60 giorni dalla data di scadenza 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Bandi misura 111 “informazione”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odulistica predisposta dalla Region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tati avanzamento lavori (se previste) e saldo finale (non ammesse anticipazioni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45720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Le modalità di rendicontazione e di pagamento sono definiti nel dettaglio nella DGR n. 372/2008 e ss.mm.ii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4572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3" name="Text Box 5"/>
          <p:cNvSpPr/>
          <p:nvPr/>
        </p:nvSpPr>
        <p:spPr>
          <a:xfrm>
            <a:off x="0" y="6524640"/>
            <a:ext cx="291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Text Box 6"/>
          <p:cNvSpPr/>
          <p:nvPr/>
        </p:nvSpPr>
        <p:spPr>
          <a:xfrm>
            <a:off x="0" y="6491160"/>
            <a:ext cx="406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Rectangle 7"/>
          <p:cNvSpPr/>
          <p:nvPr/>
        </p:nvSpPr>
        <p:spPr>
          <a:xfrm>
            <a:off x="0" y="652140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Rettangolo 7"/>
          <p:cNvSpPr/>
          <p:nvPr/>
        </p:nvSpPr>
        <p:spPr>
          <a:xfrm>
            <a:off x="55116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6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3352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Violazioni di Impegn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58" name="PlaceHolder 2"/>
          <p:cNvSpPr>
            <a:spLocks noGrp="1"/>
          </p:cNvSpPr>
          <p:nvPr>
            <p:ph/>
          </p:nvPr>
        </p:nvSpPr>
        <p:spPr>
          <a:xfrm>
            <a:off x="285840" y="1571400"/>
            <a:ext cx="8555040" cy="45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e fattispecie di violazione di impegni e dei livelli di gravità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, entità e durata per ciascuna violazione sono disciplinate dall’alleg. 7 del Bando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IDUZIONE e/o DECADENZA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lcuni esempi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itardo nella presentazione domanda di pagamento, non conformità del materiale informativo, variazioni varianti, comunicazioni di varianti, etc.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fatto salvo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quanto disposto ai sensi dell’art. 31 del Reg. CE 1975/2006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’inapplicabilità di quanto disposto al presente articolo per i casi di forza maggiore previsti dalla normativa in materia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’applicazione di ulteriori norme comunitarie nazionali e regionali in materia di illeciti amministrativi e penali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9" name="Rettangolo 3"/>
          <p:cNvSpPr/>
          <p:nvPr/>
        </p:nvSpPr>
        <p:spPr>
          <a:xfrm>
            <a:off x="47988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Freccia in giù 4"/>
          <p:cNvSpPr/>
          <p:nvPr/>
        </p:nvSpPr>
        <p:spPr>
          <a:xfrm>
            <a:off x="4286160" y="2214720"/>
            <a:ext cx="642960" cy="5713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669900"/>
                </a:solidFill>
                <a:latin typeface="Arial"/>
              </a:rPr>
              <a:t>TITOLO</a:t>
            </a:r>
            <a:endParaRPr b="1" lang="en-US" sz="3600" spc="-1" strike="noStrike">
              <a:solidFill>
                <a:srgbClr val="669900"/>
              </a:solidFill>
              <a:latin typeface="Arial"/>
            </a:endParaRPr>
          </a:p>
        </p:txBody>
      </p:sp>
      <p:pic>
        <p:nvPicPr>
          <p:cNvPr id="1488" name="Picture 4" descr=""/>
          <p:cNvPicPr/>
          <p:nvPr/>
        </p:nvPicPr>
        <p:blipFill>
          <a:blip r:embed="rId1"/>
          <a:stretch/>
        </p:blipFill>
        <p:spPr>
          <a:xfrm>
            <a:off x="2357280" y="1268280"/>
            <a:ext cx="5346720" cy="2519640"/>
          </a:xfrm>
          <a:prstGeom prst="rect">
            <a:avLst/>
          </a:prstGeom>
          <a:ln w="0">
            <a:noFill/>
          </a:ln>
        </p:spPr>
      </p:pic>
      <p:sp>
        <p:nvSpPr>
          <p:cNvPr id="1489" name="PlaceHolder 2"/>
          <p:cNvSpPr>
            <a:spLocks noGrp="1"/>
          </p:cNvSpPr>
          <p:nvPr>
            <p:ph type="subTitle"/>
          </p:nvPr>
        </p:nvSpPr>
        <p:spPr>
          <a:xfrm>
            <a:off x="356760" y="3929040"/>
            <a:ext cx="8643960" cy="22147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Arial Black"/>
              </a:rPr>
              <a:t>Seminario Informativo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 Black"/>
              </a:rPr>
              <a:t>nuovi bandi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 Black"/>
              </a:rPr>
              <a:t>misura 111 “informazione” </a:t>
            </a:r>
            <a:r>
              <a:rPr b="1" lang="it-IT" sz="2000" spc="-1" strike="noStrike">
                <a:solidFill>
                  <a:srgbClr val="ff0000"/>
                </a:solidFill>
                <a:latin typeface="Arial Black"/>
              </a:rPr>
              <a:t>(DGR nn. 677/2013 e 672/2013)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 Black"/>
              </a:rPr>
              <a:t>misura 114 “consulenza aziendale” </a:t>
            </a:r>
            <a:r>
              <a:rPr b="1" lang="it-IT" sz="2000" spc="-1" strike="noStrike">
                <a:solidFill>
                  <a:srgbClr val="ff0000"/>
                </a:solidFill>
                <a:latin typeface="Arial Black"/>
              </a:rPr>
              <a:t>(DGR n. 510/2013)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 Black"/>
              </a:rPr>
              <a:t>Misura 331 “Formazione e informazione” </a:t>
            </a:r>
            <a:r>
              <a:rPr b="1" lang="it-IT" sz="2000" spc="-1" strike="noStrike">
                <a:solidFill>
                  <a:srgbClr val="ff0000"/>
                </a:solidFill>
                <a:latin typeface="Arial Black"/>
              </a:rPr>
              <a:t>(DGR n. 531/2013)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PlaceHolder 1"/>
          <p:cNvSpPr>
            <a:spLocks noGrp="1"/>
          </p:cNvSpPr>
          <p:nvPr>
            <p:ph type="title"/>
          </p:nvPr>
        </p:nvSpPr>
        <p:spPr>
          <a:xfrm>
            <a:off x="684360" y="907560"/>
            <a:ext cx="8229600" cy="56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3352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Revoche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62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er accertata falsità di dichiarazioni sostitutive di certificazioni o di atti di notorietà contenute nella domanda di contributo o allegate ad essa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ancata realizzazione del progetto/corso/servizio di consulenza ammesso a contribut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alizzazione del progetto diverso da quello ammesso a contributo o diverso dalle varianti autorizza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omanda di liquidazione del contributo irregolar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grave irregolarità dei documenti che attestano le spese sostenute dal beneficiari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erdita dei requisiti necessari per la concessione del contribut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inuncia del beneficiari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3" name="Rettangolo 3"/>
          <p:cNvSpPr/>
          <p:nvPr/>
        </p:nvSpPr>
        <p:spPr>
          <a:xfrm>
            <a:off x="55116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Obblighi General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65" name="PlaceHolder 2"/>
          <p:cNvSpPr>
            <a:spLocks noGrp="1"/>
          </p:cNvSpPr>
          <p:nvPr>
            <p:ph/>
          </p:nvPr>
        </p:nvSpPr>
        <p:spPr>
          <a:xfrm>
            <a:off x="285480" y="1857240"/>
            <a:ext cx="864396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izzare il progetto nei tempi che consentono il raggiungimento delle finalità della misura in conformità agli obblighi derivanti  dalla normativa vigente e dal PSR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izzare il progetto in modo conforme e in coerenza con la proposta approvata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tere a disposizione  della Regione e di ogni altra autorità pubblica incaricata dei controlli, tutta la documentazione necessaria a svolgere l’attività di controllo, anche nel caso sia detenuto da terzi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entire l’accesso degli incaricati dei controlli ai luoghi  dove si trovano i documenti oggetto  dell’aiuto pubblico ed ai luoghi dove viene svolta l’attività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ervare  per almeno 5 anni tutta la documentazione (lett. C, art.7, c. LR 42/2007)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icurare il libero accesso alle iniziative previste a tutti i potenziali destinatari, senza nessun vincolo di appartenenza a forme associative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6" name="Rettangolo 3"/>
          <p:cNvSpPr/>
          <p:nvPr/>
        </p:nvSpPr>
        <p:spPr>
          <a:xfrm>
            <a:off x="55116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7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Normativa di Riferimento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68" name="PlaceHolder 2"/>
          <p:cNvSpPr>
            <a:spLocks noGrp="1"/>
          </p:cNvSpPr>
          <p:nvPr>
            <p:ph/>
          </p:nvPr>
        </p:nvSpPr>
        <p:spPr>
          <a:xfrm>
            <a:off x="356760" y="1642680"/>
            <a:ext cx="8643960" cy="43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ipali adempimenti e gli obblighi sono previsti da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golamenti comunitari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ogramma di Sviluppo Rurale 2007 – 2013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R n. 42/2007, in particolare l’art. 7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BANDI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Fattispecie di violazione di impegni e dei livelli di gravità, entità e durata per ciascuna violazione, ai sensi del DM 22/12/2009 (all. 7 del Bando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GR n. 1038 del 10/09/2010, relativa all’individuazione delle percentuali di riduzione in base ai livelli di gravità, entità e durata delle violazioni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GR n. 1233/2008 “Disposizione in materia di pubblicità e informazione sul sostegno da parte del FEASR”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GR n. 372 del 4/4/2008, e ss.mm.ii  (DGR n. 1396 del 29/10/2008, n. 317 del 9/2/2010 e n. 580 del 28/5/2010, relative ai criteri per l’ammissibilità delle spes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9" name="Rettangolo 3"/>
          <p:cNvSpPr/>
          <p:nvPr/>
        </p:nvSpPr>
        <p:spPr>
          <a:xfrm>
            <a:off x="33696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"/>
          <p:cNvSpPr txBox="1"/>
          <p:nvPr/>
        </p:nvSpPr>
        <p:spPr>
          <a:xfrm>
            <a:off x="142920" y="1643040"/>
            <a:ext cx="8858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1653480" indent="-16534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RESTATORI DI SERVIZI AGROFORESTALI</a:t>
            </a:r>
            <a:r>
              <a:rPr b="1" lang="it-IT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ientrano esclusivamente i soggetti che hanno ottenuto il riconoscimento di Organismi abilitati dalla Regione a fornire i servizi di formazione, dimostrazione e consulenza alle aziende agricole e forestali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neficiari dell’aiuto: misura 111 e 331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ggetti attuatori: misura 114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 i BENEFICIARI DEGLI AIUTI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AFFIDABILITÀ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del soggetto proponente in base all’esito di eventuali altre operazioni cofinanziate dai PSR (dal 2000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INSUSSISTENZA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di relazioni di parentela o affinità con dipendenti regionali“ (Dichiarazione  sostitutiva di atto di notorietà  (“Piano di prevenzione della corruzione e Programma per la trasparenza e l'integrità 2013/2015“)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DE MINIMIS 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ove previst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 algn="ctr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 algn="ctr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91" name="PlaceHolder 1"/>
          <p:cNvSpPr>
            <a:spLocks noGrp="1"/>
          </p:cNvSpPr>
          <p:nvPr>
            <p:ph type="title"/>
          </p:nvPr>
        </p:nvSpPr>
        <p:spPr>
          <a:xfrm>
            <a:off x="250920" y="981000"/>
            <a:ext cx="864216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beneficiari e destinatari (1)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92" name="CasellaDiTesto 5"/>
          <p:cNvSpPr/>
          <p:nvPr/>
        </p:nvSpPr>
        <p:spPr>
          <a:xfrm>
            <a:off x="166680" y="6510240"/>
            <a:ext cx="361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Freccia in giù 4"/>
          <p:cNvSpPr/>
          <p:nvPr/>
        </p:nvSpPr>
        <p:spPr>
          <a:xfrm>
            <a:off x="3929040" y="2571840"/>
            <a:ext cx="571680" cy="3571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"/>
          <p:cNvSpPr txBox="1"/>
          <p:nvPr/>
        </p:nvSpPr>
        <p:spPr>
          <a:xfrm>
            <a:off x="142920" y="1714320"/>
            <a:ext cx="8858160" cy="45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mprenditori agricoli iscritti al registro delle imprese, dotati di numero di partita IVA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operatori forestali, iscritti al registro delle imprese, che abbiano un’attività principale o secondaria con codice ATECO che inizi con A02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oggetti beneficiari per la misura 114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estinatari della formazione e informazione per la misura 111 e 331 (possono partecipare coadiuvanti familiari, iscritti all’INPS, e lavoratori dipendenti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er la misura 331 i destinatari con sede legale nelle aree rurali ricomprese nell’Asse 3) del PSR (zone C e D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250920" y="981000"/>
            <a:ext cx="864216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beneficiari e destinatari (2)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96" name="CasellaDiTesto 5"/>
          <p:cNvSpPr/>
          <p:nvPr/>
        </p:nvSpPr>
        <p:spPr>
          <a:xfrm>
            <a:off x="166680" y="6510240"/>
            <a:ext cx="361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Freccia in giù 4"/>
          <p:cNvSpPr/>
          <p:nvPr/>
        </p:nvSpPr>
        <p:spPr>
          <a:xfrm>
            <a:off x="4071960" y="3000240"/>
            <a:ext cx="785880" cy="6429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6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Entità Aiut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99" name=""/>
          <p:cNvSpPr txBox="1"/>
          <p:nvPr/>
        </p:nvSpPr>
        <p:spPr>
          <a:xfrm>
            <a:off x="356760" y="1571400"/>
            <a:ext cx="8572680" cy="45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isorse disponibili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% di aiut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isura 331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 euro 327.400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100 % de minimi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34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isura 114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  euro 447.662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80 % de minimis </a:t>
            </a:r>
            <a:r>
              <a:rPr b="0" lang="it-IT" sz="1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solo per consulenza forestale)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isura 111 – azione b) “informazione”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- Bando 1): euro 100.000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100 %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- Bando 2): euro 300.000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100 %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0" name="Rettangolo 4"/>
          <p:cNvSpPr/>
          <p:nvPr/>
        </p:nvSpPr>
        <p:spPr>
          <a:xfrm>
            <a:off x="40824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1" name="PlaceHolder 1"/>
          <p:cNvSpPr>
            <a:spLocks noGrp="1"/>
          </p:cNvSpPr>
          <p:nvPr>
            <p:ph type="title"/>
          </p:nvPr>
        </p:nvSpPr>
        <p:spPr>
          <a:xfrm>
            <a:off x="590400" y="919080"/>
            <a:ext cx="8229600" cy="8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Procedura (FASI)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02" name=""/>
          <p:cNvSpPr txBox="1"/>
          <p:nvPr/>
        </p:nvSpPr>
        <p:spPr>
          <a:xfrm>
            <a:off x="590400" y="1785960"/>
            <a:ext cx="8229600" cy="430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esentazione domanda di aiu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struttoria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pprovazione e negoziazion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oncession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ttuazione proget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3" name="Freccia in giù 3"/>
          <p:cNvSpPr/>
          <p:nvPr/>
        </p:nvSpPr>
        <p:spPr>
          <a:xfrm>
            <a:off x="4500720" y="2214720"/>
            <a:ext cx="500040" cy="500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Freccia in giù 5"/>
          <p:cNvSpPr/>
          <p:nvPr/>
        </p:nvSpPr>
        <p:spPr>
          <a:xfrm>
            <a:off x="4500720" y="3071880"/>
            <a:ext cx="500040" cy="500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Freccia in giù 6"/>
          <p:cNvSpPr/>
          <p:nvPr/>
        </p:nvSpPr>
        <p:spPr>
          <a:xfrm>
            <a:off x="4500720" y="4000680"/>
            <a:ext cx="500040" cy="500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Freccia in giù 7"/>
          <p:cNvSpPr/>
          <p:nvPr/>
        </p:nvSpPr>
        <p:spPr>
          <a:xfrm>
            <a:off x="4500720" y="4857840"/>
            <a:ext cx="500040" cy="500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Rettangolo 8"/>
          <p:cNvSpPr/>
          <p:nvPr/>
        </p:nvSpPr>
        <p:spPr>
          <a:xfrm>
            <a:off x="33696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PlaceHolder 1"/>
          <p:cNvSpPr>
            <a:spLocks noGrp="1"/>
          </p:cNvSpPr>
          <p:nvPr>
            <p:ph type="title"/>
          </p:nvPr>
        </p:nvSpPr>
        <p:spPr>
          <a:xfrm>
            <a:off x="213840" y="1143000"/>
            <a:ext cx="864252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Presentazione Domande di Aiuto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09" name=""/>
          <p:cNvSpPr txBox="1"/>
          <p:nvPr/>
        </p:nvSpPr>
        <p:spPr>
          <a:xfrm>
            <a:off x="357120" y="2071800"/>
            <a:ext cx="8462880" cy="36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isorse disponibili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cadenza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isura 331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  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band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graduatoria)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31 luglio 2013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isura 114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  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sportell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“cassetti”)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31 luglio 2013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isura 111 – azione b) “informazione”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- Bando n. 1: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sportell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30 luglio 2013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- Bando n. 2: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band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graduatoria)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20 settembre 2013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333333"/>
                </a:solidFill>
                <a:uFillTx/>
                <a:latin typeface="Arial"/>
              </a:rPr>
              <a:t>IMPORTANTE</a:t>
            </a:r>
            <a:r>
              <a:rPr b="0" lang="it-IT" sz="1800" spc="-1" strike="noStrike">
                <a:solidFill>
                  <a:srgbClr val="333333"/>
                </a:solidFill>
                <a:latin typeface="Arial"/>
              </a:rPr>
              <a:t>: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33"/>
                </a:solidFill>
                <a:latin typeface="Arial"/>
              </a:rPr>
              <a:t>entro le ore 12:00 della data di scadenza, indipendentemente dalle modalità di inoltr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0" name="CasellaDiTesto 5"/>
          <p:cNvSpPr/>
          <p:nvPr/>
        </p:nvSpPr>
        <p:spPr>
          <a:xfrm>
            <a:off x="166680" y="6510240"/>
            <a:ext cx="34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1" name="PlaceHolder 1"/>
          <p:cNvSpPr>
            <a:spLocks noGrp="1"/>
          </p:cNvSpPr>
          <p:nvPr>
            <p:ph type="title"/>
          </p:nvPr>
        </p:nvSpPr>
        <p:spPr>
          <a:xfrm>
            <a:off x="714240" y="1071720"/>
            <a:ext cx="8229600" cy="78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Presentazione Domande di Aiuto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12" name=""/>
          <p:cNvSpPr txBox="1"/>
          <p:nvPr/>
        </p:nvSpPr>
        <p:spPr>
          <a:xfrm>
            <a:off x="142920" y="2287080"/>
            <a:ext cx="8858160" cy="380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 u="sng">
                <a:solidFill>
                  <a:srgbClr val="ff0000"/>
                </a:solidFill>
                <a:uFillTx/>
                <a:latin typeface="Arial"/>
              </a:rPr>
              <a:t>presenza</a:t>
            </a:r>
            <a:r>
              <a:rPr b="0" lang="it-IT" sz="2200" spc="-1" strike="noStrike">
                <a:solidFill>
                  <a:srgbClr val="333333"/>
                </a:solidFill>
                <a:latin typeface="Arial"/>
              </a:rPr>
              <a:t> della documentazione prevista dal Bando</a:t>
            </a:r>
            <a:r>
              <a:rPr b="0" lang="it-IT" sz="2000" spc="-1" strike="noStrike">
                <a:solidFill>
                  <a:srgbClr val="333333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0000"/>
                </a:solidFill>
                <a:latin typeface="Arial"/>
              </a:rPr>
              <a:t>documenti essenziali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3333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Arial"/>
              </a:rPr>
              <a:t>altri documenti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 u="sng">
                <a:solidFill>
                  <a:srgbClr val="ff0000"/>
                </a:solidFill>
                <a:uFillTx/>
                <a:latin typeface="Arial"/>
              </a:rPr>
              <a:t>firma</a:t>
            </a:r>
            <a:r>
              <a:rPr b="0" lang="it-IT" sz="2200" spc="-1" strike="noStrike">
                <a:solidFill>
                  <a:srgbClr val="333333"/>
                </a:solidFill>
                <a:latin typeface="Arial"/>
              </a:rPr>
              <a:t> del legale rappresentante e coordinatore tecnico </a:t>
            </a:r>
            <a:r>
              <a:rPr b="0" lang="it-IT" sz="1600" spc="-1" strike="noStrike">
                <a:solidFill>
                  <a:srgbClr val="333333"/>
                </a:solidFill>
                <a:latin typeface="Arial"/>
              </a:rPr>
              <a:t>(ove previsto)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333333"/>
                </a:solidFill>
                <a:latin typeface="Arial"/>
              </a:rPr>
              <a:t>compilazione e </a:t>
            </a:r>
            <a:r>
              <a:rPr b="1" lang="it-IT" sz="2200" spc="-1" strike="noStrike" u="sng">
                <a:solidFill>
                  <a:srgbClr val="ff0000"/>
                </a:solidFill>
                <a:uFillTx/>
                <a:latin typeface="Arial"/>
              </a:rPr>
              <a:t>rilascio</a:t>
            </a:r>
            <a:r>
              <a:rPr b="0" lang="it-IT" sz="2200" spc="-1" strike="noStrike">
                <a:solidFill>
                  <a:srgbClr val="333333"/>
                </a:solidFill>
                <a:latin typeface="Arial"/>
              </a:rPr>
              <a:t> sul portale SIAN.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332640" indent="-33264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333333"/>
                </a:solidFill>
                <a:latin typeface="Arial"/>
              </a:rPr>
              <a:t>NON RICEVIBILITA’ DELLA DOMANDA DI AIUT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3" name="Rettangolo 3"/>
          <p:cNvSpPr/>
          <p:nvPr/>
        </p:nvSpPr>
        <p:spPr>
          <a:xfrm>
            <a:off x="40824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Freccia in giù 4"/>
          <p:cNvSpPr/>
          <p:nvPr/>
        </p:nvSpPr>
        <p:spPr>
          <a:xfrm>
            <a:off x="4143240" y="5072040"/>
            <a:ext cx="642960" cy="5716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PlaceHolder 1"/>
          <p:cNvSpPr>
            <a:spLocks noGrp="1"/>
          </p:cNvSpPr>
          <p:nvPr>
            <p:ph type="title"/>
          </p:nvPr>
        </p:nvSpPr>
        <p:spPr>
          <a:xfrm>
            <a:off x="590400" y="1071360"/>
            <a:ext cx="8229600" cy="92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Presentazione Domande di Aiuto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16" name=""/>
          <p:cNvSpPr txBox="1"/>
          <p:nvPr/>
        </p:nvSpPr>
        <p:spPr>
          <a:xfrm>
            <a:off x="142920" y="2071800"/>
            <a:ext cx="8858160" cy="40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ocumenti essenziali</a:t>
            </a:r>
            <a:r>
              <a:rPr b="0" lang="it-IT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omanda di aiuto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modello SIAN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opia della 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arta d’identità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n corso di validità del rappresentante legale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cheda tecnica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anche su supporto informatic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cheda finanziaria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anche su supporto informatic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ltri documenti (in base al Bando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ichiarazione sostitutiva di atto di notorietà, relativa al regime IVA e altri finanziamenti con fondi pubblici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ichiarazione sostitutiva di atto di notorietà, relativa al “de minimis”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urricula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7" name="Rettangolo 4"/>
          <p:cNvSpPr/>
          <p:nvPr/>
        </p:nvSpPr>
        <p:spPr>
          <a:xfrm>
            <a:off x="19404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30T07:38:51Z</dcterms:created>
  <dc:creator>lavagnino</dc:creator>
  <dc:description/>
  <dc:language>en-US</dc:language>
  <cp:lastModifiedBy>Capurro</cp:lastModifiedBy>
  <dcterms:modified xsi:type="dcterms:W3CDTF">2013-07-02T12:33:51Z</dcterms:modified>
  <cp:revision>100</cp:revision>
  <dc:subject/>
  <dc:title>Presentazione standard di PowerPoint</dc:title>
</cp:coreProperties>
</file>