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BC2B-6FD9-41AB-8AAA-10778472A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B1DF-3433-4C08-9FFC-B77AA0DA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C275-F206-427E-ABF6-2FD835FD7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594A-64B0-4BDE-BAD5-029C0121C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C4E78-B5A4-4CB9-9B65-177958F39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5D951-C217-4570-A4B7-7AF2EB8BC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4FDC9-9EB3-4052-8027-0CA4107E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A960-DE93-44F0-B70F-B8F8327F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98D3-5CCB-4C63-BA78-DE12DD4C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EBCB5-AD4F-4DDE-A21C-1B2A0C2F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EDC79-8AD8-493D-B049-F9D56CB98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8299-604E-453F-9D44-33BE348C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3933B-0D38-47A9-8F19-2EB942E8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3A602-250A-4952-93B4-B835155D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2DC03-CC88-49FE-92A8-36868C0C8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3EB57-767C-40A8-9208-9C84ABA07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6241-1907-449B-94F1-F5D1E9E26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6978-1F99-4717-B109-AD3F981B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7ED7-4E1E-4065-BD80-A2B6B558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0CD2-7407-4B4D-8C7A-AA28D038D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6E4C-6F1C-42E9-91E7-5A1F6FD0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4608-CF1F-4425-B4BA-E34DE742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2335-4931-47FF-B0ED-869281EA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6F93-4ECB-4FE2-BAB7-D20D96BC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FC32E-C363-4EFD-B025-D988B96316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20C37-E3D8-4CD3-9693-F042C51291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Regione Liguria</a:t>
            </a:r>
            <a:br>
              <a:rPr sz="44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Settore Prevenzione, Sanità Pubblica, Fasce Deboli, Sicurezza Alimentare e Sanità Animale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99700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degli alimentaristi e degli OSA ai sensi del Rg. 852/2004/CE e della DGR 793/20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cc"/>
                </a:solidFill>
                <a:latin typeface="Tahoma"/>
              </a:rPr>
              <a:t>Dott.ssa Elena Nicos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Unità formativa  minima per tutti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8 ore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rischi e pericoli alimentar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rincipi HACCP e autocontrollo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legislazione alimentare obblighi e responsabilità OS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Conservazione aliment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pprovvigionamento materie prime e  tracciabilità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ulizia e sanificazione locali e attrezzatur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igiene personale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manuali Buone Prassi igieniche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mbiti, tipologia e significato CU</a:t>
            </a:r>
            <a:br>
              <a:rPr sz="4000"/>
            </a:b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Unità formativa  aggiuntiva  per titolari OSA, responsabili autocontrollo e addetti produzione e preparazione alimenti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ulteriore 8 ore =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6 ore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piano autocontroll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unti critici (individuazione, monitoraggio, misure correttive)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GMP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Allergie e intolleranze alimentari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Rischi Specifici  del processo produttiv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eventuale  modulo di 2 ore  per celiachia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ECCEZIONE per :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Per IMPRESE AGRICOLE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e svolgono solo attività di produzione primaria  di prodotti vegetali  (no trasformazione, manipolazione ecc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quisiti docenti: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esperienza professionale documentata  nell’alimentare almeno di 2 anni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laurea in medicina, veterinaria, produzioni animali, agraria, scienze ambientali, farmacia, chimica, biologia, tecnologia alimentare, dietitistica, prevenzione, </a:t>
            </a:r>
            <a:br>
              <a:rPr sz="2400"/>
            </a:b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periti agrari e agrotecnici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ossono svolgere docenze anche altre figure  ma su temi  specifici e in maniera residuale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ggiornamento: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di norma ogni 5 anni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(periodo transitorio 3 anni  e di 12 mesi  dal 25/07/2012)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ddestramento (aspetti pratici e prassi  legate alla mansione e ai rischi propria impresa):</a:t>
            </a:r>
            <a:br>
              <a:rPr sz="40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almeno annuale ed entro 180 giorni  dal cambio mansione ( secondo modalità individuate nel piano autocontrollo)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per STAGIONALI  ecc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formazione  già acquisita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periodo transitorio e contratti lavoro inferiore a 30 giorni  solo addestramento  di 4 ore</a:t>
            </a: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è solo uno strumento  per  assicurare  il rispetto dei criteri  igienico sanitari  previsti dal Pacchetto Igiene</a:t>
            </a:r>
            <a:br>
              <a:rPr sz="32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OBBLIGO DI RISULTATO E NON SOLO ADEMPIMENTO FORMALE!!!!</a:t>
            </a:r>
            <a:br>
              <a:rPr sz="4000"/>
            </a:b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Sanzioni anche  se  ottima formazione  ma condizioni igienico –sanitarie   scadenti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2349360"/>
            <a:ext cx="1008000" cy="1440000"/>
          </a:xfrm>
          <a:prstGeom prst="downArrow">
            <a:avLst>
              <a:gd name="adj1" fmla="val 50000"/>
              <a:gd name="adj2" fmla="val 35714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G. 852/2004/CE All. II cap. XII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in mancanza  di indirizzi nazionali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DGR 793/2012 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er garantire omogeneità di valutazione   della formazione</a:t>
            </a:r>
            <a:r>
              <a:rPr b="1" lang="it-IT" sz="5400" spc="-1" strike="noStrike">
                <a:solidFill>
                  <a:srgbClr val="0000cc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2708280"/>
            <a:ext cx="1223640" cy="1224000"/>
          </a:xfrm>
          <a:prstGeom prst="downArrow">
            <a:avLst>
              <a:gd name="adj1" fmla="val 50000"/>
              <a:gd name="adj2" fmla="val 25007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907920"/>
            <a:ext cx="129528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i  deve fare formazione ai sensi del REG. 852/2004/CE?: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tutti gli OSA (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persona fisica o giuridica responsabile di garantire il rispetto della legislazione alimentare nell’impresa posta sotto il suo controllo)</a:t>
            </a:r>
            <a:br>
              <a:rPr sz="2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- gli addetti alla produzione, manipolazione, somministrazione, confezionamento, deposito e trasporto  di alimenti</a:t>
            </a:r>
            <a:br>
              <a:rPr sz="4000"/>
            </a:br>
            <a:br>
              <a:rPr sz="4000"/>
            </a:b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DGR 793/2012 eccezione per formazione di base  per  alimentaristi  con specifici titoli di studio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Requisiti  della formazione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specifica (per mansion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appropriata (per tipologia impresa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ermanente (aggiornamento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documentata (attestati – libretto formativo ecc)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Chi può erogare  formazione?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gli organismi  formativi accreditati  dalla Regione Liguria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ssociazioni di categoria, Università  CCIAA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ASSLL ( non direttamente alle impres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imprese alimentari  in proprio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Caratteristiche  generali dei corsi: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N° di discenti  25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verifica finale con prove  teoriche- pratiche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rilascio  di attestato di idoneità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con dati anagrafici, data di superamento  della verifica, n° di ore di addestramento, argomenti trattati, organismo che ha erogato la formazione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Per ogni corso                 programma formativo 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responsabile del corso e qualifica professionale</a:t>
            </a: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(resp. Gestionale, resp. Scientifico, referente interno ecc.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N°partecipanti  tipologia attività e mansione  alla quale si rivolge il corso   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escrizione unità formative (contenuti,obiettivi, durata, metodologia  didattica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alendario lezioni (con date orari,  sedi di svolgimento e docenti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modalità di verifica  frequenza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urriculum docenti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ichiarazione di conformità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69228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Il programma formativo  può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essere richiesto da AASSLL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Contenuti minimi del corso 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distinto in base a 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attività a minor rischio (solo vendita, somministrazione, deposito e trasporto alimenti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- attività a maggior rischio (produzione, trasformazione, manipolazione  alimenti , somministrazione)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5:40:02Z</dcterms:created>
  <dc:creator>zappavigna</dc:creator>
  <dc:description/>
  <dc:language>en-US</dc:language>
  <cp:lastModifiedBy>nicosia</cp:lastModifiedBy>
  <dcterms:modified xsi:type="dcterms:W3CDTF">2013-07-03T16:42:05Z</dcterms:modified>
  <cp:revision>94</cp:revision>
  <dc:subject/>
  <dc:title>Regione Liguria Ufficio Veterinaria e Sanità Animale</dc:title>
</cp:coreProperties>
</file>