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  <p:sldId id="259" r:id="rId29"/>
    <p:sldId id="260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slide" Target="slides/slide5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3C0A1-BB2B-4B7F-A0C5-F9E73AC97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EBED1-ECE8-4AD6-AB75-BF7BCA38A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BDF1F9-9045-413A-A70E-E5B113B39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3E32C2-F104-4F11-8E5F-044852AC4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17790A-63B0-49D2-AACC-3AEC6C775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FC068B-484B-412B-91F4-2F7ACF501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B69328-F519-483E-83FC-818E57CFA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86ED18-C943-4B0C-B6A5-C6DBF9D65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7B1BAE-5FA1-4DD6-A573-7B939C536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B28234-548B-480A-A3F5-883721AFA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5299C4-71C6-4E4E-B05E-05E7CEF40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2DAEC7-DC5A-473B-972A-15EA46B0D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F8C7B-C8DB-4646-AB19-4F0E8B273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4E6CBB-908B-4791-A637-C89EB0223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9D6494-AAEF-4283-994C-C4AAD10C7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7B0067-D45B-4E44-A2E3-6EC51F92B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B0BC15-BF38-4FA8-BA46-1F9691AC5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B8CF00-EA3F-45BD-9A7D-3D90602A0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B6883F-EFAB-486A-ACB9-E72ABE1F9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E9CDE7-C323-430E-AF47-FF487B13F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4E3E93-6A2B-4079-9912-60AD970C6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2E0E53-E358-430C-A4B2-022CF1569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079DFB-5449-4D5B-BB0C-828A4D3EE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18C41-E1D6-4D10-B70F-126C5FDA8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12C19C-83DF-4222-A709-75A9EDC9D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A60767-B256-4550-99E4-F6E55600C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180858-6E46-49B8-96D5-128111326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214916-FA92-4A77-8CC1-9C23F3C3B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B98C1C-DF94-490F-862A-DDBB7AA82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C50B3C-927F-4001-8B96-6B9128F0A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FEEB29-224A-4515-BF50-7715C7418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DDE11F-C326-47FB-ADBF-865666B01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EF2CF5-187D-406F-93CC-F99228953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0941A8-FA62-43E5-990C-C3936EE54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2813C-937D-454A-AC07-168831EFA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A033E0-FA69-4522-8030-7DA1E606D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74C009-3881-452C-A138-3122AA87A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571D9A-54A1-4DC1-A500-E8D2BFC41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B11844-19C5-4859-BE8B-928B86DBB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268308-AE2E-483D-AE74-BD8AA2F25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63110D-07EB-4279-A668-86463F5BF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FDDE26-302E-44B4-98CA-2B4F2EDFA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4A7239-E97E-4E1D-BDC3-5C0EDD216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AB8F8E-FC9E-4858-8B45-C10AD6859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D04A9F-435D-49D3-98B1-E8C326F2D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CBF65-1973-49D0-AB1F-505D69A2B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22EFEA-AB38-4712-A371-E77D444F3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62AA95-982F-4D9C-AC2D-7938B8391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1EACFF-E579-4593-989B-4ACBFE051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6302BF-0264-4353-8D8A-73C2FD8C8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2C5AE0-7212-428D-9904-4D05A8497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FABC6D6-595B-4E13-A2B0-8FE792F7D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917AF7D-BD27-46BA-8957-1CCBB9688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B6DE447-FAA4-402C-BEFD-76FFD33C4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A5A1610-4C50-48A8-A2A6-E3CFD3BFB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6BB6504-C725-49DB-A2A6-6684216DF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1ACDE-2873-4DFC-A1CF-AD1D1CC10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5E161B1-53B8-4752-8759-8C53D2A66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8F2B1DA-2285-4F08-9BFE-DEFD4A295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6D5C9EA-519D-40BA-99FF-D19D546D1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F6C5654-950C-408F-9C3E-345D28E81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1DC03E2-D78C-4A13-9A97-318AFDA12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3D86988-5865-4D53-B210-C4F563C96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533B9C8-8CA2-4322-9643-5A80985B9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B214811-6925-47CF-BC31-8A9073CE7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DC53CB9-0E48-403B-B643-11A1E66B2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AB2302D-AA11-4CE2-A045-51DCB794C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A7202-9485-432F-A193-CE6A0306F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378EA95-73D7-49D3-8206-4528B4555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0AD506A-0DA5-41AD-B7C9-1F5CF6A95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C2B65BC-CCF5-4FF2-A00B-E02418F40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A07E366-B677-4806-9D5C-DAD71275D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35B5C43-EEE1-4EB5-96FE-842570CCF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1D5609F-5FBE-4906-BBC8-ECE19131B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84BA80E-3E89-4369-B6CB-B2BE89CCD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C170E3F-4749-4C0A-906E-42F704FDD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0164458-47FA-48EF-BBDF-0340C83A4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86F9CB1-3EDB-4002-BBBD-66689255B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197D8-3B93-426F-B0D5-ABCB81797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B34CFA4-9DE2-48CE-A007-24A95354A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91187CE-3A64-45F9-992B-1C44C089B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66BBDC4-E54A-439A-AA5C-0A4EFD442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DF4B072-7D52-4227-9CF3-344F78E36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FA33234-18CA-4155-ACFE-CD5B5D1AE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CA63359-DFAA-4052-A117-5E5226776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09A7C2E-9FFB-4821-995B-5BF2F8718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3B396D5-DE24-4686-9803-291AB280D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259577C-AE12-4573-98C4-CD56AD1D8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D18113A-E922-4080-BE0A-CCB156BD1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1410F-DDB1-414E-BE72-CA158DD06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07A5388-3005-41E3-A5CB-E1873FDBA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6D8639B-6206-4868-A48F-B75941F59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00CDCC0-5204-41D8-A876-18547E6FF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1D2DF5E-28A1-45EB-9210-0F2B59A7E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29973BF-8EBA-477D-B2E0-F6293DCB7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97E2BD2-6EE9-4669-8834-32E9E1A2F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1CDF2D1-FE1F-4593-9EF3-AB491405B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FB38903-4197-4118-84D0-C1BF3EBEF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207B5FE-6561-4D65-862A-296062C99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67C38FF-8652-4349-AE7B-1FB567D2A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B37E6-8555-4338-9DF0-17440AD37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4DA0AC2-6C6C-45C2-9BD6-E661FDBEB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9BF0C2B-D513-460C-9F89-4AA94009F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4605692-97D3-4695-9330-BB5CA8B53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37EB92A-7F9D-42D3-97CC-23E69E97D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E912654-F7DD-428F-933E-DC517A04D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24F1EA3-2842-4EDA-839E-791A7A971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7C952A1-E827-4F40-B182-53078ED48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60B1BBF-07E8-4E66-AF6F-BBB471E01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8D824C0-5ACD-45B9-BA0E-35EE4C130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91004BA-F39A-4055-8B64-B22E12793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46EE6-C421-4CDD-883E-E300929D8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0C0EB-5FBA-4FD0-AA84-DD42462A1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346272B-7565-49D4-BCB9-540E7ED72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A26A85A-C388-4B0F-9B76-3074C2F71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3370E11-CA0F-409B-B3E5-6D5F952C7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C3307B1-96FF-4EE0-ADE6-E09A480C4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DD045B5-0DFE-4562-829F-DDF4D93BC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51246A7-222B-4D3A-B5EF-EBCA2C1C0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BD9959D-AB15-4AC9-95C6-D51FE5955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302B0DE-D332-4BF2-AD80-477CF29CA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FBDF996-2BDF-40F4-8C88-1106304F1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03CC2B2-5AE1-4582-8A23-1CE19DA49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9EB08-0034-447E-8224-7F05D7AE1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D7891B9-4A15-48F0-80DE-FE22FF277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EC33AD2-C87F-49E2-B6E2-CA303EED7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7FDE29A-AD14-4D54-A2DB-90FC6819E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3789F72-9AB9-4920-81D6-C28A7878A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ED3915A-AFB2-4788-913A-A1B1B23FD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342DAEB-BAE2-4F07-ADF7-65365CD50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30E6805-7241-4084-9A0D-B7FB6942B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2FCDE56-1DDD-455B-A581-CF24FD683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0D7191A-E92E-44F4-97D1-1C0A5544D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BE338AA-AB43-475F-BD8C-CA66D8FC1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D340A-9E35-4ACC-A726-72ADA9F99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D0C6A24-5351-4109-961A-677A37E5C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C777109-C142-4A91-95DC-59E68C319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F97E880-9109-478D-B94B-5EDCC2FA3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E8EBC98-A6E5-4668-B8C2-C45450F8A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5C56BE3-6CBD-4B5D-AEEC-F77BE8D47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9C7F0EC-4A86-471C-A532-4320CDDF4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8B9886B-4591-4CD1-BBA8-91F93F853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20FE218-9CE9-4698-9507-7CA703098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8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AB06E83-2755-4E35-903A-B7FF7782B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821177B-18C6-45C9-87DF-5790AC336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0359B-EC38-4E27-840E-3F1F24ED5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D611F59-B392-49AD-8199-E9F915937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7B27B41-8DE0-4038-B0BE-BE5AAFE3B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0DDE14F-5E50-43EB-951D-26F4647B9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1A75189-617B-4DF6-92C8-703D766D7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DBE32B7-F9D9-42E6-80C4-92EEEA30B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732148A-BBE2-4AA1-8588-63E0E6036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68773AB-BBF4-4C72-9C17-B281737FC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7E9ABE6-ECF2-4CB6-AB2C-5DF64DDA0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AE4A7E4-2CBB-4FFD-BA52-D49EB273A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D838479-F373-4486-8572-98C2E7248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12F08-A6DA-4A32-879F-2B40B397C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5DB82AA-9068-4C3F-8142-81DAA2906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0738D50-45AA-4371-99E6-04612A238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FB0C04F-93D3-43CA-8BDE-C036D1981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5EEED09-3656-419D-8572-1A48A74F9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46921BA-42E2-4A6B-862D-92B9005B4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6FAC61A-8F55-4E10-AB4F-57218FB06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0FEC570-EC01-4031-8722-7FFD3A41A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CDD8737-B8F6-484C-9491-94AA0A27F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EB91ECD-6F8D-40BE-A05C-5F3D68DE5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9CE0A54-0048-4B8F-A48F-8D896F9CC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B52881-B7F5-420A-B286-798F826BE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E79C49A-D43E-49CE-A3A0-AA03B71F3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4FA05EB-9CBB-4ADB-9E34-CED702A86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375450A-4C19-48EB-A840-F94708E8B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F78F956-A44A-4570-B91E-85011BFF5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84BB607-6D24-4A15-8551-156E98C39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42456DC-DAA7-4DAB-8642-56020332D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B85B277-158A-4059-8913-13E5002A9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F6B645A-5532-4D23-B10E-7ADF7897A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2D35BBD-F862-430D-956C-6159C89C3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477F5A7-8ABD-4F6D-BF8B-2F148D134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570CED-386A-42FD-BEFF-10153C6FE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90885C4-1478-48FE-8AD4-E8F096E23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8B1064D-9EAB-4293-B14D-E0D8EFA62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0C91947-E1F8-4C50-8090-7D9FD3154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E1B8C46-4F65-461F-AB3B-2E2B346A0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2FFC2BF-EACB-44E6-9000-B7C52D2AF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D1A195D-5812-40CA-90FA-5D1FCD038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81BD347-397E-411D-AD86-51524941A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74C36FD-BBCD-4D98-9240-608CAC6BD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DC7C72A-61B4-4B2B-941C-623C5C8D7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2AF751A-5BA2-469B-AEDB-3D4B6823A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E901EA-452E-44C6-91B6-323F5FD3D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204B73F-0BEB-4B73-9821-41265F297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7AABEE6-1DD8-4B20-8648-029B64163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9459559-40FE-4F46-99C0-1F7C144E8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295BE19-B077-4411-A960-68D52DC9D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344E699-05BA-43CB-A8A5-69A21F916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A176A5A-3838-462A-92C5-77BA98042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5B7543C-DF9E-4C05-B0EA-8DED5BA62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56D1F59-B58E-4C90-A2F3-AF61794C8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315B663-2A93-49CB-98EA-75AA337FC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8A3E3AE-09F9-4B4F-A8CA-580D51541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6556B8-F5E0-40A5-BCF4-676165CD3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C6CB029-4AD3-4C20-8FA2-95D338828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7B4E334-9561-4123-893A-8150BE12B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47FA461-8464-44E3-865C-D12228732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C254341-FB2B-4FB9-9B89-539071BEA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21E8F7C-4D3D-43E8-ACA3-CDF655483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0FA0919-B8BB-4E16-9CF0-41AC9DCF1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ECBD7C3-9D42-469C-937A-1A5E0BDBA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4EAA6B5-5FBB-4E35-B208-2A510B403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C9BB3DA-94B0-473A-952A-91F4B9414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6669A8-C7E8-4754-9AAC-743E96758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92150-4A55-40BC-807B-E0C5FA478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EFCE9C-C187-44A4-8361-D57E4A2EB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86A2D5-DA07-4F88-ADC8-03D4D81F4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F5156B-5467-407F-828A-2753134A3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080BD6-96DC-4B21-BD32-5249DAC1F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82DD45-4835-409E-ADD6-540806F52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833A7F-24F7-4BC9-955C-F98B98CC2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969C72-226E-4DAC-9F09-47A713E59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A95CB3-26FE-4F0A-88F0-D0567461E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2A8CC5-5411-469B-865D-8204B10F6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4C8964-6FCB-4F08-9593-C5A979407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FBB30-9F36-4A14-9CA1-1FB294B4E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865D58-883D-43A5-B295-996306B88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38687A-733C-4E87-A284-CEE6986B2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6E97CB-960C-4908-AD51-53AFF4A22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F2DECF-12A7-467D-AF6A-F865A2C55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87BD97-F7C7-4DCD-90F8-3A633A550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93C0BF-0669-4C85-8109-5A41ADAB7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F3BD5D-A12A-4F5C-B324-BB43022E1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54C0D1-46BD-44EA-A5CC-059FC66D8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E0E772-42A1-4D51-BEBD-98C9CE603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D3C5FC-09DC-40C6-8E00-674B0585C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6A07E-3F4C-4CAB-B786-1667DE998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6306E0-C5EF-4F66-8346-332818981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E71448-4BC9-4EF9-806A-3DDE0E641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BFE439-C74C-4480-84B8-32B23DDF0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45EFF6-661F-41E7-ABAF-BCF3F3D99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69F8BE-D25B-406B-B811-C87329336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10CA31-2A2C-4115-A30B-55A717F26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DEAA45-29E8-4ACB-B244-E1CDB628C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9F3D63-AFE9-4B89-818A-ACE860025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CCED7A-3A9D-44B0-ADBA-7D14D2F7F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2F4A32-900A-4E89-B6DF-63B11CC8E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0C889-3CE9-4291-8D81-9F34B0581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B65525-0B2B-4C2B-A70F-30CDF9C35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41A435-AFF2-4518-B248-AE2D18076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55A73B-2EC6-4955-A03A-8C8667A6E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59E615-409E-49E7-91D1-0EBA2D34F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3259EB-3AD7-4427-BC94-4FD102BA7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6494F2-54C4-4091-A35A-14ADD0824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1B43A9-7521-4DE7-8244-2CE2A2DA3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8571F4-FD67-40B2-8612-9F88827BB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9A294F-4D0D-4172-AE45-8CA8476D4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D06996-565F-4568-9190-697F71CCF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D9F3F-388A-49A9-BB1F-61B042AA1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EAD9FB-47DE-49E8-9A69-CC2F664EC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118F4A-65D3-456A-B6D3-6D60F783A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124318-40EF-4AA1-BCA6-8BF48B75F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A83EEB-8251-4CFF-9A35-338E7D8C9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F54CF3-A7E9-45AF-9281-61F418E9E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6723C6-C1D9-4477-9D64-B7BE6F0D0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2FD08F-5E55-4DF7-853E-9073C17D8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0610CC-93E2-4A21-A5D1-CA8246A91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EB5290-961A-493A-86B9-BED4C79A2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E71D4C-1DD2-45FE-B5AF-9B33C0606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5D88C-59E0-4F42-A63F-5BABB9AF9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3CBB40-6CAC-4B08-8D08-562033099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B7D276-331D-4DA5-B3E5-192B54D83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490245-B445-43FF-9EF9-D21221E32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B1AD43-E371-4227-B8B0-9EB10AA78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099242-BE41-4689-88A4-2B6544921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1F7C97-E8F6-4E93-A3AF-2D2B08688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A18E28-F724-4F37-951E-BE45F4E86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A94F97-40EF-4958-8295-9C4CF77F5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772CD7-4941-481B-A0A5-BE7F12B15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A035DC-73AA-4C50-B64E-EB5971C92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805F4-9F96-4F0B-9CBC-B2C4148B5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944CA3-FCF5-4205-9FDC-BB41C6BCF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238B52-FAAD-4BC9-BA33-3E2CD6F80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4BEB86-F7D2-49A9-96A7-3DA534CE7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34210A-96F1-42AD-B445-05961C86E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AED164-8B4F-45C6-94C3-7D3FAC79F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095F00-BFED-4B17-8208-97B725B7F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233354-DB6A-4F42-BD2F-C3A66EFE2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E6ADCB-5C21-4BFA-98C3-D01E3489F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F601CB-1135-47DA-B436-19E097B41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4A4E91-9AC8-44F3-BAA6-482F5FE4F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38D86-6292-4782-B4F1-CEFA75601433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D3F5B-C478-4E89-AA0C-714603978F41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36397-1806-4C8D-87D2-277D08C9CDEE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00202-E79E-4D71-9250-683CBDE9FB0A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7D35B-D540-4778-900F-D25A4588C2F0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BABBC-06A3-441F-AA11-BAFDDB234D1F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7D137-2B79-4378-92B8-E1EA7C8D8591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4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0DBAD-D804-4B4D-B030-B2DBE2EF6EB9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5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040D3-ADDB-46A3-BC59-B1C1C49120F1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dt" idx="5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ftr" idx="5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AB0F2-D16B-47AB-B068-C632269300A7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 type="dt" idx="5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 type="ftr" idx="5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AAD1E-8521-4A44-91FB-8935960C33A7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1BD14-BCE9-41A8-88D4-5C34266F1340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 type="dt" idx="5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 type="ftr" idx="5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F6EBA-BBA2-43BD-A645-A9EFCEFF54C7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 type="dt" idx="6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 type="ftr" idx="6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48267-8031-403D-84D0-F86176D5508B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 type="dt" idx="6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 type="ftr" idx="6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 type="sldNum" idx="6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1CE2B-AF9A-4013-BCF1-16DA8D9F6BF1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 type="dt" idx="6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 type="ftr" idx="6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 type="sldNum" idx="6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A8C07-A2E6-4947-8BCF-D959B3149125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 type="dt" idx="7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 type="ftr" idx="7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 type="sldNum" idx="7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F071D-E250-421A-979C-BBBBE3306AD6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1BF77-21E4-4C52-8DAA-00A9659FCB2D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8ECAE-4790-4A87-9205-E9DA4E184CA9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E6D5C-E27F-4926-BAD8-6819144F28E4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3D1A7-4327-45DB-A561-623FE2EBACD5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960E4-2DCD-4BCC-B189-097312F1316F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74BFD-003D-4ABF-9F16-201076CEB691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9BABE-FF75-4609-83BE-94694B4CC14F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Rectangle 3"/>
          <p:cNvSpPr/>
          <p:nvPr/>
        </p:nvSpPr>
        <p:spPr>
          <a:xfrm>
            <a:off x="0" y="1066680"/>
            <a:ext cx="9144000" cy="20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 baseline="12000">
                <a:solidFill>
                  <a:srgbClr val="669900"/>
                </a:solidFill>
                <a:latin typeface="Tahoma"/>
                <a:ea typeface="Times New Roman"/>
              </a:rPr>
              <a:t>Reg. (CE) n. 1698/2005 del Consigl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 baseline="12000">
                <a:solidFill>
                  <a:srgbClr val="ee8f04"/>
                </a:solidFill>
                <a:latin typeface="Tahoma"/>
                <a:ea typeface="Times New Roman"/>
              </a:rPr>
              <a:t> </a:t>
            </a:r>
            <a:r>
              <a:rPr b="1" i="1" lang="it-IT" sz="3200" spc="-1" strike="noStrike" baseline="12000">
                <a:solidFill>
                  <a:srgbClr val="669900"/>
                </a:solidFill>
                <a:latin typeface="Tahoma"/>
                <a:ea typeface="Tahoma"/>
              </a:rPr>
              <a:t>PROGRAMMA regionale di SVILUPPO RUR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 baseline="12000">
                <a:solidFill>
                  <a:srgbClr val="ee8f04"/>
                </a:solidFill>
                <a:latin typeface="Tahoma"/>
                <a:ea typeface="Times New Roman"/>
              </a:rPr>
              <a:t>      </a:t>
            </a:r>
            <a:r>
              <a:rPr b="1" lang="it-IT" sz="3200" spc="-1" strike="noStrike" baseline="12000">
                <a:solidFill>
                  <a:srgbClr val="ffff99"/>
                </a:solidFill>
                <a:latin typeface="Tahoma"/>
                <a:ea typeface="Times New Roman"/>
              </a:rPr>
              <a:t>2007 - 20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Rectangle 4"/>
          <p:cNvSpPr/>
          <p:nvPr/>
        </p:nvSpPr>
        <p:spPr>
          <a:xfrm>
            <a:off x="225360" y="4869000"/>
            <a:ext cx="8701200" cy="12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669900"/>
                </a:solidFill>
                <a:latin typeface="Tahoma"/>
              </a:rPr>
              <a:t>Genova   -   4 luglio 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Rectangle 5"/>
          <p:cNvSpPr/>
          <p:nvPr/>
        </p:nvSpPr>
        <p:spPr>
          <a:xfrm>
            <a:off x="2556000" y="6541920"/>
            <a:ext cx="3671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857160" y="2857320"/>
            <a:ext cx="7772400" cy="128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MISURA 111</a:t>
            </a:r>
            <a:br>
              <a:rPr sz="2800"/>
            </a:b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azione b) “informazione”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"/>
          <p:cNvSpPr txBox="1"/>
          <p:nvPr/>
        </p:nvSpPr>
        <p:spPr>
          <a:xfrm>
            <a:off x="142920" y="1714320"/>
            <a:ext cx="8858160" cy="45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ROGETTI DI INFORMAZIONE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, che devono prevedere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organizzazione di incontri informativi (</a:t>
            </a:r>
            <a:r>
              <a:rPr b="1" lang="it-IT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bbligatorio)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ntendono una serie di riunioni collegiali, di durata non superiore a 2 ore, aperte a gruppi omogenei di partecipanti, in numero non superiore a 10, rappresentativi di specifici settori produttivi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organizzazione di seminari e convegni divulgativi (</a:t>
            </a:r>
            <a:r>
              <a:rPr b="1" lang="it-IT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bbligatorio)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niziative informative di approfondimento per un minimo di 11 destinatari e una durata di almeno 3 h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E’ ammessa la 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alizzazione e/o la distribuzione di apposito materiale informativo (facoltativo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50920" y="981000"/>
            <a:ext cx="864216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Azioni finanziabil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0" name="CasellaDiTesto 5"/>
          <p:cNvSpPr/>
          <p:nvPr/>
        </p:nvSpPr>
        <p:spPr>
          <a:xfrm>
            <a:off x="166680" y="6510240"/>
            <a:ext cx="361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PSR - Misura 1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"/>
          <p:cNvSpPr txBox="1"/>
          <p:nvPr/>
        </p:nvSpPr>
        <p:spPr>
          <a:xfrm>
            <a:off x="142920" y="1643040"/>
            <a:ext cx="8858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RIMO BANDO  (aperto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ggiornamento sulle politiche comunitarie agricole, forestali e ambientali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alvaguardia e tutela del territorio e dell'ambien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ntroduzione e trasferimento di innovazioni produzioni con particolare riferimento biologiche e ecocompatibili e gestione risorse (risparmio idrico ed energetico e uso di fonti alternative, protezione suolo, etc.)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sportell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Un solo progetto per prestatore di servizi (indipendentemente dalla tematica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ata di fine progetto:  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31 ottobre 2013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250920" y="981000"/>
            <a:ext cx="864216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Tematiche ammesse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3" name="CasellaDiTesto 5"/>
          <p:cNvSpPr/>
          <p:nvPr/>
        </p:nvSpPr>
        <p:spPr>
          <a:xfrm>
            <a:off x="166680" y="6510240"/>
            <a:ext cx="361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PSR - Misura 1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Freccia in giù 4"/>
          <p:cNvSpPr/>
          <p:nvPr/>
        </p:nvSpPr>
        <p:spPr>
          <a:xfrm>
            <a:off x="3929040" y="3286080"/>
            <a:ext cx="642960" cy="500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"/>
          <p:cNvSpPr txBox="1"/>
          <p:nvPr/>
        </p:nvSpPr>
        <p:spPr>
          <a:xfrm>
            <a:off x="142920" y="1643040"/>
            <a:ext cx="8858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ECONDO BAND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presentazione delle domande dal giorno successivo la pubblicazione sul BURL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norme obbligatorie in materia di condizionalità (euro 120.000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norme obbligatorie in materia di sicurezza del lavoro (euro 120.000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alvaguardia e tutela del territorio e dell'ambiente (euro 40.000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istemi di qualità e di rintracciabilità (euro 20.000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 progetto per tematica (per Prestatore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 – graduatorie distin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l progetto deve svolgersi in un arco temporale non superiore a 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10 mesi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entro il</a:t>
            </a:r>
            <a:r>
              <a:rPr b="0" lang="it-IT" sz="16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it-IT" sz="16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31/12/2014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250920" y="981000"/>
            <a:ext cx="864216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Tematiche ammesse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7" name="CasellaDiTesto 5"/>
          <p:cNvSpPr/>
          <p:nvPr/>
        </p:nvSpPr>
        <p:spPr>
          <a:xfrm>
            <a:off x="166680" y="6510240"/>
            <a:ext cx="361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PSR - Misura 1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Freccia in giù 4"/>
          <p:cNvSpPr/>
          <p:nvPr/>
        </p:nvSpPr>
        <p:spPr>
          <a:xfrm>
            <a:off x="4000680" y="3786120"/>
            <a:ext cx="642600" cy="4287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90400" y="91908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Caratteristiche progettual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00" name=""/>
          <p:cNvSpPr txBox="1"/>
          <p:nvPr/>
        </p:nvSpPr>
        <p:spPr>
          <a:xfrm>
            <a:off x="357120" y="1571400"/>
            <a:ext cx="8462880" cy="45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are il “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gli firma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per ciascuna azione informativa) ovvero 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enco dei destinatari nel caso di invio informatico delle newsletter e dei bollettini (previsto nel 2° bando)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ispettare le norme di antinfortunistica e prevenzione degli incendi nelle sedi di svolgimento delle attività previste (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obbligo di stipula di assicurazione contro infortuni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to del progetto: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euro 4.000 per singola provincia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euro 15.000 per progetto regional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unicare al Settore Ispettorato Agrario regionale: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singola iniziativa informativa (preavviso di 7 giorni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 varianti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OTA BENE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per il 1° Band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edisporre un 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port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riassuntivo contenente i fabbisogni e i risultati attesi (settoriali, territoriali, filiera, etc.) dalla nuova programmazione di sviluppo rurale 2014 – 2020. (da inviare al Settore Politiche Agricole entro il 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31 ottobre 2013)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.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Rettangolo 3"/>
          <p:cNvSpPr/>
          <p:nvPr/>
        </p:nvSpPr>
        <p:spPr>
          <a:xfrm>
            <a:off x="276840" y="6488280"/>
            <a:ext cx="157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PSR - Misura 1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30T07:38:51Z</dcterms:created>
  <dc:creator>lavagnino</dc:creator>
  <dc:description/>
  <dc:language>en-US</dc:language>
  <cp:lastModifiedBy>Capurro</cp:lastModifiedBy>
  <dcterms:modified xsi:type="dcterms:W3CDTF">2013-07-02T13:44:54Z</dcterms:modified>
  <cp:revision>146</cp:revision>
  <dc:subject/>
  <dc:title>Presentazione standard di PowerPoint</dc:title>
</cp:coreProperties>
</file>