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  <p:sldId id="259" r:id="rId29"/>
    <p:sldId id="260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slide" Target="slides/slide5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8F824-0535-4073-AEEA-E7FCCCD83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5FA90-2F84-4F34-91E0-A8821C155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8FACC3-4B53-46AB-AA18-02E3E6B95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E7A1E9-4AFF-41AD-9041-699F31E7D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43C76F-2A47-4939-96C7-70BD1A765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605496-086D-4758-BB3B-C55F750FE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0836DE-9D3F-447D-AA31-E8A25D0D2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9ECDB9-EBE3-4F42-B074-2D75249DE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CB421A-2154-4662-905B-94EA2CAAB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6A2102-4591-475A-9ECD-5EBA6FE9D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8771EF-D5D4-4409-9D98-6096F3504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CDB952-D0F1-461B-9F79-8B1310706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F128C-211B-4219-A3D1-40246B44F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470671-0335-4750-81D9-6F504CECF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4388D2-F6EC-4C34-BA1C-D64F0478E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F4D100-CC69-4D55-B4B1-B8685F228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AD835C-86D4-488A-A8A4-80E1367B4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A3598D-2AB1-4F7F-A839-5FE89C253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4F7E4B-B33D-49D3-A3DE-CF37B096A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FF769D-50A2-4E64-AED7-A2D909062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AD0DFD-2548-40A2-85D5-79E29C291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3DD8D6-A351-40A4-B739-D77A19618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CEC6D7-6259-47ED-BCA2-C5AAF1B11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1D7AA-1AA7-4772-A156-C6A0976A7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D2FB27-7627-4105-8740-7315444DF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8D6B9F-52F8-412A-AC9F-B71FB03E1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537D20-0B2B-43EE-9945-06D75EFA2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884936-736F-4A64-A3EF-F6B0B9984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AFA004-D265-4614-B9DD-77463A952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C0B540-7699-4985-8DED-CC2DA0000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752F72-4C1F-40CD-98C3-C67730CFD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9A8148-B392-493C-BE90-1F150C479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5ECB85-4BEC-4575-AB69-E889561F1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67FD4E-2E10-4DAF-912F-F25DEF1D3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3C506-D2DB-4099-BB81-ED05C5890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EAE680-BB30-4320-8E87-073D0286A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8AD750-3D52-4476-A652-EBFAB2DB6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1C174D-A476-4905-9A5A-FEFBDF768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28E782-9A90-4762-8C9B-5B5659E92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DE1083-EE55-49CC-8C5C-3B8D9368C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F8827F-D05C-4A7E-A755-F0FC870E5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0960C4-4B39-4E70-B3F0-CE32394B0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88B62E-32F1-440F-946F-FA7E3F1DB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44ABA3-222F-497E-9EEE-F0708EE81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FBFDD8-E446-4766-983F-E1D1D5094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919DE-688D-46A9-8514-AB57BBEA5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617458-6862-458B-8048-17A9105BC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4B52B8-0533-4F0C-9D66-774575A94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9AA726-8E26-4591-AB6F-BC84678F2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854285-8B77-4DDF-A9B9-4B12FBC8D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C83298-3529-4C8A-A5EA-EE30B61B0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1D3E165-1A50-4F0F-BB31-D614313FF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A058D5D-1E6C-45E8-85B4-EDC6F0B4E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60241E0-86A0-4B0F-BEE2-8DCD4E3FE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8C8A9B1-3C31-4F04-AC20-216366AC4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CB26589-9352-40F7-907B-27BD5DAC9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75D6A-E1FD-4AA0-A635-A044E2691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09CF59C-F4EA-4842-871D-299005E60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C517D53-FFC9-4E6A-9F5B-9C83DAD17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A7A2DEA-842C-49EB-9E0C-763CCC954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2B01411-791A-44B9-ABD6-432CFD85D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243722E-9B4F-4465-91DE-63F667B92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408C3B9-2473-4013-9B95-4BA2386CD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1D6DBFC-D357-4F30-88B0-205CCE94A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12DA456-246B-4425-A5A0-2EE10A1DB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C73CE9B-4CD8-4511-87FA-52AF6E6EA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80A8712-04F6-4805-89C5-1FE126F53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91134-E847-4673-90BA-8BAFA0CCE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B1ABF8A-86CE-4E36-9D91-F4288DBCC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03C16DA-2AB6-4098-9AAB-D7183A1EF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EF1F10C-75BB-4C3B-A665-3BCDCAE92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8495FB7-62C8-4A7E-A5D3-6D816D5E1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5BEF1CB-E884-4CDD-A809-F181D8AF5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45AA371-1F2A-4F87-82FF-61DA04008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94591EF-1C6A-4A41-95D0-1D8F02820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321AA37-00D5-4856-9BAF-DC86BA556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6B2E13A-55B0-4565-995E-3CEEB827D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E82C4F1-4F7F-4237-A906-AF425C064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DF314-6299-4A98-AAE7-6BCD6F899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2900B8C-C481-4BC5-8A65-5873C74EE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509D25E-A853-49CD-9B01-DACEA3260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F13440F-493E-4EC7-85FF-533B87F5A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943E564-2911-43B4-941B-E7511DDE9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0586D53-7B85-4142-8BB7-B1FE1DD97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BF8C70B-2D76-44BB-B6EB-2AD7554E0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2612702-45D1-4BD6-92E7-FFEFA6E0B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E39A1C2-4B70-4B68-AB0E-044BC4D99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0387B56-D286-485C-84CC-B3F25264F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0A60B79-7169-4DE6-B4D5-D0C94B502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C0859-6C29-4777-82D6-7CD6C0AC2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A0B24A7-56D0-4BAF-8714-12E1AFF4C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3E8AAB0-AE14-4741-BD40-CF12CEE10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E04BA46-E116-4B26-8BD5-40F8DB319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649F0F1-5190-46C6-BB32-34246BE3E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BA1D921-D147-436A-B320-84ABF7B4C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AEA402F-6D63-4CB4-9584-03CCB4921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A75813E-76B7-44CB-824A-19A6BDB73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5D242F8-D641-4F08-B37D-A7825C29B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82C2063-E4AB-48C7-9B0A-E845DA1E2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51A27CC-2122-4EEC-992E-6432F0FA2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6215A-BF4B-424E-A6E3-9FCB2CE89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F1811FC-44F4-47E1-A578-C105296B7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558929B-F290-453F-B1BF-0796392F0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2082857-F28C-4F0E-8D10-D37BC374D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DBA8074-C71D-43E2-AF69-7C6A9A92F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B3BFFAB-4EC9-4B8C-96A9-5DC65DD5B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85DF080-14CF-4E33-A245-F20D63067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CFAF029-FED5-4580-9F73-5C2508A52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005BD63-814C-4750-8947-0461F18F9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8A1472A-B663-4730-AC7C-B85D6B658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7A74727-48EC-46A7-81B5-FD2A25A97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15D56-43DA-41C7-A1E6-EF7373CD2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F0AA4-636E-488D-BB04-493528E34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ED04FBA-AD11-44FB-B6FC-33591346B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9362224-AC39-4101-8A7D-42B767C80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5641D77-99AE-4BB2-B577-D31E1316D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751BFF7-2F74-4E8F-A0BC-0F2CF7AAB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E239365-C362-41F5-A713-77F2F2485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E570551-DDD4-4680-95FA-FBC4B5E95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86ED2FE-94A0-469E-A00D-F028F4296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DF9B61A-3F39-4706-884D-A7CA53E17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C846B47-4A94-4F34-A9F4-9BB39AA42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A6FE19F-A3C9-43AC-853E-84FF25062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024F4-19DA-47DB-BBDE-B65592ECC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2D7D649-E980-4242-ACE6-D949580A0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A84FE35-73C1-4AB7-9EC9-494719E0A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195E50C-F0AF-443F-9DF0-4116D78F3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1195A8D-4617-4B3F-A393-48EBDAD57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325F2A4-6350-45D8-8987-497138464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E5766CF-463E-43B2-AF44-C859111C7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605EF13-6A51-4EB8-B17D-60286F4E3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F1DD576-AF8E-422C-A6A2-8C70E9E71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A62FA46-456A-4B3A-A8E9-3BE797B61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8FFAC9B-EEA1-488B-B65A-9C52F7EC3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FACBB-43B6-4D11-ADA3-4A11F2F19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1E99522-D77B-41CE-8432-B1574A5BC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DDFF0DC-C528-46F7-918B-83C30837C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A953FB6-D11E-4352-AF2D-82E76E586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25ECB02-26AB-4572-ADDA-BF3172A67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E119731-4989-4C24-91F8-3FE761C2D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9DD0380-E188-4062-9054-80B7DE3C2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1444265-36BC-4153-B97F-3E1609FD1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622C852-534C-4C26-B978-8683826BD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8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4896A81-F991-47CC-9207-5AF9E59C5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E821925-EB21-4534-83CD-31F2A4698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C9304-D55F-4948-836F-B21CBBF25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09C64DA-B5EE-4126-82B7-54B1C9404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FAD9E1A-0CF0-4D10-9345-BDB055FD0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FDA8A58-1626-4C3D-BAE6-D69F484A6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E77839D-630D-4313-BC36-4C602E264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073D8E4-D516-49A7-BD92-10D3DBAAE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B75314D-65F0-4B87-AE59-75CB83120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D86C969-E9BE-40A1-9112-A6D4771A0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72B17C3-08EF-43E3-AB61-9DEC3FFC2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C67E670-6037-4B7B-BC53-28C9AD875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C598D18-CD81-4D90-8F6A-08D123109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E68F0-6F8C-41BD-8641-9E02BC28D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C5ECC47-78EC-48BA-8D18-67C98460A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D0384ED-1578-4231-9332-C9FC8FA6A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B9DC9F8-7630-4815-819E-8A1B56FD5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EF6DB82-FC57-4B62-9CC6-20F8E0B80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788D1B4-CF8F-4212-84D1-8FB0EFD60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2B0E2B1-2C10-48F0-A3CE-898C9F34A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9C7F094-AE17-45CE-A46D-218CAB762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17883F1-5A8A-4D21-B388-CED7D7848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CBFDA1B-EF6D-46FA-8EF1-66C52BDC7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531929A-534F-48A5-BCE1-83060D6CF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4DAD6C-A6F0-4E55-B3BB-07D2F1337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AAB1C46-CBFD-4B98-9895-68E8A8442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872C9ED-3AC2-4F67-910A-AC6AFD793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7B26500-269C-4E87-9517-77E7BE8B1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7D4196E-E4A6-4363-A82A-60682D583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A390FAE-27A9-4F04-BD0B-A26B81618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FA08F50-8672-4715-915A-AEBA4C2F2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7D1A63A-8A52-4D80-8968-754416485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C75301A-2E75-44C9-90E5-5836A9C74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2E9BD53-331D-41AC-9D67-89856C610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55EC3C4-2490-497D-982B-7B6E22582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C70B2E-2DAD-4B66-8C82-AB1EDFB75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965D450-0918-403B-8492-3C348E345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585EA4B-9B79-4C67-8CC5-050B28EA9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B05A2B0-C038-49BA-932A-429329E5F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B5D6970-4144-4293-87E8-8ECFE2D7A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9CA01C0-1AB4-4E48-ADA5-C246D76A1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DF4487A-A97F-4C5A-85F2-8FC7FB8B0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FFF8D60-A799-45B3-A03C-705B88419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1CD60E2-5B6A-4242-BD2E-01F4F0E17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80B3842-EBDF-4297-ADA0-AE97BCD96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2D785ED-04E7-4671-90CE-924CD458A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5EE141-44EF-4CAD-BC87-4A813B13C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EA19422-6FC0-48A8-94F3-6E0EAB5DD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6C7E16F-BE0D-4FCF-A8D2-F2B91413D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74C3B5B-9078-4DBA-9F74-2C2B708FD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FAE7810-CC39-4F09-8215-0A149BEA7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78CE00A-5EEE-43BC-80DE-E5B6FEC88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53CC594-10CB-4CDA-BD25-8518E71C8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B1E98E8-F5B4-4284-A74A-F89006622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5A59C98-CDE4-4AD9-B9E1-0EBEED151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9C30581-C478-4C93-BF7A-05C823900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E771AD1-09F7-4D5A-A073-D5E12029B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214EF6-433E-4C4B-AEE2-A206A11A7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AF3D5FA-DEB0-4A2C-84A5-1B685A41B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4EADEC3-B0B7-463D-BF50-3DE8C6E95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F0E1E18-5ECF-42B3-8426-8E3B30D0A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81B3A7F-7FF9-4A0C-AE38-A1D46BE42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2B13C76-CB15-4DBC-806A-99E2A578F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4F8ABA3-1FC0-44F3-8A2D-D2342B6F9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24BDF36-9A43-4ADB-B993-50CDDC7C4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CC45781-777F-435A-8088-108D83D49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BDD3B5F-8628-499C-BC1B-6E1185A98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E2ED52-C475-462F-828E-255EBFFF3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B67B3-FD27-4BFD-A836-5932A1F38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CC49AD-8EE6-4F9F-84C7-530A89A12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4686EF-EDD8-484E-AD6A-591630302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F4AF9F-AECE-466B-B01F-5BD78B838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F2ADE7-F67D-4200-804F-3DEA0C2ED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375740-9714-4155-9210-A987E885B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BD0AFD-0CC4-4AA0-8DD0-0CCB80092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CD1224-9EA1-400C-8C37-8FA8A58FB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247717-8E30-45F9-BCA9-5E3741850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FE69D4-61A3-4E44-AED6-2C52E7CAC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E6682B-4ACF-4397-9D16-FF612BF6E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F1995-356E-4B7D-8DD5-D94F33919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D05E21-4956-4E67-8383-A8E9694AF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51D943-7E5D-4D7E-8015-BF3E2299A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A37777-A303-4DBD-B08F-F902B258C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EDC535-642D-45D5-A0D9-17E4A036E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A5D0B3-D43D-4415-AF60-52A204631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AA3CE3-F183-4073-9B85-B3ACCCBB1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A73FC3-E28E-4218-8790-43066AC74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FC8BE8-15D3-41E8-AA99-23DD12FF1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FE3E26-186C-40BE-B9FD-01D9A759E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4FFC36-D749-4F1A-ABBB-BE9F4E884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D7628-71FA-4D24-A904-CA8424833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AD3A79-E3B1-44F7-84C4-999956C5E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BC803A-2781-4EF9-8070-C9B5B76AA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5DD36D-4F96-4226-908A-FE5C3D1B9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9A71A4-57A6-4E7B-8968-3C4E1D19F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DE5CEB-94CE-40D8-AC86-BC530171F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C42645-C36C-41F1-8F2B-09005EADF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9ECA9A-D907-4021-A969-06BB7BE6E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D92AC9-3F4F-4433-A238-31A4F11CC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7C70CB-9E1E-484B-AD54-E8F9048AF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C55EC0-23B4-4E30-B4B7-689D2680C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EB0D2-709F-4F6D-B169-13EF60951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C40A21-9591-495A-BE2A-625B41C5E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4FB7D7-BDFA-497F-8D96-F25C372F7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E51EF4-839A-45D1-A1F7-3EAACC365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5F23B6-96CA-4BF2-8A37-D0D45FFE0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D3D925-AD05-413B-B19B-01D2BADFC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BE4555-8C2E-446D-B9CC-862430CAD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C280D5-A43C-46E4-B5F7-E8041699C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135113-268C-4727-A0BA-A257E3EB6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6442DB-ABB6-4602-BBB8-E2CE5933D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E3E7C1-3463-4CD9-BB4D-53C9585CE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4DC85-AD41-4C66-84C7-CEC165E23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046042-DAAF-4E2B-8F5D-7C77359E2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2FA4B1-B413-401A-A006-4F42BE428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01551B-65A2-41EF-AE94-77AC9D2A0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62D780-494E-48E4-8CE1-104E2B8AB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2FDDDC-5CB7-4407-96EA-67A31B132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0F113E-F783-447D-B54D-C89EED276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B73760-EEDB-40A7-BB38-19EC39745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2B743D-5352-4321-838D-C69A5487E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1CDE20-B23A-4249-BE24-0D19F36B7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08DC07-317C-4E2B-B47F-647D38FD1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02498-D1FA-4FA6-A1FC-95176C998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189BDC-36DE-4C96-BE63-CF9717507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6E07B2-3936-4D62-B850-1E50BA49F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275070-13A0-4356-A0C2-1955E806B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2C1460-02BF-4C86-A57A-9AC3FE9B0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AF3435-A4A7-4204-8344-DD397338D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CA66A3-2A2C-4A6A-A2AF-B36F1E390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95DB31-2B4A-405B-B91D-B6C0EBA69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87D485-7287-48D9-B132-0A5DCB330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4EB056-A152-41DC-B1DB-DC696A2CA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F2B214-16D6-4493-915D-72E19DCEB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D3C4B-72BD-4314-9C73-DAF690B75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1D3CCB-4002-4103-B330-5FE86E7A4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2EA874-F7FD-45A6-BFD3-58FFC55BC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120948-F968-44E1-B315-DCAA726C3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32E13D-F71F-4B39-9C03-268261F57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83787B-9799-4170-9350-CFFF06413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A5436B-1A17-4B52-A8DB-9E5526F20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C29600-F4F4-4012-838D-119B943BD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090D8E-3EF4-4387-8611-4A69E33E1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5D32F5-1EF2-486D-A448-768E9A660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86C167-A51C-4B7A-A2F3-0CB48ABF4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5BB7A-6B18-4A24-9EC2-7DE5E6CFB034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98F8F-68CC-4949-B9BD-8CFFDE6C52E0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D63A6-C5F2-4884-A345-10C6824A21BD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5A61C-E283-48FF-B880-FCE6B70E1FBC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51E94-28C2-48C8-91A9-CC92F0BF46E2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1124E-7F7F-4159-B53A-E30324D2A0BE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8CDFF-0E02-4F03-9727-A78C40F09447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4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5030B-4D94-4863-93D3-68E7E94EFA9B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5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D0980-F1C7-4E33-B344-84BECF0EDD12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dt" idx="5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ftr" idx="5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31028-C691-4AE8-87A6-784E6500E9E4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 type="dt" idx="5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 type="ftr" idx="5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87DFF-41BD-4906-89E2-98E4374A220B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AC53A-B50C-4BEF-A9BE-6B888E948F52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 type="dt" idx="5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 type="ftr" idx="5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B2ECE-D153-4D96-9477-9B13F33460C6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 type="dt" idx="6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 type="ftr" idx="6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E34E8-1546-4656-915C-0C8D468CF2B0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 type="dt" idx="6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 type="ftr" idx="6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 type="sldNum" idx="6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645BA-85FC-4E25-963C-4814D6339A55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 type="dt" idx="6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 type="ftr" idx="6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 type="sldNum" idx="6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D8C5A-0498-4177-8A3D-0C1CEB229153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 type="dt" idx="7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 type="ftr" idx="7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 type="sldNum" idx="7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A3DA8-79AD-4D12-B65F-0D448E373713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2165F-EDB9-47F0-8448-8DE59E7D885C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D898C-C545-4975-B8A6-E7D180EFCA5E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11E83-4D21-4953-BBC5-8DF275A7FC38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5D2BA-30FD-44CF-92C3-73DDE0950233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F9EDA-293F-4778-905D-7BCC888AA905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10004-915A-41A3-BBBF-F13F50032AB0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08688-3AE5-43EA-8335-3A4F9B0E73F3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Rectangle 3"/>
          <p:cNvSpPr/>
          <p:nvPr/>
        </p:nvSpPr>
        <p:spPr>
          <a:xfrm>
            <a:off x="0" y="1066680"/>
            <a:ext cx="9144000" cy="20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 baseline="12000">
                <a:solidFill>
                  <a:srgbClr val="669900"/>
                </a:solidFill>
                <a:latin typeface="Tahoma"/>
                <a:ea typeface="Times New Roman"/>
              </a:rPr>
              <a:t>Reg. (CE) n. 1698/2005 del Consigl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 baseline="12000">
                <a:solidFill>
                  <a:srgbClr val="ee8f04"/>
                </a:solidFill>
                <a:latin typeface="Tahoma"/>
                <a:ea typeface="Times New Roman"/>
              </a:rPr>
              <a:t> </a:t>
            </a:r>
            <a:r>
              <a:rPr b="1" i="1" lang="it-IT" sz="3200" spc="-1" strike="noStrike" baseline="12000">
                <a:solidFill>
                  <a:srgbClr val="669900"/>
                </a:solidFill>
                <a:latin typeface="Tahoma"/>
                <a:ea typeface="Tahoma"/>
              </a:rPr>
              <a:t>PROGRAMMA regionale di SVILUPPO RUR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 baseline="12000">
                <a:solidFill>
                  <a:srgbClr val="ee8f04"/>
                </a:solidFill>
                <a:latin typeface="Tahoma"/>
                <a:ea typeface="Times New Roman"/>
              </a:rPr>
              <a:t>      </a:t>
            </a:r>
            <a:r>
              <a:rPr b="1" lang="it-IT" sz="3200" spc="-1" strike="noStrike" baseline="12000">
                <a:solidFill>
                  <a:srgbClr val="ffff99"/>
                </a:solidFill>
                <a:latin typeface="Tahoma"/>
                <a:ea typeface="Times New Roman"/>
              </a:rPr>
              <a:t>2007 - 20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Rectangle 4"/>
          <p:cNvSpPr/>
          <p:nvPr/>
        </p:nvSpPr>
        <p:spPr>
          <a:xfrm>
            <a:off x="225360" y="4869000"/>
            <a:ext cx="8701200" cy="12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669900"/>
                </a:solidFill>
                <a:latin typeface="Tahoma"/>
              </a:rPr>
              <a:t>Genova   -   4 luglio 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Rectangle 5"/>
          <p:cNvSpPr/>
          <p:nvPr/>
        </p:nvSpPr>
        <p:spPr>
          <a:xfrm>
            <a:off x="2556000" y="6541920"/>
            <a:ext cx="3671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857160" y="2857320"/>
            <a:ext cx="7772400" cy="128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MISURA 111</a:t>
            </a:r>
            <a:br>
              <a:rPr sz="2800"/>
            </a:b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azione b) “informazione”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"/>
          <p:cNvSpPr txBox="1"/>
          <p:nvPr/>
        </p:nvSpPr>
        <p:spPr>
          <a:xfrm>
            <a:off x="142920" y="1714320"/>
            <a:ext cx="8858160" cy="45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ROGETTI DI INFORMAZIONE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, che devono prevedere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organizzazione di incontri informativi (</a:t>
            </a:r>
            <a:r>
              <a:rPr b="1" lang="it-IT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bbligatorio)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ntendono una serie di riunioni collegiali, di durata non superiore a 2 ore, aperte a gruppi omogenei di partecipanti, in numero non superiore a 10, rappresentativi di specifici settori produttivi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organizzazione di seminari e convegni divulgativi (</a:t>
            </a:r>
            <a:r>
              <a:rPr b="1" lang="it-IT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bbligatorio)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niziative informative di approfondimento per un minimo di 11 destinatari e una durata di almeno 3 h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E’ ammessa la 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alizzazione e/o la distribuzione di apposito materiale informativo (facoltativo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50920" y="981000"/>
            <a:ext cx="864216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Azioni finanziabil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0" name="CasellaDiTesto 5"/>
          <p:cNvSpPr/>
          <p:nvPr/>
        </p:nvSpPr>
        <p:spPr>
          <a:xfrm>
            <a:off x="166680" y="6510240"/>
            <a:ext cx="361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PSR - Misura 1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"/>
          <p:cNvSpPr txBox="1"/>
          <p:nvPr/>
        </p:nvSpPr>
        <p:spPr>
          <a:xfrm>
            <a:off x="142920" y="1643040"/>
            <a:ext cx="8858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RIMO BANDO  (aperto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ggiornamento sulle politiche comunitarie agricole, forestali e ambientali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alvaguardia e tutela del territorio e dell'ambien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ntroduzione e trasferimento di innovazioni produzioni con particolare riferimento biologiche e ecocompatibili e gestione risorse (risparmio idrico ed energetico e uso di fonti alternative, protezione suolo, etc.)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sportell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Un solo progetto per prestatore di servizi (indipendentemente dalla tematica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ata di fine progetto:  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31 ottobre 2013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250920" y="981000"/>
            <a:ext cx="864216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Tematiche ammesse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3" name="CasellaDiTesto 5"/>
          <p:cNvSpPr/>
          <p:nvPr/>
        </p:nvSpPr>
        <p:spPr>
          <a:xfrm>
            <a:off x="166680" y="6510240"/>
            <a:ext cx="361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PSR - Misura 1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Freccia in giù 4"/>
          <p:cNvSpPr/>
          <p:nvPr/>
        </p:nvSpPr>
        <p:spPr>
          <a:xfrm>
            <a:off x="3929040" y="3286080"/>
            <a:ext cx="642960" cy="500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"/>
          <p:cNvSpPr txBox="1"/>
          <p:nvPr/>
        </p:nvSpPr>
        <p:spPr>
          <a:xfrm>
            <a:off x="142920" y="1643040"/>
            <a:ext cx="8858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ECONDO BAND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presentazione delle domande dal giorno successivo la pubblicazione sul BURL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norme obbligatorie in materia di condizionalità (euro 120.000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norme obbligatorie in materia di sicurezza del lavoro (euro 120.000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alvaguardia e tutela del territorio e dell'ambiente (euro 40.000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istemi di qualità e di rintracciabilità (euro 20.000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 progetto per tematica (per Prestatore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 – graduatorie distin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l progetto deve svolgersi in un arco temporale non superiore a 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10 mesi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entro il</a:t>
            </a:r>
            <a:r>
              <a:rPr b="0" lang="it-IT" sz="16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it-IT" sz="16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31/12/2014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250920" y="981000"/>
            <a:ext cx="864216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Tematiche ammesse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7" name="CasellaDiTesto 5"/>
          <p:cNvSpPr/>
          <p:nvPr/>
        </p:nvSpPr>
        <p:spPr>
          <a:xfrm>
            <a:off x="166680" y="6510240"/>
            <a:ext cx="361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PSR - Misura 1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Freccia in giù 4"/>
          <p:cNvSpPr/>
          <p:nvPr/>
        </p:nvSpPr>
        <p:spPr>
          <a:xfrm>
            <a:off x="4000680" y="3786120"/>
            <a:ext cx="642600" cy="4287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90400" y="91908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Caratteristiche progettual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00" name=""/>
          <p:cNvSpPr txBox="1"/>
          <p:nvPr/>
        </p:nvSpPr>
        <p:spPr>
          <a:xfrm>
            <a:off x="357120" y="1571400"/>
            <a:ext cx="8462880" cy="45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are il “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gli firma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per ciascuna azione informativa) ovvero 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enco dei destinatari nel caso di invio informatico delle newsletter e dei bollettini (previsto nel 2° bando)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ispettare le norme di antinfortunistica e prevenzione degli incendi nelle sedi di svolgimento delle attività previste (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obbligo di stipula di assicurazione contro infortuni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to del progetto: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euro 4.000 per singola provincia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euro 15.000 per progetto regional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unicare al Settore Ispettorato Agrario regionale: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singola iniziativa informativa (preavviso di 7 giorni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 varianti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OTA BENE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per il 1° Band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edisporre un 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port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riassuntivo contenente i fabbisogni e i risultati attesi (settoriali, territoriali, filiera, etc.) dalla nuova programmazione di sviluppo rurale 2014 – 2020. (da inviare al Settore Politiche Agricole entro il 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31 ottobre 2013)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.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Rettangolo 3"/>
          <p:cNvSpPr/>
          <p:nvPr/>
        </p:nvSpPr>
        <p:spPr>
          <a:xfrm>
            <a:off x="276840" y="6488280"/>
            <a:ext cx="157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PSR - Misura 1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30T07:38:51Z</dcterms:created>
  <dc:creator>lavagnino</dc:creator>
  <dc:description/>
  <dc:language>en-US</dc:language>
  <cp:lastModifiedBy>Capurro</cp:lastModifiedBy>
  <dcterms:modified xsi:type="dcterms:W3CDTF">2013-07-02T13:44:54Z</dcterms:modified>
  <cp:revision>146</cp:revision>
  <dc:subject/>
  <dc:title>Presentazione standard di PowerPoint</dc:title>
</cp:coreProperties>
</file>