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5B28-2BC0-4B3D-B429-CBC743FA0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909E-80D1-4E24-9560-17E647FDD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18B1-3527-48BD-8EE2-F845B3F17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A504-C035-4B13-A0AC-A89006AC2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E3A4-1CBC-4EEF-B753-09E217F2F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506A-6F12-45A5-A4B9-695073D4B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183B-EE15-430F-BE6E-CF5EB943C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C14D-260A-4B57-BAE9-2147E11D3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74BF-ADAA-4D65-A5E8-ED795E093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5BA5-4D06-4427-841E-1C4745C40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0AF9-0B70-4EAA-B7F2-B8A620706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5E1F-4C39-40EF-81C8-741C30D98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C550E-2FB7-40AA-B666-7A4F9746019A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0" y="1066680"/>
            <a:ext cx="9144000" cy="20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 baseline="12000">
                <a:solidFill>
                  <a:srgbClr val="669900"/>
                </a:solidFill>
                <a:latin typeface="Tahoma"/>
                <a:ea typeface="Times New Roman"/>
              </a:rPr>
              <a:t>Reg. (CE) n. 1698/2005 del Consig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 </a:t>
            </a:r>
            <a:r>
              <a:rPr b="1" i="1" lang="it-IT" sz="3200" spc="-1" strike="noStrike" baseline="12000">
                <a:solidFill>
                  <a:srgbClr val="669900"/>
                </a:solidFill>
                <a:latin typeface="Tahoma"/>
                <a:ea typeface="Tahoma"/>
              </a:rPr>
              <a:t>PROGRAMMA regionale di SVILUPPO RUR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      </a:t>
            </a:r>
            <a:r>
              <a:rPr b="1" lang="it-IT" sz="3200" spc="-1" strike="noStrike" baseline="12000">
                <a:solidFill>
                  <a:srgbClr val="ffff99"/>
                </a:solidFill>
                <a:latin typeface="Tahoma"/>
                <a:ea typeface="Times New Roman"/>
              </a:rPr>
              <a:t>2007 -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25360" y="4869000"/>
            <a:ext cx="8701200" cy="12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669900"/>
                </a:solidFill>
                <a:latin typeface="Tahoma"/>
              </a:rPr>
              <a:t>Genova   -   4 luglio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2556000" y="6541920"/>
            <a:ext cx="367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57160" y="2857320"/>
            <a:ext cx="7772400" cy="128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BANDO</a:t>
            </a:r>
            <a:br>
              <a:rPr sz="2800"/>
            </a:b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MISURA 114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"/>
                <a:ea typeface="Times New Roman"/>
              </a:rPr>
              <a:t>AMBITI DELLA CONSULENZA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843912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er imprese agricol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NDIZIONALITA’: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pplicazione dei criteri di gestione obbligatoria (CGO) e sulle buone condizioni agronomiche ed ambientali (BCAA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ICUREZZA SUL LAVOR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er operatori forestali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.s. e in aggiunta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QUISITI OBBLIGATORI IN SELVICOLTUR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669900"/>
                </a:solidFill>
                <a:uFillTx/>
                <a:latin typeface="Arial"/>
              </a:rPr>
              <a:t>MODALITA’ DI EROGAZIONE del SERVIZIO DI CONSULENZA (2)</a:t>
            </a:r>
            <a:endParaRPr b="1" lang="en-US" sz="20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90400" y="1857240"/>
            <a:ext cx="8229600" cy="42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ipologia della prestazion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visite aziendali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</a:t>
            </a:r>
            <a:r>
              <a:rPr b="1" i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BBLIGATORIA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el computo delle ore effettive di consulenza sono ammesse  (max 10 % )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ltre forme di assistenza (facoltative) quali incontri in gruppi ristretti o tramite sportelli informativi locali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avoro d’ufficio per elaborazione e analisi delle informazioni e altre attività funzionali alla consulenza.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Non rientrano nelle ore di consulenza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ltri contatti (via email, telefono 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669900"/>
                </a:solidFill>
                <a:uFillTx/>
                <a:latin typeface="Arial"/>
              </a:rPr>
              <a:t>VISITE AZIENDALI</a:t>
            </a:r>
            <a:endParaRPr b="1" lang="en-US" sz="20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14200" y="1905120"/>
            <a:ext cx="8786880" cy="35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una </a:t>
            </a:r>
            <a:r>
              <a:rPr b="1" lang="it-IT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eliminare visita aziendale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eve essere effettuata un’analisi preventiva dell’azienda, che utilizza il servizio di consulenza al fine di evidenziare i problemi e gli aspetti critici (</a:t>
            </a: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verifica di ingress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;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una </a:t>
            </a:r>
            <a:r>
              <a:rPr b="1" lang="it-IT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isita aziendale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intermedia),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alutare il grado di attuazione del servizio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una </a:t>
            </a:r>
            <a:r>
              <a:rPr b="1" lang="it-IT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isita finale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alutare il raggiungimento degli obiettivi prefissati dal servizio di consulenza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669900"/>
                </a:solidFill>
                <a:latin typeface="Arial"/>
                <a:ea typeface="Times New Roman"/>
              </a:rPr>
              <a:t> </a:t>
            </a: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MODULISTICA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5480" y="1904760"/>
            <a:ext cx="8715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otocollo d’intes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schema tipo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cheda tecnica aziendale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heck list 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ndizionalità”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icurezza sul lavoro”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quisiti obbligatori in selvicoltura”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lazione final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ta bene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è ammissibile l’utilizzo di specifici software per la consulenza, previa autorizzazione da parte della Region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DURATA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90400" y="2214360"/>
            <a:ext cx="82296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una visita aziendale non deve essere inferiore a 1 ore e superiore a 6 ore (ore effettive di servizio di consulenza)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urata massima: 1 anno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ata di inizio e di fine indicate nella scheda tecnica e riportate nell’atto di concessione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oroga concedibile due mesi (e comunque </a:t>
            </a:r>
            <a:r>
              <a:rPr b="1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on oltre il 31/10/2014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669900"/>
                </a:solidFill>
                <a:uFillTx/>
                <a:latin typeface="Arial"/>
              </a:rPr>
              <a:t>MODALITA’ DI EROGAZIONE del SERVIZIO DI CONSULENZA (4)</a:t>
            </a:r>
            <a:endParaRPr b="1" lang="en-US" sz="20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84391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ottoscrivere il 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otocollo d’intesa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mpilare  la seguente documentazione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 schede tecniche aziendali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(la data, le modalità e tipologia di ciascuna prestazione effettuata, il nominativo del tecnico, criticità e problematiche individuate e trattate ed indicazioni e azioni correttive proposte, eventuale documentazione tecnica e informativa consegnata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 check list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condizionalità”, “sicurezza sul lavoro” e “requisiti obbligatori in selvicoltura”, comprovanti l’effettuazione del servizio di consulenza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a relazione finale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la definizione degli interventi necessari a supporto del rispetto degli atti e delle norme, i contenuti della consulenza prestata in relazione alle specifiche necessità dell’azienda agricola/operatore forestale e gli eventuali risultati conseguiti)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669900"/>
                </a:solidFill>
                <a:latin typeface="Arial"/>
              </a:rPr>
              <a:t>PROCEDURA OPERATIVA (1)</a:t>
            </a:r>
            <a:br>
              <a:rPr sz="2400"/>
            </a:br>
            <a:endParaRPr b="1" lang="en-US" sz="24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515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"/>
                <a:ea typeface="Times New Roman"/>
              </a:rPr>
              <a:t>Aiuto concesso</a:t>
            </a:r>
            <a:r>
              <a:rPr b="1" lang="it-IT" sz="1800" spc="-1" strike="noStrike">
                <a:solidFill>
                  <a:srgbClr val="333333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ax euro 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.500,00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per azienda e per servizio completo di consulenza, pari all’80 % del costo ammissibile (IVA esclusa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75 euro/ora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i consulenza  (intesa come ora effettiva di servizio di consulenza)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NORME SPECIFICHE</a:t>
            </a:r>
            <a:br>
              <a:rPr sz="2400"/>
            </a:b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515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firma di un tecnico abilitato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u tutta la modulistica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NON possono presentare domanda di aiuto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i soggetti che hanno già fruito di un servizio di consulenz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finanziato ai sensi del Bando, approvato con DGR n. 1434/2009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fatto salvo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he siano intervenuti nuove norme (comunitarie e nazionali) obbligatorie in materia di condizionalità, sicurezza sul lavoro o requisiti in selvicoltura ovvero l’azienda ha intrapreso nuovi processi produttivi che comportino il rispetto di ulteriori atti e/o norme obbligatori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8T15:56:53Z</dcterms:created>
  <dc:creator>---</dc:creator>
  <dc:description/>
  <dc:language>en-US</dc:language>
  <cp:lastModifiedBy>Capurro</cp:lastModifiedBy>
  <dcterms:modified xsi:type="dcterms:W3CDTF">2013-07-02T11:39:32Z</dcterms:modified>
  <cp:revision>269</cp:revision>
  <dc:subject/>
  <dc:title>Diapositiva 1</dc:title>
</cp:coreProperties>
</file>