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  <p:sldId id="25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81DB2-21CE-4FF2-949F-673EBB20C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3E39A-9B3D-49BD-B76F-10B199DE4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56CEC0-8A4C-491C-833D-ADC889473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DBD148-257B-4F5B-AE27-B7D0B5DB8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B62434-0673-43DA-AFC9-82086A154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ABB80F-9D00-46A3-B19A-F9B74F36C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DCDCD0-A2ED-4B35-8BF6-09980F97B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FD411E-12CC-47BD-BF62-107AB7C61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A9BEA0-A297-43DB-A6E8-EFACFE085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8F2E85-56CD-458C-ABF5-BA12BF3DB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5E7E74-352C-4355-B866-96AC6B020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A6E146-290B-46C4-B254-0D0590BB4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07242-DFC9-46BE-B7E1-2EBAB9F03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503784-9787-4423-A12B-49451EB99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1CEBE3-CA85-4E4B-A6B9-82746BD27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CEA57C-743B-4139-996D-470CA77D8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91014A-5022-4D4F-B6C5-FB701A975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A84BA1-6F89-4E3E-B22B-9FE0FAB45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EB6C08-FD2D-470D-B64A-1D016ACF0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EE9302-ACCC-4F1D-A68F-83F9072BF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BD32C0-E495-4D45-8295-14DA240A1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09041C-2F32-4DDA-8C53-89CA90C9D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630D53-1D19-44A2-8E0F-935347D09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596A4-B923-4484-82D2-E3C7ABE68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AC19B3-E275-4D7F-A384-32376A22A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070012-102D-4B7E-8AFC-362C25EE0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2C6CDC-1D9B-4927-99C0-1A3B4186C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EC415D-8169-49EB-A040-9F4C41C08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8A8E63-9A30-4A3B-BC4E-898B958D6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FF95F5-4424-46B1-9B5B-D49DE50F0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EB548F-8E2C-49B4-9831-9731DFDA2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1C2FC8-FEDD-4BE3-AE2E-C9B9E349F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AA3515-8009-403B-91B3-F22DC217E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4245DF-11B8-48EA-ABF9-EF778EC31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FEB70-8B19-4876-A95E-86EBBF374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0DC99A-6C34-496E-9EAD-C45CC2735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0F91B4-178C-4E4B-90C8-7EF6694A8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FBBCEF-83E9-4637-819C-55AD4ED61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870401-90BD-4258-BAB0-34CA67ACE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D93963-3698-4360-BEF3-4BE8C325D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D7DB58-7076-41C8-8152-E421B2CB5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E42F63-FE6E-4BCF-ACB4-F1F6727D7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A2B214-9162-46E2-B2C1-6BB5313E3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F6D00D-5F05-44E9-A065-F36094021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5151BD-622C-4E54-A722-419D876AC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1D1CB-EE24-4D70-9167-146C8AB17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D781BC-783A-4EA2-8DCF-FDE01826C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AC39A1-9B80-404D-A51E-A7731EBCF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76F315-B978-47E9-B31A-8F676EDF3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DAA9EA-B537-4253-A4BD-929E8F646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9DE6C6-C946-4010-A768-05619548E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B823CBA-0174-4AED-B7DB-D3D852106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3D97FA4-C3CD-472C-92A1-3801B7D7D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575A6DC-51DC-4AB5-B8B4-D7CDBF210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FF8D4FF-ADC9-48A0-B9EE-8429F20F5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E8F2DB4-491E-4F89-A7A4-C359A1158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D64F0-5841-410A-9610-84B7673DA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1419A14-951F-4003-B43B-A2357A5F5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5826526-0CB4-4441-9812-AAE5DD8E8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3D8A9EA-73E3-4036-B3B7-FBB868C07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69DDDAC-600B-410F-B51A-F419CDACF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4825497-B3D3-4CFF-AB36-D4368617A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0F728FB-0075-434C-A220-6A0563F78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54870E6-4968-499E-B224-4F7ABC337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0F784DB-3797-4AD0-A0DD-7A7A6B912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53AF414-374D-496A-BEEC-A74CC89B8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F570B17-E565-417C-AC32-716F1FB41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0DC9F-3F75-4518-9DE6-CE3BC4B04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C15D237-B0DB-40F1-8103-EA8DC1880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3D2B952-6C30-42EC-A9B3-40AF726CE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69D0E9D-4C89-48F8-BB10-DABE5184B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137D9C3-7226-490A-91AC-65F15A62C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17AD1BA-F219-4AA1-9D4F-B19B96783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A3D8687-7B57-4610-9886-8C99A1FF6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A8109A0-C0BE-4ADC-9D09-8E5C8C33B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2B1B8BA-5FEC-4C66-B7B1-D7317F955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9503384-42F8-4C58-AD6E-C5EDC37A3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E0727C6-2124-4AFE-A91F-AAA0465CF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378DA-50F5-49E8-84F2-9CDF10E6E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CEDC38A-1BF5-496C-9A60-1B5211A97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C7D84FF-5165-4B80-AC5B-D953A4F8F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5E42F05-7175-4BFE-B1B2-7CCFC2A64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AC2310F-9932-4707-A72C-D8F08E756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88F4433-AA4A-4118-A66F-6AC693473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24D6F6C-A041-4981-85C0-0B67197A8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3FC637D-AFDF-45FE-B95E-B374163CF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59F1EE1-09C0-446B-A6D1-1BCC5D227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F549F01-F571-42DE-BAB4-5806A1271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B07D41F-B472-4B83-9FFC-199268237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2BA65-D7B7-42AE-9F49-A6EF30968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B0EB186-9FC4-4EC7-8C2D-C63331D23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BF8E0C3-1685-4D2B-BB60-B55998124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244EB6E-8734-4CCC-BA7C-BDAF4FEB8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AED3BCE-0CAB-4532-A5E3-B0A27C98F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BFD2F19-B5BA-47EF-8B57-75585B227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EB496CC-F6FA-44B7-BF14-02B16C9BE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18EFC3A-9897-4928-8A31-AF65915D1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630F16D-7485-44D9-B61B-3DC9CAB5E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428880B-2D13-4258-93F7-5B9FA9AE4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7216700-501C-404C-B4B1-70E29FF16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587E2-14E2-457D-A390-DDB1F6EDB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E5EC3D2-48DB-45CC-B29C-B673328D3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6B79D3B-1959-44CB-B42B-3E33926DE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BB6B1E6-D049-4AA0-9281-F24017BA0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3D1B2FC-B5A7-4493-8323-B8C554A7E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E1BB0CB-70A8-45DF-A060-93D944FF1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145C4BE-8EB8-401F-BA38-7DCB4EC81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6234321-704D-413B-B47B-226B7858F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ACD2750-F0FB-4C01-BEE2-8183DCF47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BC71FA0-7221-4636-A1C1-2C9E32808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17BD095-CCE9-45AB-B310-7651FE5FA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1AABA-BFA4-45EA-897C-5636FDB2F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3F6EA-8847-4F9A-B552-1A4469DC2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42F562D-7F76-4F62-875F-7BCE138CD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7C7C516-3905-4AC2-B642-33091F959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7CDF130-29D7-46A7-87F7-5AC90BE4B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60539A3-1DA0-4175-93BC-55374429A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50E108F-012E-4A74-B777-F255083F0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8D35AAF-41D6-482B-A29D-4D9AA7272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A40E889-6679-48A5-89DA-2F9637F54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483AA92-9C0C-411F-9F41-BC1C4D016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BFCDF30-3B45-4F8E-AEE3-DBDA42A47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804CCDF-9811-42A8-88DC-135FBA3DC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D320F-AF33-4B52-ABCB-4FAEF784E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EEC8CEE-7BF3-403F-944D-3A7251EF0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F8A641F-04F4-418A-B660-0A489AE31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2F91FD8-A9A9-4B46-B6A7-8639BE563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4BAF2CC-5DF2-492E-99B8-D8583640A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B34DEEF-A305-4461-9FDC-5B2E703F9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2443B09-1493-4C5D-810F-4AFFBA6D2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7B49D6C-4841-4288-B0EC-94502DC73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B24670C-E36E-4C52-B025-EFB1DF562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878F9F9-EE7B-418B-BFD3-2E34A39B4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D0B9543-5149-4388-8177-71B60DA12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5AFDD-27D7-456E-8E37-7719A7F6F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9B8A291-80F3-4309-A12D-3A2A5F405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3A6FEF6-7862-45E0-941F-4575CE9C5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A9648DB-892B-42EE-A7E8-F87E6AB8F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83B3A52-1982-42B7-9E36-5C6A57119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64336E7-B200-4250-9C62-E5622E63C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BF10F6F-49D6-4F4B-8B27-52C6BBC12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8654220-BFB3-4AB4-8688-517C49178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F18AE06-ACCA-4AD4-8E72-7901E2682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8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14F5FA8-EEE5-4225-9F50-C7CA2DC75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C8D7CE7-6CAA-45BF-AAEA-9027E5EEE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2F39A-FB6B-444F-8A19-4928FC23A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0BACFDE-9CE7-4E83-879C-2D67003F6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6D48A50-D20A-4F3C-A194-E188D2DE2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6209CEB-C901-40A4-9F35-F2503525C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47BAF2B-AB03-4134-B85E-4693AF2C5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431C6D2-6945-4132-B181-D5622D71A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B351C75-045F-4EEA-9E1D-41E7A8555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4842EC9-65A6-4BD4-8C16-81A1029C5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8D62595-0013-4F0D-A43F-B2A0D8895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C44AD1A-AB9F-4B13-9214-1918321AD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0C8AD1C-52BF-4926-BBA8-636A7D7F5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9C1F2-7325-4DCE-A9C3-A27F6F264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6DB4866-7346-4BCD-9E52-D6DFF141D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8468954-DA81-4C3C-B341-BCC5D78F6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FCAA69E-75E6-4AFD-AF27-9410AADCA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6A98402-5669-4304-8B67-C41E570A2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75A41AB-B062-4BF8-BE4B-ADD277010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693996D-0B2F-4558-A016-43E98AB42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2809F05-9EF1-4FC0-867F-AF635DCA2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A6677D8-D435-484B-BBE8-6065F6373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DEA7039-3070-4056-A8BE-DBD9BB48A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DF5253C-484A-492D-9D0D-F237BBCB5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58B5E6-AD04-45A1-94E9-1E6A8E930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7450707-02AF-466B-B8C0-A543BF0AF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AF1D5F3-AE88-4386-AA6E-87D591AC4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D49554F-7455-4B43-B47B-1D0FBCAFA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2060379-1E01-4E75-B519-F77724340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3762312-A0DC-4701-BD2D-E7B64DE48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115613F-DCBA-4DA3-BE3E-2AFA2C7CC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7DB4302-0AFE-43C8-BF46-AC2F69A1D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580BB9B-EC5A-46E7-A1D5-312BDF93A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44E5D0A-38DD-4A0D-B0A1-4D38D3E8C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4B0B078-9686-4C45-94E9-3856A5DC7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A7CF17-2F53-43DE-A27C-7A152ED69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51E4CA9-A8FA-4AAF-8844-B344CE3AA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B39542B-AD09-4034-818D-4F004CBDB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60C4C37-1466-4FC6-931A-0C8357C96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7964B82-D965-492E-A75A-591437E44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9A07ECE-5AF1-4C46-BBC2-9FB3146F5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31D0D9B-98BB-464C-818E-50DFE50E0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800DF72-210E-4003-8D0A-20CE6FBF0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94BB0B8-CEEB-4B44-8388-A9E5BB6C9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85EE461-F10D-472A-AA0C-1DAC6A438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0B3A7D4-07B0-464C-AD94-F33CA1E4E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6904D0-272B-4F36-929D-4640BBB5C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E8F9931-B789-45DD-8E9E-080F4C3D6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8EFCDCD-98A5-4714-A401-46C90ADCA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059C208-0138-42E9-B102-7EF61AE83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7EE9DBC-D4B1-4738-AFD6-BA8E954B7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D87891C-F244-40BF-9DCA-B322A92A9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92B7066-2ADE-42FE-B4F5-74FD7B83C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67B1F5B-CA72-4B67-9B8C-D1A7A549D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C34AB6F-3DBC-4305-8E78-E5C9ECE62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5E65C4A-769A-49C0-80EC-D24ECE3D7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E3BB7DA-65F8-415D-9312-3B179708B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F2FCDE-5A5D-4E19-B898-52BD76F45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93DD1A8-F8A8-4B18-AD94-2D12E65AA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072D2A5-8650-4D20-937A-14D48E13C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3DE736C-906C-4A19-9E27-CD5B871DC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8BED83D-1F98-4B5A-BE72-17E5F5236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24E3708-66B4-4269-85D2-B6307F1FB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365DBF4-0010-4D72-9666-FFC11E452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F3630C3-0170-4B20-A84C-10D9139C8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8A3EE14-5F68-4077-9AF9-3A43828C0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CFE7112-FD06-4791-AF06-0C87DEDCA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A32A9B-39D3-43D5-A94D-93DB0AD35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86A07-D1C6-4C71-9932-3DFE0B4DF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B1E1C0-4224-4CBF-9F24-08FF7BE90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7A8C46-6EAE-4D47-91D9-B9BBBF464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7BD1EB-507B-4111-BD45-93F5A2D3C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FE9CC6-0D32-426C-AB47-B5A956D3A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D5F448-FB92-4CAF-9054-C0A90B519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B07E8F-BE52-4EF1-93B6-DAC0009BB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19B987-8A7E-499F-B278-F3B225FE7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FC70C1-D227-4C03-8207-7A1145ECA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33A74A-3BE3-4414-8210-69C91432E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A97C73-BB72-4D61-95E7-04CB03B9F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9DFFE-FC22-417D-A6C0-77BD846A7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1985A1-097F-476F-83A1-5DAE4DDAE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E57F24-DD75-4895-A568-F927C603C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B6C085-F4E7-4EA0-91F2-9B36749D7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4F7D0F-C2E2-4A5D-9BA3-53941A9CD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370BFB-33A8-4E2B-B11B-E3E9057F5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CFD59B-E665-4C72-ADC8-27C45116F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CA6F6B-03D6-4138-BA1F-F98BA0AC7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9419A3-5398-470F-A6A8-BBEC5D2A8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73D84B-00D5-488F-8C97-40F16930E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73813D-13ED-4B87-8728-B0C46E49B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CD7FA-BE1B-4080-BC83-FDB18EE1F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532BD5-EA98-42C8-8F7A-7BE5C31D0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AC3341-D37A-4A72-862E-5610386B5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55F23A-2E15-45F4-866D-1632D5BDD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4E71CD-DC0F-4AD0-9676-0221AC1F5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2AA186-6DF8-4246-8D38-03D67015D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F0C06D-5341-4314-A868-7E4D7783F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ACB2CF-5EA9-4876-9095-009871E7A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867383-3048-483C-8889-5C4AF1006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294F9C-2BA5-4159-B77B-083B1CFC9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5DA54D-7550-4F89-B3E5-36F48ADAE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27D08-F66F-4B32-9A12-A202BC23F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AE5667-69DE-4890-AC66-B63DF5EE0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E225F3-29F2-43E5-9FAF-2F7AA5DFB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3239C4-0E13-44C6-9A22-1BC024DC8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E71579-38FB-4D96-921D-241FC4E30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B95418-E4B4-44CF-BF5D-58A0B80A3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09E79C-6BDC-4CBC-8009-EFAF1DF8D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24CED3-7DFE-46CF-87DB-6D3C967D7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5D95F6-4429-4108-9BC8-F5CB0AFF6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0F8958-8CC8-4489-8057-63154096B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638231-6B9F-409F-9096-04A98CDBD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65A7E-BAAC-4394-A021-57A27D191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EAD048-43E7-45D9-A83C-BDE5F723B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0133E0-1283-4A5A-A245-62513E580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D89206-CB84-4CC6-8A12-656B110A6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29903B-FF30-42E0-ADFC-584F1320E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584EA5-3962-45F6-8D3A-77B19E881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6FA127-A8BB-4C4C-BE6D-7488ED164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433BE8-ACC4-4B17-9805-206C62AA6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9AF6A1-3BA1-4572-AF6B-0B7CC7825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64653D-5FC8-466C-BE91-0F0340A87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F6820B-46DA-41DD-9043-0957EA044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94A09-0D2C-4A9D-A99B-A540AB444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584780-72F4-4104-9221-DE6C57886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921863-519E-43F9-B08C-9CFF3EFE4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CC5F27-D25F-464B-B6A6-DF58CF2C1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3D7722-AC8A-44E9-ABF2-48FFB9C55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F045B9-B0A9-429D-A24E-BD7C69AE4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9447E7-DA92-49A8-A95D-415897B7E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E24423-D504-466B-A368-E2103B306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6FC60E-49D6-4DE8-9DC2-1D1CB7054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EF03E8-99F8-47F4-A195-744A52BFE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9DB16B-7EB6-43B5-8CF4-593567DC5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344DB-F781-4AE8-B239-FB9879BA3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9C164C-5E3C-4AA8-BFC4-A65EB8DE1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2F7954-0341-491C-9CED-7543D7700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E153D3-C653-4D55-9DF4-9E41FF21A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D8790F-4C89-4ECA-91EF-82695FBFF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106848-46EF-4ACB-9E01-7B7CC48B3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38F98D-7398-469E-AFE4-FC1DE2D47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960ADF-948E-42A3-8684-D0FBDD6BD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D27DE6-6EE0-4068-BDF0-FB6B79628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456741-4588-49D3-9CD7-360BF9949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12598A-AA36-4DFD-BBF0-E9926569F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8F087-5159-40D8-8905-077870FD4BC0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865CA-98F3-4F77-834D-5D17FF34A7CA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89D8F-9C0A-41C7-800B-0D0E93CE67BA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96EA4-EFA7-44E7-B335-321964B9D0E4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71D3A-A8F4-4065-A41E-B659BB1D62EA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994F4-24F9-4B9A-80D5-61412B0693C4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91EE5-071E-4B76-A342-2088ECFF914F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4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F7E2F-ADC4-43C9-8CA6-CD5E6400CC54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5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B078B-01CD-46B4-B35F-4908B1A73B7E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dt" idx="5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ftr" idx="5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9760F-0C23-4608-9E05-989321D9049B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 type="dt" idx="5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 type="ftr" idx="5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949DF-747C-4BAD-B33C-0404C7E828B3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E5231-12D5-49A2-A1EB-78DAF9AA55F8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 type="dt" idx="5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 type="ftr" idx="5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02570-A9A4-422B-8F52-9B355E1CFE9C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 type="dt" idx="6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 type="ftr" idx="6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E2F51-3589-4E65-863B-EF42B88208EF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 type="dt" idx="6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 type="ftr" idx="6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 type="sldNum" idx="6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163E9-4ECA-4678-8E2C-3AD24361467E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 type="dt" idx="6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 type="ftr" idx="6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 type="sldNum" idx="6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9E527-F3D8-4088-97AD-628CC554253D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 type="dt" idx="7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 type="ftr" idx="7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 type="sldNum" idx="7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1BF45-8A58-422E-91F6-89BA934B2048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AACF6-AC98-4649-9519-B97DC1C0955A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91D44-0E12-4A9E-B917-6A2FF2263D99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9A2E8-D999-4285-A241-08C2983E0EE8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771C9-0C4B-4DDA-8C91-8826B564243F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C8C36-065D-4C7F-AD92-FE26EFEFFFD3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90232-33BE-4071-81C4-5EF3DF064E7B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CD67F-8F33-43A6-A946-9FF050D32FDB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Rectangle 3"/>
          <p:cNvSpPr/>
          <p:nvPr/>
        </p:nvSpPr>
        <p:spPr>
          <a:xfrm>
            <a:off x="0" y="1066680"/>
            <a:ext cx="9144000" cy="20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 baseline="12000">
                <a:solidFill>
                  <a:srgbClr val="669900"/>
                </a:solidFill>
                <a:latin typeface="Tahoma"/>
                <a:ea typeface="Times New Roman"/>
              </a:rPr>
              <a:t>Reg. (CE) n. 1698/2005 del Consigl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 baseline="12000">
                <a:solidFill>
                  <a:srgbClr val="ee8f04"/>
                </a:solidFill>
                <a:latin typeface="Tahoma"/>
                <a:ea typeface="Times New Roman"/>
              </a:rPr>
              <a:t> </a:t>
            </a:r>
            <a:r>
              <a:rPr b="1" i="1" lang="it-IT" sz="3200" spc="-1" strike="noStrike" baseline="12000">
                <a:solidFill>
                  <a:srgbClr val="669900"/>
                </a:solidFill>
                <a:latin typeface="Tahoma"/>
                <a:ea typeface="Tahoma"/>
              </a:rPr>
              <a:t>PROGRAMMA regionale di SVILUPPO RUR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 baseline="12000">
                <a:solidFill>
                  <a:srgbClr val="ee8f04"/>
                </a:solidFill>
                <a:latin typeface="Tahoma"/>
                <a:ea typeface="Times New Roman"/>
              </a:rPr>
              <a:t>      </a:t>
            </a:r>
            <a:r>
              <a:rPr b="1" lang="it-IT" sz="3200" spc="-1" strike="noStrike" baseline="12000">
                <a:solidFill>
                  <a:srgbClr val="ffff99"/>
                </a:solidFill>
                <a:latin typeface="Tahoma"/>
                <a:ea typeface="Times New Roman"/>
              </a:rPr>
              <a:t>2007 - 20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Rectangle 4"/>
          <p:cNvSpPr/>
          <p:nvPr/>
        </p:nvSpPr>
        <p:spPr>
          <a:xfrm>
            <a:off x="225360" y="4869000"/>
            <a:ext cx="8701200" cy="12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669900"/>
                </a:solidFill>
                <a:latin typeface="Tahoma"/>
              </a:rPr>
              <a:t>Genova   -   4 luglio 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Rectangle 5"/>
          <p:cNvSpPr/>
          <p:nvPr/>
        </p:nvSpPr>
        <p:spPr>
          <a:xfrm>
            <a:off x="2556000" y="6541920"/>
            <a:ext cx="3671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857160" y="2857320"/>
            <a:ext cx="7772400" cy="128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MISURA 331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"/>
          <p:cNvSpPr txBox="1"/>
          <p:nvPr/>
        </p:nvSpPr>
        <p:spPr>
          <a:xfrm>
            <a:off x="142920" y="1714320"/>
            <a:ext cx="8858160" cy="45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peratore sanitario alimentare per le aziende agrituristiche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euro 120.000,00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ggiornamento per fattorie didattiche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euro 35.000,00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orso base per fattorie didattiche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euro 80.000,00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ggiornamento per le aziende agrituristiche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euro 82.400,00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50920" y="981000"/>
            <a:ext cx="864216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Tematiche ammesse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0" name="CasellaDiTesto 5"/>
          <p:cNvSpPr/>
          <p:nvPr/>
        </p:nvSpPr>
        <p:spPr>
          <a:xfrm>
            <a:off x="166680" y="6510240"/>
            <a:ext cx="361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PSR - Misura 33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590400" y="91908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Obbligh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2" name=""/>
          <p:cNvSpPr txBox="1"/>
          <p:nvPr/>
        </p:nvSpPr>
        <p:spPr>
          <a:xfrm>
            <a:off x="357120" y="1571400"/>
            <a:ext cx="8462880" cy="45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are il “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o con fogli firma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entare </a:t>
            </a:r>
            <a:r>
              <a:rPr b="0" lang="it-IT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ra i documenti essenziali 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’elenco dei partecipanti 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i corsi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ispettare le norme di antinfortunistica e prevenzione degli incendi nelle sedi di svolgimento delle attività previste (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obbligo di stipula di assicurazione contro infortuni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are e far compilare ai  partecipanti alle azioni formative 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questionari di valutazione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unicare le varianti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partecipanti devono frequentare almeno il 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%(75 % corso x OSA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delle ore previste dal cors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gli aiuti per la formazione previste dalla misura 331 possono essere concessi nei limiti del regime “de minimis” di cui al regolamento (CE) n. 1998/2006: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 suddetti aiuti devono essere riferiti ai destinatari del corso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verifica preventiva del cumulo degli aiuti complessivamente concessi alle imprese partecipanti, previa acquisizione di una dichiarazione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3" name="Rettangolo 3"/>
          <p:cNvSpPr/>
          <p:nvPr/>
        </p:nvSpPr>
        <p:spPr>
          <a:xfrm>
            <a:off x="276840" y="6488280"/>
            <a:ext cx="157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PSR - Misura 33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6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Caratteristiche cors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5" name=""/>
          <p:cNvSpPr txBox="1"/>
          <p:nvPr/>
        </p:nvSpPr>
        <p:spPr>
          <a:xfrm>
            <a:off x="356760" y="1571400"/>
            <a:ext cx="8358120" cy="45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514600" indent="-251460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2514600" indent="-2514600" algn="just">
              <a:lnSpc>
                <a:spcPct val="15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ndividuazione dei partecipanti (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no ammesse 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 spese per l’individuazione 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i partecipanti,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stenute antecedentemente alla presentazione della domanda di aiuto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2514600" indent="-2514600" algn="just">
              <a:lnSpc>
                <a:spcPct val="15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esentare  </a:t>
            </a:r>
            <a:r>
              <a:rPr b="1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due domande di aiuto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corso) per tematica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2514600" indent="-2514600">
              <a:lnSpc>
                <a:spcPct val="15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osto massimo per ciascun corso: 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euro 25,00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er partecipante/ora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2514600" indent="-2514600">
              <a:lnSpc>
                <a:spcPct val="15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numero destinatari e ore durata : variabile in base al cors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2514600" indent="-251460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6" name="Rettangolo 4"/>
          <p:cNvSpPr/>
          <p:nvPr/>
        </p:nvSpPr>
        <p:spPr>
          <a:xfrm>
            <a:off x="348120" y="6488280"/>
            <a:ext cx="157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PSR - Misura 33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CasellaDiTesto 4"/>
          <p:cNvSpPr/>
          <p:nvPr/>
        </p:nvSpPr>
        <p:spPr>
          <a:xfrm>
            <a:off x="4429080" y="1643040"/>
            <a:ext cx="4429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514600" indent="-251460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14600" indent="-251460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14600" indent="-251460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14600" indent="-251460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14600" indent="-251460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14600" indent="-251460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14600" indent="-251460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14600" indent="-251460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30T07:38:51Z</dcterms:created>
  <dc:creator>lavagnino</dc:creator>
  <dc:description/>
  <dc:language>en-US</dc:language>
  <cp:lastModifiedBy>Capurro</cp:lastModifiedBy>
  <dcterms:modified xsi:type="dcterms:W3CDTF">2013-07-08T07:04:42Z</dcterms:modified>
  <cp:revision>143</cp:revision>
  <dc:subject/>
  <dc:title>Presentazione standard di PowerPoint</dc:title>
</cp:coreProperties>
</file>