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468A-08D6-4764-B03C-A9BD99D48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CE46-1329-46E5-8C70-1C65D726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395AC-A62F-41F8-A808-2ADCBD50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7EB932-16BE-41D5-A204-49F9BCD9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24779A-2734-402A-9FCE-F21EE36C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E64FB3-4C96-4E56-9330-D31C5E15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E82A68-B5D7-49B6-8BA5-AE9AFCEC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1DF3FB-7AC9-41AE-81F0-C11D4B5C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CE3817-F190-499F-A95A-25359E1B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71BAF-DA3E-4EA1-85BF-7F126DB74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21646A-7D18-46FF-A10E-FE5403BA2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3DE87-22D2-4437-95E0-77088ACD6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EFA9-0909-4DAD-B234-A20E2810D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C4E2C9-CAE8-406D-8FE4-DC4F5FA4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4C6A7A-CA94-46B6-BA4A-AA8EFF4E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D3251C-748C-4BF6-8E4A-83F21B9E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0FCDE8-AD06-40F8-AB06-8D035185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AEF189-52F0-4BD8-9772-6BC6C3FE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4C6695-1C65-4AF4-A18E-885D1C42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131A47-EB4A-4813-BF00-7481AE51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51F78D-3D7A-4525-8C05-3FBB52FD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539B6C-12B5-431C-8829-39FC3D32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9CB469-6E14-45D6-A4EC-1C888065C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BDDE-987B-4B67-92D0-582DE9EB5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DCEC35-39DE-42C0-949A-9154847C4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95AA5-F69E-41AD-9D25-4C06A9A73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55A707-5585-4AF2-9C9D-D3F0A38E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80747-F0CD-4E00-9288-162170AD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CDAD9-C401-4A21-B360-8F7C3ABB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E0C31-9647-4373-B207-17627446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3CAAB4-A24E-4806-AAF4-5ABD7B1B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C5DC2F-8706-4A24-B247-10D19313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DCFD8-622E-4DBF-A24C-D85F508D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21ED3-8202-4E45-B91E-7EC4EBF8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C5C0-29A8-4E5D-A2F9-4760A7F1F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E0054F-E01F-4928-95A3-67AE6D4F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B3743-BBCC-434F-B721-49E9CF696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7A54D-5169-47BA-948C-1A6096441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F4AC12-2862-4394-B483-D3D3D9D87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3440B9-0A77-4597-AECF-EE9D7B1B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53531E-FFD0-43D2-A2BB-22F3616C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28C218-F6AA-47AB-8FEB-932BCCC1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00635A-5101-4D90-A593-36EE87D2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9D951B-9E4E-4F27-B1F5-D4C938C9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552C70-EDD4-4CAB-8D2F-4407EAA1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7EFC-A1D7-4471-BA27-24DFEAFE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434E53-2DBA-43C6-B2C4-4950BA0E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8AB831-DE9F-4B81-BE66-7C783B92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D989D0-D133-4210-8F20-07C1F48B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486F70-FFD0-4940-9879-3E85B9F08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B63705-EDA6-44FF-B5CF-473EC8481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DB1612-F704-4902-B923-AAA13DAB4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40DC7B-4C8B-46F8-BC42-FC23BF38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B01715-2DEA-46AF-A26C-438498C1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A88F1A-BBAF-46E5-9BD3-E2A85391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5A944E-BAC0-45AA-BB7E-1A316FD8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A5B7-5AE6-4476-8429-5E4E3718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9E87B8-4A51-44A2-A654-EA60B005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6E6983-D5D5-4DF5-BDDA-457BD8B1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41FAB2-E9A3-4FB1-A618-04CCA4B7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6CF5B3-DA15-49A5-81A6-383D4C49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0401C0-E814-4BB2-80C4-E30ECDC4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31DF04-90AF-4E52-A46F-758181AD2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7D758D-28BD-4171-A547-9CBD58EE1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226166-D2E4-4911-AC64-252904CEC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B116BD-11B4-4662-87CF-32DD3D62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E7C5DD-54A1-4137-A2F8-338AC318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81978-54E3-4C8B-8C1F-0BAD11A3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2E845E-39CA-470C-8BC0-EFDDB4EA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D50D6C-F2AE-4CA1-8F6E-B3203B7A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92F058-6452-44EE-9C24-D20D80EA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346A02-B46A-44E5-93CF-24A2BD00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80B5E0-E82B-422B-AD26-A3789866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C6F401-E17E-4A38-BF40-86DF12A7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094D63-ADEA-4D83-B10A-C11BD38A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00534C-B59B-4DCD-9201-F0283C3FC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1A6A77-33BA-4A33-A774-A17ECF783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84031B-8666-48D0-917B-53BE2224A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192D-315C-45F6-A77F-02EE3B5D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66B72A-1E87-45D6-A0CA-94168BF6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B15FEC-DB1A-4A9E-99A0-188E67C2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24B2CC-B361-4BB8-AB78-62405409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E02B4B-2C8F-4580-BDB5-D83538FA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706A03-4BCC-46C0-B3E4-F45BB93C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C691B3-40D6-4975-BF92-C1FA30E3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7B235C-0131-4C62-B80F-E0C8C61F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6744EC-2129-477C-9D1F-D644621E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CA7D10-E372-4CDE-8858-75026B8E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1307F2-3162-4494-893F-68A4682B3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CBBF-7D73-4BF9-B326-EFD97AD5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F5470D-2217-433C-AD17-4411B5A57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8052D7-D875-43A6-B7C0-5EC53A6BB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3B4813-D313-4923-9FFB-A383AC3B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1FF578-C363-45ED-875C-DFCC2B33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7A74A0-7592-4913-AAD1-13964BF2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2F8056-E56F-4FD6-B1AA-F839FD02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7E74B5-BF71-4385-86C4-B21A0FAE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EB14AB-3C8E-4343-9E07-2D690679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5B576A-4F81-44A3-8D80-B045E6E9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87B47E-89D2-47BB-8BC2-85447B97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03EF-068D-4E48-B6B0-38465667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1CB403-230E-4FA4-93D5-2ED968E0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469128-41B5-4283-8EAE-2B636002B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18DECA-8621-4E33-AA12-497D0AB4C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E89B43-946F-4493-B8F3-2DF025E09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40F05C-3FF6-4A24-8424-C5D414D1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E29FB3-E898-4DA3-A56B-7916AB93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AEC098-D4A2-4F13-8C73-E3E24665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D34973-3A89-4118-949E-DB245B8F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874683-AFF0-48E1-B279-F2A34147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32005E-61F4-4CA0-B256-D88E3E73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481B-E3F9-415C-8A46-77D02FEE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7CEB-593D-4179-9747-7DD555D3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728F39-E861-4DA0-A2D7-484CEE60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4160AE-7C34-4D55-8F71-E3B474F5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BC8322-0CDD-4AB0-8DD5-E3CBCDEB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03B719-8950-42D2-A6BA-7F1B9F84B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8E907E-19CD-4D6F-B9D2-093D1897D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A153D3-8292-4E0C-A475-8533C23F0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1D7888-BBED-465F-946B-951BE3CB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4231C1-777D-4C07-8494-07059924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C7D187-EF73-445C-9B30-3B4B5272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D80BFC-B158-406D-820F-680F72E6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822A3-B16A-4198-82DC-1D4AD3B0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72B720-A86D-4434-A5BA-FFEA842B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E6C215-B817-43BD-B30A-4726B0FE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2F2531-A7A5-47B9-BEA0-417D2A04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17A5B2-699A-42C8-A662-18C726FE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6CC797-335E-4254-92EC-DED31E6A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6D734E-4F89-43A5-A778-4E5F1C9C6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18F4AE-85E8-4061-841D-11F5899ED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AFC75A-3A57-4DAB-AB30-2508FDEC9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06D219-B7D6-437D-9E2D-2ABA8AB1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906CB1-64D1-44E8-8120-F2A0A164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B545-A8AB-4C41-8EB6-DF801EC3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92D1DA-4BDA-4755-9D3C-3FE4CCEE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441CDD-AD0A-4625-924A-B7704C53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CD3F08-9086-46C6-8FD5-68B66AA6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3C9F0F-F2C7-4486-A86D-C526B08E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14D19E-42BC-4A70-89B6-67C18E96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153ED9-0849-4A00-88E4-BD1E4CCB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F85F0E-A749-40BA-B4B6-AFE68200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680460-33BF-4CD6-98BA-8B5A83A47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4AACA8-6646-4673-820D-F64AB9E1E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487116-41AA-43AE-AFFA-A1142CCA1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1336-0C8C-4D92-A940-904DACB53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C04154-A1B3-4C8A-AD9E-6856E776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AB4843-6198-44E0-B251-70DA9D13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764753-30C7-45CC-AAB7-336AD244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514A18-944C-4390-8CEC-6910194F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E963D9-0B3B-4112-80C2-99D570F9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63E4EF-19C2-4F81-B25D-75E8EC12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84406D-D25A-4815-874E-80C0D7BC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C22604-DAB1-4C16-BAB4-88C591F1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FF925D-BC64-45E7-A038-3D2313D9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E22D52-A520-4746-836A-71F99BCAE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FB7B-96FF-4EE9-809D-E8C2FE231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91E2D0-1983-4B53-ACAF-7DC57CE0A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13DF20-50D2-41FF-8FBB-DF84FF075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97A434-CCE4-4486-9D36-AF55A05E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BEC0DC-17BD-4668-BAE3-BD8C2A10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6F133D-9F39-4380-AD8E-0353D4FF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5F9AB6-E3BB-4A8B-B3A6-57B11AC0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1613EC-EC9A-470A-8BD8-B317FACF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6E07BA-746C-4852-BEAE-03EFFC96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525D13-FDE2-42B5-B843-01431207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753970-E969-4931-9AB0-002F11C0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89082-C1D8-41D3-822B-68BDA5766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7D9854-EBA2-44B5-ADD0-C81CBF8D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E43C33-BAD5-4CC3-ADCC-2F983F132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48AB0C-CBD6-4A4E-90C9-C73B7411B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8A6679-BF9D-4BFE-8BA6-CD926D718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76EE90-3713-4225-B68A-0A165BD8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BBF3A6-026E-4067-81B6-F9FE7FA0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3859BB-E30C-4FD5-A811-589192F0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8FE180-E1E4-48B2-928F-4066B8A9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690E91-02A1-408C-8F9A-AAE4CCDA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5379FF-34F9-474C-A63D-8D13521D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201C6-5E61-4326-9495-20CDC879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C8C8F2-02CA-4D5E-A03B-330702F3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2082FD-A365-4309-9ED1-B6F11658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0D7BC6-D095-4D81-BADB-499CE701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EEA4BB-8E71-4DB8-BD25-88E9897CC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A9E5B8-66DE-41A7-94F2-D788C8A60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A39914-4612-4F12-A4DF-BE4F0E4C6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B9EB96-B2B0-46AF-9E01-EB53211A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51DB9E-5808-4A6D-ABB7-FBCBC0D5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6FAA7D-A1EA-43C6-8307-EEB09F7C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BB4C48-227A-4BDB-BD8E-B5C8035F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DC488-02A6-4F83-9547-F752156B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B5ACB9-0D13-4211-92E0-83D60524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2EF74E-A778-4C8E-A146-AC4BA0C6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E55286-F360-4D0C-AFAC-A4112B29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849887-B997-4D64-9A79-8C255A33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D3A855-4E8E-4339-94BF-324B39DA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134662-FA89-439B-9C1D-3F5ADA8E1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5B7F82-23FB-4C2D-972F-A0A9DDC52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84F3C4-611D-45DF-8581-29C098250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0A956F-2587-4578-BFCF-C928AB99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495987-BCAD-45BF-8DE5-084D9EC9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29351-B65D-4F09-9C28-51152996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D3C600-94CE-4CCC-886E-B9D102A0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4CF99E-C150-45B9-A97D-E3E46045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A50973-3311-43A1-9A27-2B18FDB5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0E5E3FC-31C8-4E99-B1A9-D0109409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A7FBDC-4643-4D52-A205-866B6822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3F520B-144E-44B2-AF91-29BE2B06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BE9D6B3-0797-40FC-A0C7-B39D49D9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0B8ED5-F35C-483E-B88B-29022907A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8C6FDA-786B-4364-BDF3-2DA56DC1A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36EF7-2A9F-488C-9EC0-F410511B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B204-174F-4A46-AAD9-119C25F5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88B0D-0AD2-4012-ADD5-4D8CDEA3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6DFB0-D562-43AD-A6F0-7D19F012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53171-BF5B-4D17-B70A-51D854CC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80058-36E1-48DD-91EB-D641A5D8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EA451-A51E-4F7D-BC29-40DD4699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1FFD0-F1A0-49DF-B208-FC0432C07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50A7C-A239-41E2-8751-C323F75BE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F6703-3BAD-497A-895D-52C35D120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7B86B-0DD8-4364-A76C-C4CE8ECC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AD56F-007C-46C2-948B-763C4A1F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6493-CD13-4261-A6F3-F45EF087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A2475-7E8D-4B3A-B1AA-C1FFC6C0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24B5A-153C-4367-BD86-45A5417F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2A5D6-365A-4D73-A3AE-EADBD53C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99C25-C4CD-4970-A2FD-3B3376F2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59731-2C19-4FE8-AD58-BBA846DD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8AB4F-2785-41F0-B473-109F8202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A118C-B96B-445D-948A-AA234542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72E95-31D0-497A-A304-5A12F46E8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841C0-F261-417D-8C30-CC2DED9CC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7BF27-856F-4DDE-B9CE-A63048D58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F1E4-7745-4B06-BD52-6297BFF5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25E8D-78DD-4297-B591-904F1F79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19EA1-F553-42E7-B1E1-F4C6A92A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C0C3E-DDC7-46CA-B63A-8398B28F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639F0-C873-45A7-822F-FFE632BA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88CBA-585B-45C5-8378-16D21168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EC94E-CB49-479F-8D3B-CDA5E922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DB57A-D4C1-4C80-A535-AD6DBADC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2503B-678D-45F0-A116-E7E0EA5C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B526B-2E11-4E0E-A4CD-A0C8D180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F39D0-105B-4795-A6FD-74A304604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F060-51EA-4D2A-9601-011ED126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EA39E-5CFD-44D2-82CD-8BFA229D1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F45EB-3D26-470A-92D0-DEFE56671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B7778-4D74-479E-8F11-F792CDA8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A4AB3-368B-4AF6-A0B7-979FBE0D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B4B13-B1E6-4640-94E4-7760D4C4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CD2A7-46F7-43E6-AE66-B6A57B69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AC333-0A86-47F9-839D-1FF6F59B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F24BB-291A-4676-9E7D-2C9DC637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7B539-9838-4D8B-BCAF-2A4DC5E8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38775-5F57-45D2-900F-75FD6DFD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553E-AACF-45D7-82F3-6B367B54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A2EC7-CF2A-474E-A262-9A3C3A2A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E7695-3B13-4737-B43D-4E6830626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34B50-9BD4-483F-A552-8CE3F703B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6018A-3DF9-43BC-BE33-2967CB84A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74E81-E591-456D-9347-45C882D1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ABFC3-A616-416F-A37D-15EA8D91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F14BA-6891-45E0-A60C-E9DA8A30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FE885-0BEF-41C6-8033-F5F51923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00C65-E0B5-499B-A550-389E2508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F5010-C661-4C43-81B5-9FBB9A70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A5D8-BEC1-42F4-B447-FF5BA983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7C26C-928E-498E-A26B-BD9FB79F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E613E-495F-4775-86F6-57824C43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D0424-EC23-48F0-ABA4-AE988A8B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DB006-F24E-4846-B1D0-673AA9803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196EF-3F01-4BCC-A0C0-4E929DECE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C1CEB-8D24-4A36-B986-A4F7D13BA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B7858-E1AD-4A5E-BA8F-68ECA5B0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F9604-FEBF-4CAD-888C-E77C6255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0206F-2E1D-4ECE-8209-D33AEA81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6284B-7899-4FA7-B6A3-F5B2EF172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5A17-EBAF-4A24-A302-4508CB35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3B8F0-3780-4B40-AB59-BFFD6F4A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01A92-7E51-44F8-9214-5457E063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8350F-0908-4155-92BB-7A96F02E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D01A6-F857-4E73-85A5-4C63E75A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9B9EA-1C88-4295-8217-9E1813AC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C218D-6C8B-48C1-993A-C0DB40321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DF65A-F509-4A2C-9A03-F51324D92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9EB0A1-FC3C-4498-88AD-9814577D2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E34047-6E5E-4E4C-8E19-4B1EA2BE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9BC955-6300-472E-8071-5B584642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8EE1-4DC8-40E0-A512-7EFD953DE82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7F6F-1516-44C7-9747-24F6EA1B993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12F8-C3D2-44D6-B2F7-95A4C6075A0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DF1A-310B-4A88-93E2-9DCADF4AB2F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1290-E42A-4EE4-AF37-073A0CA1D96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BEDF-6F87-4F14-B316-AE7EBA0BC4A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7BD8-4701-4AF4-9256-6DA666745D4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350C-24CF-48E6-80F1-BEB7CDAEF68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63B1-53D3-42D4-988F-8E4C860E4F8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C9A8-6832-405A-B066-B614CD8399B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5A27-F6E6-4A7E-A276-B870AF0E342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1C45-A74D-4787-A43D-30BD12861CD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0D78-D123-48FE-82D3-5F880015A5D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DADE-7C9A-46C4-8ECC-30B959441EF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A615-0DDB-4928-B666-2BB2A3C8EF2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516C-86EB-4250-B612-7B8EC862418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17D5-E008-45B2-B2B1-9E8B623C729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F1B7-98B7-4742-8EB9-9B50D7CEB36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338D-DF6B-40A0-92F2-6DEDD7A42A2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4214-B60D-4505-9B14-ED0984C284E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760C-8FAF-45ED-AFF7-9608CC144D0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50C1-DBDA-4F46-BB33-60162994953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DE8C-4346-40B0-9DD0-F2E14381270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FD4D-1869-413C-96ED-114D71B8FBF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1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e b) “informazione”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GETTI DI INFORMAZION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che devono prevedere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incontri inform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endono una serie di riunioni collegiali, di durata non superiore a 2 ore, aperte a gruppi omogenei di partecipanti, in numero non superiore a 10, rappresentativi di specifici settori produttiv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seminari e convegni divulg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iziative informative di approfondimento per un minimo di 11 destinatari e una durata di almeno 3 h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’ ammessa l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e/o la distribuzione di apposito materiale informativo (facoltativ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i finanziabi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O BANDO  (apert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ggiornamento sulle politiche comunitarie agricole, forestali e ambien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roduzione e trasferimento di innovazioni produzioni con particolare riferimento biologiche e ecocompatibili e gestione risorse (risparmio idrico ed energetico e uso di fonti alternative, protezione suolo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portell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 solo progetto per prestatore di servizi (indipendentemente dalla tematic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fine progetto: 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3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ccia in giù 4"/>
          <p:cNvSpPr/>
          <p:nvPr/>
        </p:nvSpPr>
        <p:spPr>
          <a:xfrm>
            <a:off x="3929040" y="3286080"/>
            <a:ext cx="64296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O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esentazione delle domande dal giorno successivo la pubblicazione sul BURL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condizionalità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sicurezza del lavoro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 (euro 4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stemi di qualità e di rintracciabilità (euro 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ogetto per tematica (per Prestator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– graduatorie disti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l progetto deve svolgersi in un arco temporale non superiore 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mesi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ntro il</a:t>
            </a:r>
            <a:r>
              <a:rPr b="0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31/12/2014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7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ccia in giù 4"/>
          <p:cNvSpPr/>
          <p:nvPr/>
        </p:nvSpPr>
        <p:spPr>
          <a:xfrm>
            <a:off x="4000680" y="3786120"/>
            <a:ext cx="6426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progettu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per ciascuna azione informativa) ovvero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nco dei destinatari nel caso di invio informatico delle newsletter e dei bollettini (previsto nel 2° band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 del progetto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4.000 per singola provinci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15.000 per progetto regiona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al Settore Ispettorato Agrario regionale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ngola iniziativa informativa (preavviso di 7 gior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 il 1°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disporre un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ort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riassuntivo contenente i fabbisogni e i risultati attesi (settoriali, territoriali, filiera, etc.) dalla nuova programmazione di sviluppo rurale 2014 – 2020. (da inviare al Settore Politiche Agricole entro i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)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3:44:54Z</dcterms:modified>
  <cp:revision>146</cp:revision>
  <dc:subject/>
  <dc:title>Presentazione standard di PowerPoint</dc:title>
</cp:coreProperties>
</file>