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8317-B3A4-4E20-AC59-E0916F939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92A8-0E68-45E9-AA1E-59D686C2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94B1-D2F6-426D-8271-3436A7217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836F-9087-475A-9AB8-FAE4C7456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DD62-AE55-48BE-9750-9C59E018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D802-0D25-494C-83F3-0C27CE71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4889-0225-420B-B82F-95730285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E4B6-3C8B-443A-8A2B-D477A522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6DBF-7664-4E84-900C-30EEC3DD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4B77-C259-451D-AC57-7E89FC67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B513-D64E-40CB-8F05-FC8054F5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6F14-6259-47C0-9E8A-17C4EC9D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A8FC-0448-4ADD-B94F-FA2D9E9E7A74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BANDO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4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MBITI DELLA CONSULENZ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imprese agrico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A’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licazione dei criteri di gestione obbligatoria (CGO) e sulle buone condizioni agronomiche ed ambientali (BCAA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operatori forest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.s. e in aggiunt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2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1857240"/>
            <a:ext cx="82296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pologia della prestaz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isite azienda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1" i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ATORI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el computo delle ore effettive di consulenza sono ammesse  (max 10 % 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e forme di assistenza (facoltative) quali incontri in gruppi ristretti o tramite sportelli informativi local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voro d’ufficio per elaborazione e analisi delle informazioni e altre attività funzionali alla consulenza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rientrano nelle ore di consulenz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i contatti (via email, telefono 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VISITE AZIENDALI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4200" y="1905120"/>
            <a:ext cx="878688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liminare visit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ve essere effettuata un’analisi preventiva dell’azienda, che utilizza il servizio di consulenza al fine di evidenziare i problemi e gli aspetti critici (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i ingress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aziendal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intermedia),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grado di attuazione del serviz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fina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raggiungimento degli obiettivi prefissati dal servizio di consulenz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ODULISTIC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480" y="1904760"/>
            <a:ext cx="8715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schema tip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ck list 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à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lazione fina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è ammissibile l’utilizzo di specifici software per la consulenza, previa autorizzazione da parte de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1436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visita aziendale non deve essere inferiore a 1 ore e superiore a 6 ore (ore effettive di servizio di consulenza)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urata massima: 1 ann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fine indicate nella scheda tecnica e riportate nell’atto di concession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roga concedibile due mesi (e comunque </a:t>
            </a: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oltre il 31/10/2014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4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ttoscrivere i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pilare  la seguente documentazio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schede tecniche aziendal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(la data, le modalità e tipologia di ciascuna prestazione effettuata, il nominativo del tecnico, criticità e problematiche individuate e trattate ed indicazioni e azioni correttive proposte, eventuale documentazione tecnica e informativa consegnat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check list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condizionalità”, “sicurezza sul lavoro” e “requisiti obbligatori in selvicoltura”, comprovanti l’effettuazione del 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elazione fin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la definizione degli interventi necessari a supporto del rispetto degli atti e delle norme, i contenuti della consulenza prestata in relazione alle specifiche necessità dell’azienda agricola/operatore forestale e gli eventuali risultati conseguiti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</a:rPr>
              <a:t>PROCEDURA OPERATIVA (1)</a:t>
            </a:r>
            <a:br>
              <a:rPr sz="2400"/>
            </a:br>
            <a:endParaRPr b="1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iuto concesso</a:t>
            </a:r>
            <a:r>
              <a:rPr b="1" lang="it-IT" sz="1800" spc="-1" strike="noStrike">
                <a:solidFill>
                  <a:srgbClr val="333333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x euro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500,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per azienda e per servizio completo di consulenza, pari all’80 % del costo ammissibile (IVA esclus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5 euro/or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 consulenza  (intesa come ora effettiva di servizio di consulenz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NORME SPECIFICHE</a:t>
            </a:r>
            <a:br>
              <a:rPr sz="2400"/>
            </a:b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rma di un tecnico abilita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u tutta la modulistic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possono presentare domanda di aiuto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 soggetti che hanno già fruito di un servizio di consulenz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finanziato ai sensi del Bando, approvato con DGR n. 1434/2009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atto salv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siano intervenuti nuove norme (comunitarie e nazionali) obbligatorie in materia di condizionalità, sicurezza sul lavoro o requisiti in selvicoltura ovvero l’azienda ha intrapreso nuovi processi produttivi che comportino il rispetto di ulteriori atti e/o norme obbligator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5:56:53Z</dcterms:created>
  <dc:creator>---</dc:creator>
  <dc:description/>
  <dc:language>en-US</dc:language>
  <cp:lastModifiedBy>Capurro</cp:lastModifiedBy>
  <dcterms:modified xsi:type="dcterms:W3CDTF">2013-07-02T11:39:32Z</dcterms:modified>
  <cp:revision>269</cp:revision>
  <dc:subject/>
  <dc:title>Diapositiva 1</dc:title>
</cp:coreProperties>
</file>