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26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37.xml" ContentType="application/vnd.openxmlformats-officedocument.theme+xml"/>
  <Override PartName="/ppt/theme/theme12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39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431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</p:sldMasterIdLst>
  <p:notesMasterIdLst>
    <p:notesMasterId r:id="rId38"/>
  </p:notesMasterIdLst>
  <p:sldIdLst>
    <p:sldId id="256" r:id="rId39"/>
    <p:sldId id="257" r:id="rId40"/>
    <p:sldId id="258" r:id="rId41"/>
    <p:sldId id="259" r:id="rId42"/>
    <p:sldId id="260" r:id="rId43"/>
    <p:sldId id="261" r:id="rId44"/>
    <p:sldId id="262" r:id="rId45"/>
    <p:sldId id="263" r:id="rId46"/>
    <p:sldId id="264" r:id="rId47"/>
    <p:sldId id="265" r:id="rId48"/>
    <p:sldId id="266" r:id="rId49"/>
    <p:sldId id="267" r:id="rId50"/>
    <p:sldId id="268" r:id="rId51"/>
    <p:sldId id="269" r:id="rId52"/>
    <p:sldId id="270" r:id="rId53"/>
    <p:sldId id="271" r:id="rId54"/>
    <p:sldId id="272" r:id="rId55"/>
    <p:sldId id="273" r:id="rId56"/>
    <p:sldId id="274" r:id="rId57"/>
    <p:sldId id="275" r:id="rId58"/>
    <p:sldId id="276" r:id="rId59"/>
    <p:sldId id="277" r:id="rId6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notesMaster" Target="notesMasters/notesMaster1.xml"/><Relationship Id="rId39" Type="http://schemas.openxmlformats.org/officeDocument/2006/relationships/slide" Target="slides/slide1.xml"/><Relationship Id="rId40" Type="http://schemas.openxmlformats.org/officeDocument/2006/relationships/slide" Target="slides/slide2.xml"/><Relationship Id="rId41" Type="http://schemas.openxmlformats.org/officeDocument/2006/relationships/slide" Target="slides/slide3.xml"/><Relationship Id="rId42" Type="http://schemas.openxmlformats.org/officeDocument/2006/relationships/slide" Target="slides/slide4.xml"/><Relationship Id="rId43" Type="http://schemas.openxmlformats.org/officeDocument/2006/relationships/slide" Target="slides/slide5.xml"/><Relationship Id="rId44" Type="http://schemas.openxmlformats.org/officeDocument/2006/relationships/slide" Target="slides/slide6.xml"/><Relationship Id="rId45" Type="http://schemas.openxmlformats.org/officeDocument/2006/relationships/slide" Target="slides/slide7.xml"/><Relationship Id="rId46" Type="http://schemas.openxmlformats.org/officeDocument/2006/relationships/slide" Target="slides/slide8.xml"/><Relationship Id="rId47" Type="http://schemas.openxmlformats.org/officeDocument/2006/relationships/slide" Target="slides/slide9.xml"/><Relationship Id="rId48" Type="http://schemas.openxmlformats.org/officeDocument/2006/relationships/slide" Target="slides/slide10.xml"/><Relationship Id="rId49" Type="http://schemas.openxmlformats.org/officeDocument/2006/relationships/slide" Target="slides/slide11.xml"/><Relationship Id="rId50" Type="http://schemas.openxmlformats.org/officeDocument/2006/relationships/slide" Target="slides/slide12.xml"/><Relationship Id="rId51" Type="http://schemas.openxmlformats.org/officeDocument/2006/relationships/slide" Target="slides/slide13.xml"/><Relationship Id="rId52" Type="http://schemas.openxmlformats.org/officeDocument/2006/relationships/slide" Target="slides/slide14.xml"/><Relationship Id="rId53" Type="http://schemas.openxmlformats.org/officeDocument/2006/relationships/slide" Target="slides/slide15.xml"/><Relationship Id="rId54" Type="http://schemas.openxmlformats.org/officeDocument/2006/relationships/slide" Target="slides/slide16.xml"/><Relationship Id="rId55" Type="http://schemas.openxmlformats.org/officeDocument/2006/relationships/slide" Target="slides/slide17.xml"/><Relationship Id="rId56" Type="http://schemas.openxmlformats.org/officeDocument/2006/relationships/slide" Target="slides/slide18.xml"/><Relationship Id="rId57" Type="http://schemas.openxmlformats.org/officeDocument/2006/relationships/slide" Target="slides/slide19.xml"/><Relationship Id="rId58" Type="http://schemas.openxmlformats.org/officeDocument/2006/relationships/slide" Target="slides/slide20.xml"/><Relationship Id="rId59" Type="http://schemas.openxmlformats.org/officeDocument/2006/relationships/slide" Target="slides/slide21.xml"/><Relationship Id="rId60" Type="http://schemas.openxmlformats.org/officeDocument/2006/relationships/slide" Target="slides/slide22.xml"/><Relationship Id="rId6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PlaceHolder 2"/>
          <p:cNvSpPr>
            <a:spLocks noGrp="1"/>
          </p:cNvSpPr>
          <p:nvPr>
            <p:ph type="dt" idx="10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8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1" name="PlaceHolder 5"/>
          <p:cNvSpPr>
            <a:spLocks noGrp="1"/>
          </p:cNvSpPr>
          <p:nvPr>
            <p:ph type="ftr" idx="11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PlaceHolder 6"/>
          <p:cNvSpPr>
            <a:spLocks noGrp="1"/>
          </p:cNvSpPr>
          <p:nvPr>
            <p:ph type="sldNum" idx="11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C8574-BAD6-4915-9F52-F0C723B8A480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2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14E37-E1D0-494F-ABA8-B7EEE195168A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69174-169D-469B-AA15-0C0B8E524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B0444-BAD0-4DC0-8F5A-61CE06E80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5A2874-C92F-45C4-8949-A4A04DBD4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328B03-C672-47FB-A4E0-121AF3FD7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6EB9BE-AC9A-4AFD-8BC4-5415F77CC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E4E7A7-0892-431E-9A0B-FB0FFDCB4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4B9FA4-A0BD-4E94-852C-945D68D92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ADD8B8-5909-416B-A105-C8A74E89E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FBC3CB-4FFA-42EC-BE66-CD3AB7EDB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2293D0-C328-424C-A75A-3E9F98AE1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4C4DD1-6A14-42BC-8AEB-D8C05F18B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8BA905-1A5D-462E-973B-3803FF97F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F210B-0E50-4BE8-89BF-036640138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53D43E-7CAF-4A56-9361-BA7975A6E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4E16BA-2950-441F-B09E-DAC12EF36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3D3E8C-A67A-49BB-8CD1-8B6AEBF3A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90E805-E4E6-43A6-9EE6-0FB9DEDD4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82CA4F-4102-44D4-9089-3D4D3160B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DDD80E-0DF4-4369-8344-C27EEC75C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56AF14-12ED-4CD5-8C9B-B9CEB362E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D2B6F0-5C0E-427F-AB44-E3969A109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B41825-00C6-41B3-A42D-94A42EA9D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A07842-E03B-47E2-8FAD-1C2ABBD5D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17E4B-2FE0-4BFE-9CFC-7BA198DB1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132F1C-260E-4E51-B264-6ECBF9EB6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4E734E-F7AE-4B4D-89EC-B483521A7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0E20D3-B9F7-4196-95B7-80A77BDF1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A91DB5-610A-4CD6-A971-4E76B99C1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611B0E-A0EC-4042-B75E-77ACBC18A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18A8AF-5521-4F1B-B291-7C713C40E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D84D59-1F68-436B-8B51-B7F9AE347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6E2108-D073-475B-AE80-AB6DF5233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D865AC-B919-449B-B910-0C52FBACB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3EF033-04D8-481F-BC38-758B169C0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4B2C0-258E-4AAF-8820-73566D098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2E1BE0-994E-40D8-83B8-67045D0E9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8E49D5-1A96-4C9A-BBDF-3F01E667F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4939F4-0064-418F-B892-9F4298D4B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B25E50-E68F-4409-8B22-5143F7EE3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A066DA-388F-4AAD-BC9E-0D56575E2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E81D55-89AE-40AB-BAA3-D64F98E66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1852D2-9374-47A5-846E-812FE3182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AC7C53-04B1-42A3-8E66-7997FE560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419221-B5A5-4D4A-B128-6B96F1068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00D538-E368-46F6-80C7-6247D3C97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ACD8F-4B6C-49F2-B445-93FF16136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A755D7-1210-4ABC-85F0-A4E45E3FE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3023D0-CF3D-44E0-BD18-99B7783B1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D8CF5B-06C2-44D8-A20E-53E650796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C40F41-45C1-461B-A7E3-743ADAAEA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B9AA6E-8441-4D32-827C-7EF2BBB20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BC48719-2898-419D-AB4F-9929A60D3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AD10C11-715B-43C9-9A76-6AE9CD1F6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DBF85E4-A205-4E74-BC8F-CCECF2639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253336C-43F3-4EB9-A252-157704482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B38F3B0-4C8F-4ECB-99FA-FB5389607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E4D51-4BDE-4F67-99EC-3022DDA19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48A9952-AABF-4CB1-853E-F2FFAD2F7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07CAA61-827F-4F42-942C-610C457D9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12FCD29-3218-4E58-905B-68E62B941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59ACE9F-B473-420E-9010-797D20343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400F24B-C023-4CC5-B707-955622DA8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506E11F-E8CC-4C40-94F3-B4F24D0FC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F32FB73-829A-4E63-A096-CA6FD9672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D859EC9-A848-47E7-BB18-58638480A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792A431-91BB-493E-B670-97DF63A3D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0D39035-59B3-42F0-BF0F-C3248BB05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80BD7-BE0C-4F33-B677-63C350216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0AE87DC-3A57-40EA-ABDC-59FC93911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CB20735-ABFA-4719-BED3-870C0C8EC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D450575-A22C-4833-90D1-353531C84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7C4CCEE-51E3-46EA-9851-F3C196DA3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7B91D58-015D-44C5-B028-7B85915DA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E30B795-2C10-477D-B194-7331369E2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52C15C6-6664-4EE6-9454-651C62CD5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2592B04-C59B-49DA-9475-A5B7D0F2A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F985172-193D-4D7C-80AA-2C435B46D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EE52A89-B4B5-4A45-B91A-3CA0702B3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91664-7609-4163-9767-8F9629A1D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2C41037-C290-40E1-9BD0-98F77DCD8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5C89914-0B75-4627-B8B6-B367EC949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2601ADB-652C-427A-8332-D7AD2AE0A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DA946B5-EE1B-4F04-8DB2-E16CE114A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557D783-A58D-4019-B5DA-72DBD2135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5249F29-FC1D-4C95-AFEE-B704F984D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C171DAF-BCFB-4AC6-8D00-92189BFF2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0C27023-1F78-4C43-BE7B-2E559B0C0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05FE5EA-F9F0-4CDD-A24B-3F27AEDF8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2168A3C-5957-4C89-9067-BD7AD502E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35BDE-D762-40F6-993C-86D7B8434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C4D1F92-2E7A-4ABD-81C8-0B47A34A0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21B94FC-F823-4DDF-A2CE-FB1870BE7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6C26D20-B479-49BB-95F8-C6A057B46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3ED329C-BB54-4DB5-B565-78D800927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0451E05-AC3A-4A5E-89EE-88D65B3FA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3C38675-A2AD-4907-A2C0-8091EC146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BF67FB9-55D6-4D22-9555-1169122AF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ED5A50C-2DBF-4221-A615-E396EEA4A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D10EEC3-BE03-400C-B2BB-7906AA3A8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E80EE8F-AF46-4E14-B829-020592EE5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7D28F-A341-45FA-902D-740AF3F44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2A063BC-C021-4BF5-8E60-56481C15D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71FF511-BDAB-4E36-A418-672886068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4136007-5610-45B7-B307-3EBAADA92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F650887-79F5-4AEB-8B26-E97E0D07B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A83F73A-9E3E-4BB3-9F34-DCA0ACA49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985CC0C-7A08-436F-933E-6D0158349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5FB28DF-6646-4EF3-8D0F-7BA48338A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C48929F-65AE-4790-A153-45BFB7C9D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E7729E8-6EA7-480A-87CD-9D72F767F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03F4AD5-3C01-4B16-B6D7-4BCFF1B06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2EDD4-AAF6-4BB9-BB30-DB5D8FF11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AD292-4D53-4DE9-B164-38FED2D8C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1BA0D25-A0EC-4404-85C9-4BB133F02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5CF0E70-D8E3-45F5-A275-507477CB4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1468281-8141-4FBF-8941-8EF118216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D152BA9-B307-42FF-BADA-B3FB79C33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280EF7F-308C-46D3-A14B-DD13142AD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33769C6-60E3-42ED-BAB9-0B4660EE2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B07B5C8-142E-421A-A2FF-9998B8D2D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DA9885B-9B1D-4724-BA20-05419B7D5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486BD3A-2A3F-4648-BE35-3BF175F30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784C8B1-5BEB-426A-9B27-3D886C938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B22D9-47D0-4801-9C98-5F26E5640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110452D-C8AC-49E6-A3F9-D5A95C6DD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CD1C3B9-2EEE-4A4A-B50E-5DD83D7B8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9316B44-6804-4315-86DE-AB7CD7C8A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D209098-BAEF-4750-B189-1F1C30643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3D7FCE2-29C1-4BBC-8909-13EF3DD3D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BE88A0F-60E3-439E-812F-E77CD3ACF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840D722-5A53-4787-A58C-0CDBB4B9E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CEA4795-1767-48D8-BC81-B0C834200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B083042-25B5-40B6-ACBB-EC11479B7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83E8BF9-C01A-4D78-AC28-732C1F606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BE550-6852-4B15-A5FC-C516E2E8A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A5813BD-7FAC-4F88-A396-F5EE04E73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A7D8DC8-5A16-4153-8F76-14E84B15B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56708F4-F95C-4B16-AEAD-70C41E8C1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46FC610-F9BF-4387-A909-B875C7D68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842395E-6BCE-4922-BBC0-86124524F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6387DB0-DC7E-4357-995A-C8C6B2DAA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9B42C4A-8C8B-4DF9-B235-C500A12B2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FA88FAE-6D3B-42AF-A69F-8C1031030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8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3279AC6-DB10-4A18-9206-4A478A810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26040FA-2173-473E-9B02-AF5D20E62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B92E4-173F-4703-9912-4ED2827F0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6AA3203-0B5B-4250-A92C-98B862676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95B7B4D-29F9-4D50-9E56-F3110CE9E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F9BD286-8981-481C-9512-54E2918A2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B455398-6445-4A9F-9786-A22CB1559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BFAD01C-A2C5-407D-99C0-A306BADC3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CE55741-B3FB-4D22-8158-BAA8147BB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02B2068-33D5-4060-9971-16E5B0CEB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6BE6618-A616-4C1D-BDA2-6035B07A0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A4992D4-318A-493F-99BA-7AA24386B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8977B2D-C30F-4B8C-AB0F-1C0676591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9BAF5-692D-408D-8618-1FD13578E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650E795-BC6A-4C48-B899-63E56A906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BEA5572-CC43-4BA4-8178-A7DC7C7D6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EE4C1EA-66C4-425A-BCFA-73280AF87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48CE51D-2D61-4439-8561-2FED6D67C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3947EC1-FDD2-4BDD-ADE2-485A5B921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9AFE209-A290-4FE2-97E9-3C61C5BAB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F84850E-521B-4C32-AFD2-B200FDAFB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5114EF4-AC57-49AA-9D03-AB3398999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15C8C63-79E9-45DD-BD20-29478C546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0860DD6-0EC9-40F0-8006-398ABF016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588A63-D48A-4F06-A0A0-72FF6C60E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492D786-8E88-48FE-B818-E6A859161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BF71D61-4C58-4410-BFD6-D6BE4F8C8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CE66B92-29F2-4D5C-B582-7AFF4CA9B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E9F8E19-5631-426E-B68B-73AECB7A5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1BA0E0D-4166-4B25-BF05-85B77F32C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E154E79-A48A-436E-93B6-A4E59639F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B9F3A0B-F8E2-42A4-BC1B-9C3E7A62C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AC0136A-66A8-4ED2-B3F8-428A91899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CD28BB6-214A-4919-9E6F-0F80A5CFE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282BB75-C8A3-46BD-9C6B-68D4AE6CE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B46C76-C299-4A2C-9971-B368E24D1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979955E-4B80-4BD0-8442-D7AA3609D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0D51332-5397-4C2B-A8E1-C517EB337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BE0C284-716C-4F92-BD7C-FEFFC5AEC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2F7D32F-C494-4EA2-97FA-355207C30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DA6AE4E-F430-4A84-8485-38FF69EE8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90EF6B8-3D21-4CF7-8971-13E2C8312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724E25E-C842-4BD4-85ED-D6D65CA95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C95B8B0-0643-4004-8569-CBDFDB89D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A54D819-BA03-4F35-9B26-937CFD19D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23D9140-F5E5-4BC1-973A-D861177ED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7DC231-FA27-4AFA-B2A0-4700B5F36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336C639-A26D-49B5-A3A6-93F688337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1C0E206-8FA1-46BB-96A3-4BBE289FC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66ECCAF-CBD4-44D7-8CA3-8D936888E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B422A35-ABD4-4E1E-8AE9-08DF43F8C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1C5CE8A-5BA1-4D12-883E-2A0A38168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723F3F5-4F8E-477A-BA33-6840EDBA8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C182335-AE3D-4699-AB35-39A734F14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7CB3FC2-0C86-42AC-9707-76392CAAC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C9D82AF-EEF7-4599-9876-B0E1F5826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4D12901-1FB9-48E0-9068-BEADBF81C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20D629-7FF4-4AE3-ABFD-F265E8B58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766FEE9-E647-408C-BB23-66155E9AA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526BB65-4F27-4EBA-8938-5DD027E62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ED27B89-2ADD-4B99-9C5A-B9EF544C3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3EBBD95-08C5-4063-BA33-821AEAD9D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05DD977-5266-438D-B191-1CDB7CFB0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6358EB3-B255-4929-8ABB-31D4FEFF9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F090B8C-F0FF-4DB3-A30D-322636ED0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79297EA-55B5-4BBC-9089-59CF2069A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30C0E61-6FBF-4FBA-824D-36692D718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8097532-99AE-4D57-B94D-D1D47B418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92E58C-82E1-4E63-898D-6E577B1BE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84D7430-59B0-4D81-A81F-83EAB45AD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38C4B04-93EC-4CAB-AD1B-4D10EFCEB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247D1FE-FE3D-4B62-A304-52000946A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CF98BC1-AE53-4F32-BDDA-7B1115B1D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53C35EB-D06E-457C-B5D3-20341B18E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2EA2A48-B30E-48D8-9242-2D7020317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B548CF1-CD8E-40A6-BF76-620EFC98F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18FEBE9-F9ED-460E-A5ED-BBAB5C8C9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5E1FF82-6562-474C-93BA-0D9A30A6B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7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A6B4D8A-FF5E-434A-854E-4E78ACE9F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239CB-2DE6-4A81-9F93-0A4588C2F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A1C20A-7DB0-48D2-8E56-D281ED672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2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3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4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00191C9-BE4F-4910-AB70-CA0F617A3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C1BCBF4-4CAF-4DA3-A2B1-AE4556509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70AB29E-5ACD-4488-A91D-A0865D1A5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A21B6C7-2AEA-47AD-AD07-B163BF20E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F1238A0-864D-4661-AC4C-47984900C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0CF1DE0-7ACB-46BA-ADB1-3CCD085E6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132A01B-A0DA-487C-A485-CE4BFAB62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FE31115-ED94-42F0-9EFB-B9782C2D5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0C94C11-D862-4A48-90BC-7467BFABD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EAD090D-4ECA-4772-9231-B1868E2AD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BED54E-D606-4AFD-87F1-484329B7A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EEBE711-368A-4940-BC7C-19F8F0EF8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8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DBCBF53-A16A-484A-9AB2-DFA4F83EE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3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4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5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E10833F-240C-43F1-BE6B-CB408E5EE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F019A07-A199-4AAD-9B21-DF09BCDAD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66B7273-BCF9-4110-99C2-5CD147E61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33BDD52-9580-44FB-850D-B59356B83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5A61F4A-4E6E-4651-94C9-6B3607D46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D24B794-98C2-4377-9FFB-2D68F5102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CBD081E-115E-45A5-88A1-24CE5C6EB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AF84C5B-54C5-4D2D-8ADA-60488BB58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2C35EE-A5BA-4AF9-BFA8-E155F8243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709C147-3AE1-4D59-9D9B-A43106B47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C76DFBA-FC83-464D-A172-54337013E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BB69ED8-7821-40A7-9092-A95B30249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8654B5E-72B1-47A1-9EC6-78432AE09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2D1D17A-9EF7-4F01-9279-829BFB268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E919944-85DD-4A6D-A057-2F6A0EBD4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606E78D-8F87-41E5-853A-AD7845827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41A80FA-7C4A-47DC-AFD7-9A8188D03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E314996-8009-433D-BC7D-500010480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C8ED7F4-62BB-4015-BAEF-24F3A3396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05148B-6F44-4D1A-89EB-C6B4A006C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50F6138-C2D9-4DB3-B103-1C3DDBD6F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B938D2B-A57E-4528-9B4E-85B9D89A9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8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324D320-3E4A-4F05-A377-D69D50E56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E306F41-D8A7-4909-8216-08188E423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0C738EF-3563-4F03-BBCA-C668B436A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0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0C3CA7C-11DE-4CA4-98C6-D29F8DC5B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3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4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5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6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7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3D45938-0E0C-4F7B-BD97-C5E613CE5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DA455A4-C415-40AF-A7E8-96A25B058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2F25AD1-EADD-418D-ABC9-7704F69CB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DE573F0-6DBE-4067-97F7-94F02EEE6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7453C7-0A48-4CF7-82CC-21F148D09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CD01F3F-C372-40F3-8E66-9FE6D4A9E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EB79A93-4F5E-4F01-B1B9-CAF93941F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8AEB995-9209-4F0A-AF6B-FF3D8EEE8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36CDE90-9954-4523-8094-159C76E0A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9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88BA840-EBED-431D-849D-3D77E21CE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E657B39-26E5-4902-9529-BD79A027D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6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63CEC3C-41A2-4D67-8BD7-06164B93A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1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B8B83CA-62BF-4589-A76E-9CFC975F2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4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5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6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7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8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4F71D6B-E837-4BC9-B0C2-97F2411F1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798224F-4401-4B63-B403-0DBA1372A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709EDC-69C9-4698-AB34-53F52333F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CDFEE0A-E7BD-49E5-8877-779A7CE81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2433D59-6877-4678-B49C-DDB64D271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EC1A358-ABF1-4A63-BF85-645128F83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70FCF05-B8F2-4472-A42A-707D42EF6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201D939-DCCC-43D4-9E58-31AC337EA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8C3A766-964F-464B-A331-24604B5C5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0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68C8308-CC34-4784-8F7E-3D9E85D1A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A801FD8-0052-44B9-A55A-B2F90976B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B3A5DAF-D483-4C4B-A708-DB7890FBE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2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5774780-2A68-4675-88BA-3F08967D7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5D7CA6-CF62-4A54-B2DB-653B34878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5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6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7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8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9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4E5C091-1131-42F2-918A-A82E2222D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E08D18F-A9D9-4358-B9B5-FC4A8D480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8EEC9C9-6344-4521-A1A6-455AB5CA7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9E47550-8968-4030-91F9-0E1A27325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4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46DAD96-F4EF-448C-ACF5-640C225D2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DF6626E-E604-4CC8-A3F3-57C2EADB0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A59876A-B109-46FC-8E1E-856D0C381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4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4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A7F4D3C-D379-4F67-A7DE-877F3074A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D80C277-14A5-431C-BD99-5C80E3096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981DE00-DD2A-4F4C-9531-4843DE9D8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8CADE5-8907-4D72-99B0-5ACA8AB30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9C5097F-6029-4981-9507-24B7959EA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8CE082D-4255-4485-BEB2-EEF00AE82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784DB15-8479-42FD-ABB8-07C7A8ADC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502F033B-C08B-4672-9D89-B75E47505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7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3AADCFF8-CC49-43E4-9201-99900E67E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7595AB4F-C2D8-4AEC-8374-636A6A7E4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EC9A6A18-FB5B-4A72-8334-AEBECE501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F8F9F8CA-0239-4597-9853-45C0B9114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2C6B8856-AF53-411A-902F-B4E1BA9D8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3F97774E-A9A3-40C3-9C91-9BE8D5017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304367-7320-4DB2-BE7A-1B5B6C3B4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2FD0EEE3-AF29-45E2-82C3-D160F96AF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BF9633C7-438F-4744-8605-5C58E06A9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D93DC7B2-0009-458E-B891-154E656EB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0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69B5EE29-FB7F-475C-AAEE-0723910F4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0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67250900-A094-48C6-9635-378FB4404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CF3BF90D-FE61-4C96-8712-351502D4B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1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EAD8575B-8212-4538-9A47-72A0103F7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6CC66ABE-1272-4A0B-B59F-A8A37B146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2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2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58EAEFCC-3A63-4280-97DE-C6B163335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C0FF1E31-4403-491E-8D4E-14D0766CE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52CDAB-AADB-41E0-AEC8-85842A702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505DE9FC-ABD0-45F9-A816-C92698527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2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2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79E8AE30-040B-4761-BC5E-50F86473E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3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4DB3F586-C828-43B3-92CD-D25463CC0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AEB98E9D-7499-44EB-B65D-5B62820AF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05309F16-4F2F-44CC-9B3A-72495BA51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4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4BBE0877-23D9-40F2-A06C-F2754AE9F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5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5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5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D4FAFF7B-B6E5-48DE-804D-9ED4B6966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CE316BAA-D002-46B9-BDB8-4C38CC0B4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5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F38DFF47-FAE7-4AB6-9C5C-E833D4A96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EC25C6AD-000F-4520-A01E-7C96EB1B7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013AF-C341-4BFC-8DFA-868C66AA2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A52512-D59E-46E2-85EB-A31A48A4C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6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F05C8B5E-7CD0-4D17-BE94-DD757877E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652F0296-04F1-4B22-BDEF-65203F469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24D9B6EB-D079-4529-93B9-ECCD371FA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6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7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66165514-B4B9-4B3B-ACDF-9BA79125D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7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7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7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D9C1FE5C-7811-4A67-B459-084B21B43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7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7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EFBED948-3141-416B-BB91-4078302AD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8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6970C655-888C-4942-9E7C-062E200E4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8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B197850C-680B-4139-90B8-21EAD74AB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8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B0C884EC-DCB8-4F05-9719-5A92684F8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BA545061-1BE6-4902-A46F-FF4965C99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C416E7-138C-4F97-9417-29D33E847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36AD6753-6509-4441-9E68-3FA1986E5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62C2203A-723C-47B4-A26C-2FBA3645B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0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DF2E4778-551D-41BC-902D-CE7F86DC2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85ABB35E-C73F-4C07-A697-7E386BE5C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C0CDD061-58DB-4BF6-BE8A-889A156E6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AC8BB122-3B0C-40A0-A815-BCDC02180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1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5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28415CA7-B178-417D-8F41-FD87C6621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6306D923-7143-4F40-B589-3C5D72D4F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2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E53BB838-060A-4C99-9798-3EF5BADCE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2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7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2983C59C-F277-4CE4-947C-833EE4EB3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62AA9E-1438-4E90-8B07-0F8BC52B1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2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0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1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2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3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4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7C335DE5-EA87-4270-8AD1-4E8368CCE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70946A40-9926-4AA7-9AC7-D281162AF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41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FFE24D48-E7D9-4639-8D4B-06323D0DF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AA41BE95-C0C0-4E57-83DA-1EB79B56E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4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30F13961-C581-4505-A3A1-0BF49E071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7BA3188D-6DE9-4888-8645-0855C511A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5BA22906-3699-4753-8F5B-8A83C0C74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50286AC5-40B6-4B32-8D34-9DDBA7FB9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5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6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B357261B-446C-467E-8B6F-53A377AC7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EF565A53-3874-4269-89AA-05E31BA28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2B3E37-EF8F-45DD-A313-92B9B1839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6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3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95862DB2-D257-49E0-81C8-EBD37163B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6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8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460E19F4-B07C-4129-8C0E-701908B00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7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1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2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3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4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5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DE61A475-E34C-4E99-8676-1D5434F44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EB6551-31E1-4F54-9FD5-656565AC8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D90DA7-C78F-46B7-A5B6-F3DF9D208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8DDC95-FDA8-46F8-B859-5EB681AB3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3AE71A-EAF5-4536-8A5D-DEB17E6AB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6A61F6-6A39-4AE9-9F65-73398024A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AA6770-8696-4898-8240-2A3971950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30619-272C-4683-AF3E-E03BD36F8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2C1D86-4387-4D40-A0D4-91DBF5101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6BDD71-C846-407E-AF3E-CF029EF2E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564A41-20E6-45D5-9061-95A1C9258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3E978D-2088-4029-B5F3-177C40DA8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4FE043-D739-427E-BE87-5D2511567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9068C3-E91F-4B01-96C7-4284BD764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7B5905-AD8F-4BA8-AD50-10DEA929D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E52F65-7680-4C8A-9D25-04BA10EAB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0D8151-B544-40C2-8320-C6DFE9F46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19F66E-092F-46F0-ACF5-C4634CC41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440B3-111B-4F6E-A70C-C007573E7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2465A7-8C90-4E1F-9CDB-D4B04A3A6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7955D5-D980-40D6-A8EF-8FFE5DF70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A17C6E-B67B-4C2C-8233-1DD76BD17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F3C828-F30E-4AD6-B334-7325E5514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2C1C39-705A-468A-9F3F-3A399BAEA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EE6F2A-B476-4ADC-B0BA-65510F433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A30EFA-0F25-4731-AA4D-92661B960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096D8E-89ED-4E20-90A2-271A10903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D017D8-17C3-4A25-8C3F-8D96A573A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D7FDBF-25A6-4120-84EA-9CC19564B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F4F95-B1AF-416E-AD35-D22B42E2C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34CDC0-8A82-4CBC-BF9A-F5591374C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41C2F3-4472-4E37-92D3-747EE95EF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B8A602-B31F-4A0A-AEE0-52687B7BD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AC29E5-18CE-4621-8141-7E114FC1F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31CF44-C1A7-434B-9C1F-D5F470E78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0FA582-A962-4A54-9D7C-61961C98D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7D3DAF-740A-4414-A39F-6D3E26614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EC963C-8AFF-4629-95EE-AEC99F4BF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4D54A9-5EC4-4585-90DB-C9EAE6122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915B5E-09EC-490E-843D-B61F84427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A7318-558C-4F2A-B356-BAFD44D6E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DF86A4-2242-4C7C-B233-342229BEC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0F55AE-9C4D-4B9A-BC6B-EEFF425F0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C58E63-D380-4933-A3C3-D791AFB35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E74F14-32CE-4A87-8C15-79C8F0CF0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CA355D-6BE5-4637-97F1-9A943AAFB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3AB5B2-01CB-4460-B740-5DD266ADA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E783F0-ED31-4B62-A798-942ED1282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F7CA77-4B5C-4C6C-8889-D8F004337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0C69F7-AAEE-447D-82C2-A2AEF0231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01BD61-E2D6-443F-8B8C-745C3ACBD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A15C8-B03A-477F-B117-055C55373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765326-534B-4CC8-B9CA-D6050A58B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2E5F56-257E-4206-96F6-4C20C064C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F8D019-87A9-44B5-B66D-9883FBED2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326AD4-FEC3-4A1F-BAC9-EAE414BF4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58E6C3-5868-4AF6-ABCE-48C58CCF1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D9E35F-199D-454F-B461-C78E417D0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0F28BB-2B15-4349-B864-D23DDD9ED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38F84A-6882-4B69-A9C2-C1E27F44A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3BB785-2D80-47A2-B30E-0D950B5E7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BEBCB5-A603-4692-9498-02064D241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13.xml"/><Relationship Id="rId4" Type="http://schemas.openxmlformats.org/officeDocument/2006/relationships/slideLayout" Target="../slideLayouts/slideLayout314.xml"/><Relationship Id="rId5" Type="http://schemas.openxmlformats.org/officeDocument/2006/relationships/slideLayout" Target="../slideLayouts/slideLayout315.xml"/><Relationship Id="rId6" Type="http://schemas.openxmlformats.org/officeDocument/2006/relationships/slideLayout" Target="../slideLayouts/slideLayout316.xml"/><Relationship Id="rId7" Type="http://schemas.openxmlformats.org/officeDocument/2006/relationships/slideLayout" Target="../slideLayouts/slideLayout317.xml"/><Relationship Id="rId8" Type="http://schemas.openxmlformats.org/officeDocument/2006/relationships/slideLayout" Target="../slideLayouts/slideLayout318.xml"/><Relationship Id="rId9" Type="http://schemas.openxmlformats.org/officeDocument/2006/relationships/slideLayout" Target="../slideLayouts/slideLayout319.xml"/><Relationship Id="rId10" Type="http://schemas.openxmlformats.org/officeDocument/2006/relationships/slideLayout" Target="../slideLayouts/slideLayout320.xml"/><Relationship Id="rId11" Type="http://schemas.openxmlformats.org/officeDocument/2006/relationships/slideLayout" Target="../slideLayouts/slideLayout321.xml"/><Relationship Id="rId12" Type="http://schemas.openxmlformats.org/officeDocument/2006/relationships/slideLayout" Target="../slideLayouts/slideLayout322.xml"/><Relationship Id="rId13" Type="http://schemas.openxmlformats.org/officeDocument/2006/relationships/slideLayout" Target="../slideLayouts/slideLayout323.xml"/><Relationship Id="rId14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37.xml"/><Relationship Id="rId4" Type="http://schemas.openxmlformats.org/officeDocument/2006/relationships/slideLayout" Target="../slideLayouts/slideLayout338.xml"/><Relationship Id="rId5" Type="http://schemas.openxmlformats.org/officeDocument/2006/relationships/slideLayout" Target="../slideLayouts/slideLayout339.xml"/><Relationship Id="rId6" Type="http://schemas.openxmlformats.org/officeDocument/2006/relationships/slideLayout" Target="../slideLayouts/slideLayout340.xml"/><Relationship Id="rId7" Type="http://schemas.openxmlformats.org/officeDocument/2006/relationships/slideLayout" Target="../slideLayouts/slideLayout341.xml"/><Relationship Id="rId8" Type="http://schemas.openxmlformats.org/officeDocument/2006/relationships/slideLayout" Target="../slideLayouts/slideLayout342.xml"/><Relationship Id="rId9" Type="http://schemas.openxmlformats.org/officeDocument/2006/relationships/slideLayout" Target="../slideLayouts/slideLayout343.xml"/><Relationship Id="rId10" Type="http://schemas.openxmlformats.org/officeDocument/2006/relationships/slideLayout" Target="../slideLayouts/slideLayout344.xml"/><Relationship Id="rId11" Type="http://schemas.openxmlformats.org/officeDocument/2006/relationships/slideLayout" Target="../slideLayouts/slideLayout345.xml"/><Relationship Id="rId12" Type="http://schemas.openxmlformats.org/officeDocument/2006/relationships/slideLayout" Target="../slideLayouts/slideLayout346.xml"/><Relationship Id="rId13" Type="http://schemas.openxmlformats.org/officeDocument/2006/relationships/slideLayout" Target="../slideLayouts/slideLayout347.xml"/><Relationship Id="rId14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49.xml"/><Relationship Id="rId4" Type="http://schemas.openxmlformats.org/officeDocument/2006/relationships/slideLayout" Target="../slideLayouts/slideLayout350.xml"/><Relationship Id="rId5" Type="http://schemas.openxmlformats.org/officeDocument/2006/relationships/slideLayout" Target="../slideLayouts/slideLayout351.xml"/><Relationship Id="rId6" Type="http://schemas.openxmlformats.org/officeDocument/2006/relationships/slideLayout" Target="../slideLayouts/slideLayout352.xml"/><Relationship Id="rId7" Type="http://schemas.openxmlformats.org/officeDocument/2006/relationships/slideLayout" Target="../slideLayouts/slideLayout353.xml"/><Relationship Id="rId8" Type="http://schemas.openxmlformats.org/officeDocument/2006/relationships/slideLayout" Target="../slideLayouts/slideLayout354.xml"/><Relationship Id="rId9" Type="http://schemas.openxmlformats.org/officeDocument/2006/relationships/slideLayout" Target="../slideLayouts/slideLayout355.xml"/><Relationship Id="rId10" Type="http://schemas.openxmlformats.org/officeDocument/2006/relationships/slideLayout" Target="../slideLayouts/slideLayout356.xml"/><Relationship Id="rId11" Type="http://schemas.openxmlformats.org/officeDocument/2006/relationships/slideLayout" Target="../slideLayouts/slideLayout357.xml"/><Relationship Id="rId12" Type="http://schemas.openxmlformats.org/officeDocument/2006/relationships/slideLayout" Target="../slideLayouts/slideLayout358.xml"/><Relationship Id="rId13" Type="http://schemas.openxmlformats.org/officeDocument/2006/relationships/slideLayout" Target="../slideLayouts/slideLayout359.xml"/><Relationship Id="rId14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61.xml"/><Relationship Id="rId4" Type="http://schemas.openxmlformats.org/officeDocument/2006/relationships/slideLayout" Target="../slideLayouts/slideLayout362.xml"/><Relationship Id="rId5" Type="http://schemas.openxmlformats.org/officeDocument/2006/relationships/slideLayout" Target="../slideLayouts/slideLayout363.xml"/><Relationship Id="rId6" Type="http://schemas.openxmlformats.org/officeDocument/2006/relationships/slideLayout" Target="../slideLayouts/slideLayout364.xml"/><Relationship Id="rId7" Type="http://schemas.openxmlformats.org/officeDocument/2006/relationships/slideLayout" Target="../slideLayouts/slideLayout365.xml"/><Relationship Id="rId8" Type="http://schemas.openxmlformats.org/officeDocument/2006/relationships/slideLayout" Target="../slideLayouts/slideLayout366.xml"/><Relationship Id="rId9" Type="http://schemas.openxmlformats.org/officeDocument/2006/relationships/slideLayout" Target="../slideLayouts/slideLayout367.xml"/><Relationship Id="rId10" Type="http://schemas.openxmlformats.org/officeDocument/2006/relationships/slideLayout" Target="../slideLayouts/slideLayout368.xml"/><Relationship Id="rId11" Type="http://schemas.openxmlformats.org/officeDocument/2006/relationships/slideLayout" Target="../slideLayouts/slideLayout369.xml"/><Relationship Id="rId12" Type="http://schemas.openxmlformats.org/officeDocument/2006/relationships/slideLayout" Target="../slideLayouts/slideLayout370.xml"/><Relationship Id="rId13" Type="http://schemas.openxmlformats.org/officeDocument/2006/relationships/slideLayout" Target="../slideLayouts/slideLayout371.xml"/><Relationship Id="rId14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3.xml"/><Relationship Id="rId4" Type="http://schemas.openxmlformats.org/officeDocument/2006/relationships/slideLayout" Target="../slideLayouts/slideLayout374.xml"/><Relationship Id="rId5" Type="http://schemas.openxmlformats.org/officeDocument/2006/relationships/slideLayout" Target="../slideLayouts/slideLayout375.xml"/><Relationship Id="rId6" Type="http://schemas.openxmlformats.org/officeDocument/2006/relationships/slideLayout" Target="../slideLayouts/slideLayout376.xml"/><Relationship Id="rId7" Type="http://schemas.openxmlformats.org/officeDocument/2006/relationships/slideLayout" Target="../slideLayouts/slideLayout377.xml"/><Relationship Id="rId8" Type="http://schemas.openxmlformats.org/officeDocument/2006/relationships/slideLayout" Target="../slideLayouts/slideLayout378.xml"/><Relationship Id="rId9" Type="http://schemas.openxmlformats.org/officeDocument/2006/relationships/slideLayout" Target="../slideLayouts/slideLayout379.xml"/><Relationship Id="rId10" Type="http://schemas.openxmlformats.org/officeDocument/2006/relationships/slideLayout" Target="../slideLayouts/slideLayout380.xml"/><Relationship Id="rId11" Type="http://schemas.openxmlformats.org/officeDocument/2006/relationships/slideLayout" Target="../slideLayouts/slideLayout381.xml"/><Relationship Id="rId12" Type="http://schemas.openxmlformats.org/officeDocument/2006/relationships/slideLayout" Target="../slideLayouts/slideLayout382.xml"/><Relationship Id="rId13" Type="http://schemas.openxmlformats.org/officeDocument/2006/relationships/slideLayout" Target="../slideLayouts/slideLayout383.xml"/><Relationship Id="rId14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85.xml"/><Relationship Id="rId4" Type="http://schemas.openxmlformats.org/officeDocument/2006/relationships/slideLayout" Target="../slideLayouts/slideLayout386.xml"/><Relationship Id="rId5" Type="http://schemas.openxmlformats.org/officeDocument/2006/relationships/slideLayout" Target="../slideLayouts/slideLayout387.xml"/><Relationship Id="rId6" Type="http://schemas.openxmlformats.org/officeDocument/2006/relationships/slideLayout" Target="../slideLayouts/slideLayout388.xml"/><Relationship Id="rId7" Type="http://schemas.openxmlformats.org/officeDocument/2006/relationships/slideLayout" Target="../slideLayouts/slideLayout389.xml"/><Relationship Id="rId8" Type="http://schemas.openxmlformats.org/officeDocument/2006/relationships/slideLayout" Target="../slideLayouts/slideLayout390.xml"/><Relationship Id="rId9" Type="http://schemas.openxmlformats.org/officeDocument/2006/relationships/slideLayout" Target="../slideLayouts/slideLayout391.xml"/><Relationship Id="rId10" Type="http://schemas.openxmlformats.org/officeDocument/2006/relationships/slideLayout" Target="../slideLayouts/slideLayout392.xml"/><Relationship Id="rId11" Type="http://schemas.openxmlformats.org/officeDocument/2006/relationships/slideLayout" Target="../slideLayouts/slideLayout393.xml"/><Relationship Id="rId12" Type="http://schemas.openxmlformats.org/officeDocument/2006/relationships/slideLayout" Target="../slideLayouts/slideLayout394.xml"/><Relationship Id="rId13" Type="http://schemas.openxmlformats.org/officeDocument/2006/relationships/slideLayout" Target="../slideLayouts/slideLayout395.xml"/><Relationship Id="rId14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97.xml"/><Relationship Id="rId4" Type="http://schemas.openxmlformats.org/officeDocument/2006/relationships/slideLayout" Target="../slideLayouts/slideLayout398.xml"/><Relationship Id="rId5" Type="http://schemas.openxmlformats.org/officeDocument/2006/relationships/slideLayout" Target="../slideLayouts/slideLayout399.xml"/><Relationship Id="rId6" Type="http://schemas.openxmlformats.org/officeDocument/2006/relationships/slideLayout" Target="../slideLayouts/slideLayout400.xml"/><Relationship Id="rId7" Type="http://schemas.openxmlformats.org/officeDocument/2006/relationships/slideLayout" Target="../slideLayouts/slideLayout401.xml"/><Relationship Id="rId8" Type="http://schemas.openxmlformats.org/officeDocument/2006/relationships/slideLayout" Target="../slideLayouts/slideLayout402.xml"/><Relationship Id="rId9" Type="http://schemas.openxmlformats.org/officeDocument/2006/relationships/slideLayout" Target="../slideLayouts/slideLayout403.xml"/><Relationship Id="rId10" Type="http://schemas.openxmlformats.org/officeDocument/2006/relationships/slideLayout" Target="../slideLayouts/slideLayout404.xml"/><Relationship Id="rId11" Type="http://schemas.openxmlformats.org/officeDocument/2006/relationships/slideLayout" Target="../slideLayouts/slideLayout405.xml"/><Relationship Id="rId12" Type="http://schemas.openxmlformats.org/officeDocument/2006/relationships/slideLayout" Target="../slideLayouts/slideLayout406.xml"/><Relationship Id="rId13" Type="http://schemas.openxmlformats.org/officeDocument/2006/relationships/slideLayout" Target="../slideLayouts/slideLayout407.xml"/><Relationship Id="rId14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09.xml"/><Relationship Id="rId4" Type="http://schemas.openxmlformats.org/officeDocument/2006/relationships/slideLayout" Target="../slideLayouts/slideLayout410.xml"/><Relationship Id="rId5" Type="http://schemas.openxmlformats.org/officeDocument/2006/relationships/slideLayout" Target="../slideLayouts/slideLayout411.xml"/><Relationship Id="rId6" Type="http://schemas.openxmlformats.org/officeDocument/2006/relationships/slideLayout" Target="../slideLayouts/slideLayout412.xml"/><Relationship Id="rId7" Type="http://schemas.openxmlformats.org/officeDocument/2006/relationships/slideLayout" Target="../slideLayouts/slideLayout413.xml"/><Relationship Id="rId8" Type="http://schemas.openxmlformats.org/officeDocument/2006/relationships/slideLayout" Target="../slideLayouts/slideLayout414.xml"/><Relationship Id="rId9" Type="http://schemas.openxmlformats.org/officeDocument/2006/relationships/slideLayout" Target="../slideLayouts/slideLayout415.xml"/><Relationship Id="rId10" Type="http://schemas.openxmlformats.org/officeDocument/2006/relationships/slideLayout" Target="../slideLayouts/slideLayout416.xml"/><Relationship Id="rId11" Type="http://schemas.openxmlformats.org/officeDocument/2006/relationships/slideLayout" Target="../slideLayouts/slideLayout417.xml"/><Relationship Id="rId12" Type="http://schemas.openxmlformats.org/officeDocument/2006/relationships/slideLayout" Target="../slideLayouts/slideLayout418.xml"/><Relationship Id="rId13" Type="http://schemas.openxmlformats.org/officeDocument/2006/relationships/slideLayout" Target="../slideLayouts/slideLayout419.xml"/><Relationship Id="rId14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21.xml"/><Relationship Id="rId4" Type="http://schemas.openxmlformats.org/officeDocument/2006/relationships/slideLayout" Target="../slideLayouts/slideLayout422.xml"/><Relationship Id="rId5" Type="http://schemas.openxmlformats.org/officeDocument/2006/relationships/slideLayout" Target="../slideLayouts/slideLayout423.xml"/><Relationship Id="rId6" Type="http://schemas.openxmlformats.org/officeDocument/2006/relationships/slideLayout" Target="../slideLayouts/slideLayout424.xml"/><Relationship Id="rId7" Type="http://schemas.openxmlformats.org/officeDocument/2006/relationships/slideLayout" Target="../slideLayouts/slideLayout425.xml"/><Relationship Id="rId8" Type="http://schemas.openxmlformats.org/officeDocument/2006/relationships/slideLayout" Target="../slideLayouts/slideLayout426.xml"/><Relationship Id="rId9" Type="http://schemas.openxmlformats.org/officeDocument/2006/relationships/slideLayout" Target="../slideLayouts/slideLayout427.xml"/><Relationship Id="rId10" Type="http://schemas.openxmlformats.org/officeDocument/2006/relationships/slideLayout" Target="../slideLayouts/slideLayout428.xml"/><Relationship Id="rId11" Type="http://schemas.openxmlformats.org/officeDocument/2006/relationships/slideLayout" Target="../slideLayouts/slideLayout429.xml"/><Relationship Id="rId12" Type="http://schemas.openxmlformats.org/officeDocument/2006/relationships/slideLayout" Target="../slideLayouts/slideLayout430.xml"/><Relationship Id="rId13" Type="http://schemas.openxmlformats.org/officeDocument/2006/relationships/slideLayout" Target="../slideLayouts/slideLayout431.xml"/><Relationship Id="rId14" Type="http://schemas.openxmlformats.org/officeDocument/2006/relationships/slideLayout" Target="../slideLayouts/slideLayout432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F55AA-E9C9-42E6-883B-B12BCBCE1A75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8360D-D093-45CB-8421-28CED18F0CF1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E86BD-4056-4C77-AABF-4461772FEC7F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09507-AAA0-45DD-92DF-EEF597140A01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440A0-09AE-4824-B4B8-1DAB513262FE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61A02-28D7-4701-9631-8E46DD37F60A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6DA70-12C6-4E98-AB0E-504DC292D0A6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4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A930A-2555-4E43-99FE-50EE10CBDF3D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5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CEEC8-197A-4B54-BE7A-D2D719166A27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dt" idx="5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ftr" idx="5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A8433-9F56-4E44-994F-5FF8A57CFF1C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 type="dt" idx="5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 type="ftr" idx="5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546DC-5F48-4A77-9393-B1AAACDBAC24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B84F9-B11B-4E9A-8067-81A6E9417404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 type="dt" idx="5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 type="ftr" idx="5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6E6EB-AAB4-48AC-B568-454144BE3EDA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 type="dt" idx="6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 type="ftr" idx="6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2AE72-EEA7-4CBB-9C3E-A34D2F7FD195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 type="dt" idx="6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 type="ftr" idx="6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 type="sldNum" idx="6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FB9B0-CA66-40F0-87E3-6ADD59FE6D2A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 type="dt" idx="6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 type="ftr" idx="6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 type="sldNum" idx="6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AA3DE-2827-46F8-A2DF-EDF07051FADB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 type="dt" idx="7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 type="ftr" idx="7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 type="sldNum" idx="7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CF432-D05E-44D7-9098-4591CEC226CF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 type="dt" idx="7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 type="ftr" idx="7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5"/>
          <p:cNvSpPr>
            <a:spLocks noGrp="1"/>
          </p:cNvSpPr>
          <p:nvPr>
            <p:ph type="sldNum" idx="7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DB74E-1A52-4A5B-8A21-8A0F26228ACC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dt" idx="7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PlaceHolder 4"/>
          <p:cNvSpPr>
            <a:spLocks noGrp="1"/>
          </p:cNvSpPr>
          <p:nvPr>
            <p:ph type="ftr" idx="7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PlaceHolder 5"/>
          <p:cNvSpPr>
            <a:spLocks noGrp="1"/>
          </p:cNvSpPr>
          <p:nvPr>
            <p:ph type="sldNum" idx="7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912D6-6ED0-452A-9C81-96620CDA095B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 type="dt" idx="7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 type="ftr" idx="8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 type="sldNum" idx="8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BC8F5-ADD2-4AA2-AF52-50AAB92A0385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3"/>
    <p:sldLayoutId id="2147483988" r:id="rId4"/>
    <p:sldLayoutId id="2147483989" r:id="rId5"/>
    <p:sldLayoutId id="2147483990" r:id="rId6"/>
    <p:sldLayoutId id="2147483991" r:id="rId7"/>
    <p:sldLayoutId id="2147483992" r:id="rId8"/>
    <p:sldLayoutId id="2147483993" r:id="rId9"/>
    <p:sldLayoutId id="2147483994" r:id="rId10"/>
    <p:sldLayoutId id="2147483995" r:id="rId11"/>
    <p:sldLayoutId id="2147483996" r:id="rId12"/>
    <p:sldLayoutId id="2147483997" r:id="rId13"/>
    <p:sldLayoutId id="2147483998" r:id="rId14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dt" idx="8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ftr" idx="8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sldNum" idx="8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5D6ED-C393-4C90-B0E4-64EAFD79FA6D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 type="dt" idx="8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PlaceHolder 4"/>
          <p:cNvSpPr>
            <a:spLocks noGrp="1"/>
          </p:cNvSpPr>
          <p:nvPr>
            <p:ph type="ftr" idx="8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5"/>
          <p:cNvSpPr>
            <a:spLocks noGrp="1"/>
          </p:cNvSpPr>
          <p:nvPr>
            <p:ph type="sldNum" idx="8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C991B-6B33-43F0-9E46-BED10DB8B4A7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3"/>
    <p:sldLayoutId id="2147484014" r:id="rId4"/>
    <p:sldLayoutId id="2147484015" r:id="rId5"/>
    <p:sldLayoutId id="2147484016" r:id="rId6"/>
    <p:sldLayoutId id="2147484017" r:id="rId7"/>
    <p:sldLayoutId id="2147484018" r:id="rId8"/>
    <p:sldLayoutId id="2147484019" r:id="rId9"/>
    <p:sldLayoutId id="2147484020" r:id="rId10"/>
    <p:sldLayoutId id="2147484021" r:id="rId11"/>
    <p:sldLayoutId id="2147484022" r:id="rId12"/>
    <p:sldLayoutId id="2147484023" r:id="rId13"/>
    <p:sldLayoutId id="2147484024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7DA24-D5A8-412A-8287-496E07A22945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1" name="PlaceHolder 3"/>
          <p:cNvSpPr>
            <a:spLocks noGrp="1"/>
          </p:cNvSpPr>
          <p:nvPr>
            <p:ph type="dt" idx="8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PlaceHolder 4"/>
          <p:cNvSpPr>
            <a:spLocks noGrp="1"/>
          </p:cNvSpPr>
          <p:nvPr>
            <p:ph type="ftr" idx="8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PlaceHolder 5"/>
          <p:cNvSpPr>
            <a:spLocks noGrp="1"/>
          </p:cNvSpPr>
          <p:nvPr>
            <p:ph type="sldNum" idx="9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9C615-F396-4BF6-B718-BB2101139A31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3"/>
    <p:sldLayoutId id="2147484027" r:id="rId4"/>
    <p:sldLayoutId id="2147484028" r:id="rId5"/>
    <p:sldLayoutId id="2147484029" r:id="rId6"/>
    <p:sldLayoutId id="2147484030" r:id="rId7"/>
    <p:sldLayoutId id="2147484031" r:id="rId8"/>
    <p:sldLayoutId id="2147484032" r:id="rId9"/>
    <p:sldLayoutId id="2147484033" r:id="rId10"/>
    <p:sldLayoutId id="2147484034" r:id="rId11"/>
    <p:sldLayoutId id="2147484035" r:id="rId12"/>
    <p:sldLayoutId id="2147484036" r:id="rId13"/>
    <p:sldLayoutId id="2147484037" r:id="rId14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32" name="PlaceHolder 3"/>
          <p:cNvSpPr>
            <a:spLocks noGrp="1"/>
          </p:cNvSpPr>
          <p:nvPr>
            <p:ph type="dt" idx="9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PlaceHolder 4"/>
          <p:cNvSpPr>
            <a:spLocks noGrp="1"/>
          </p:cNvSpPr>
          <p:nvPr>
            <p:ph type="ftr" idx="9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PlaceHolder 5"/>
          <p:cNvSpPr>
            <a:spLocks noGrp="1"/>
          </p:cNvSpPr>
          <p:nvPr>
            <p:ph type="sldNum" idx="9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4C8EA-CA49-4EE2-9E0A-64DF0DCB9755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3"/>
    <p:sldLayoutId id="2147484040" r:id="rId4"/>
    <p:sldLayoutId id="2147484041" r:id="rId5"/>
    <p:sldLayoutId id="2147484042" r:id="rId6"/>
    <p:sldLayoutId id="2147484043" r:id="rId7"/>
    <p:sldLayoutId id="2147484044" r:id="rId8"/>
    <p:sldLayoutId id="2147484045" r:id="rId9"/>
    <p:sldLayoutId id="2147484046" r:id="rId10"/>
    <p:sldLayoutId id="2147484047" r:id="rId11"/>
    <p:sldLayoutId id="2147484048" r:id="rId12"/>
    <p:sldLayoutId id="2147484049" r:id="rId13"/>
    <p:sldLayoutId id="2147484050" r:id="rId14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3" name="PlaceHolder 3"/>
          <p:cNvSpPr>
            <a:spLocks noGrp="1"/>
          </p:cNvSpPr>
          <p:nvPr>
            <p:ph type="dt" idx="9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PlaceHolder 4"/>
          <p:cNvSpPr>
            <a:spLocks noGrp="1"/>
          </p:cNvSpPr>
          <p:nvPr>
            <p:ph type="ftr" idx="9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PlaceHolder 5"/>
          <p:cNvSpPr>
            <a:spLocks noGrp="1"/>
          </p:cNvSpPr>
          <p:nvPr>
            <p:ph type="sldNum" idx="9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A247C-FA6F-4F1B-974C-D1577A158006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3"/>
    <p:sldLayoutId id="2147484053" r:id="rId4"/>
    <p:sldLayoutId id="2147484054" r:id="rId5"/>
    <p:sldLayoutId id="2147484055" r:id="rId6"/>
    <p:sldLayoutId id="2147484056" r:id="rId7"/>
    <p:sldLayoutId id="2147484057" r:id="rId8"/>
    <p:sldLayoutId id="2147484058" r:id="rId9"/>
    <p:sldLayoutId id="2147484059" r:id="rId10"/>
    <p:sldLayoutId id="2147484060" r:id="rId11"/>
    <p:sldLayoutId id="2147484061" r:id="rId12"/>
    <p:sldLayoutId id="2147484062" r:id="rId13"/>
    <p:sldLayoutId id="2147484063" r:id="rId14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1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4" name="PlaceHolder 3"/>
          <p:cNvSpPr>
            <a:spLocks noGrp="1"/>
          </p:cNvSpPr>
          <p:nvPr>
            <p:ph type="dt" idx="9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PlaceHolder 4"/>
          <p:cNvSpPr>
            <a:spLocks noGrp="1"/>
          </p:cNvSpPr>
          <p:nvPr>
            <p:ph type="ftr" idx="9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PlaceHolder 5"/>
          <p:cNvSpPr>
            <a:spLocks noGrp="1"/>
          </p:cNvSpPr>
          <p:nvPr>
            <p:ph type="sldNum" idx="9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8CA1F-8892-4B7C-B5EE-35CC01357F25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3"/>
    <p:sldLayoutId id="2147484066" r:id="rId4"/>
    <p:sldLayoutId id="2147484067" r:id="rId5"/>
    <p:sldLayoutId id="2147484068" r:id="rId6"/>
    <p:sldLayoutId id="2147484069" r:id="rId7"/>
    <p:sldLayoutId id="2147484070" r:id="rId8"/>
    <p:sldLayoutId id="2147484071" r:id="rId9"/>
    <p:sldLayoutId id="2147484072" r:id="rId10"/>
    <p:sldLayoutId id="2147484073" r:id="rId11"/>
    <p:sldLayoutId id="2147484074" r:id="rId12"/>
    <p:sldLayoutId id="2147484075" r:id="rId13"/>
    <p:sldLayoutId id="2147484076" r:id="rId14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55" name="PlaceHolder 3"/>
          <p:cNvSpPr>
            <a:spLocks noGrp="1"/>
          </p:cNvSpPr>
          <p:nvPr>
            <p:ph type="dt" idx="10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PlaceHolder 4"/>
          <p:cNvSpPr>
            <a:spLocks noGrp="1"/>
          </p:cNvSpPr>
          <p:nvPr>
            <p:ph type="ftr" idx="10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PlaceHolder 5"/>
          <p:cNvSpPr>
            <a:spLocks noGrp="1"/>
          </p:cNvSpPr>
          <p:nvPr>
            <p:ph type="sldNum" idx="10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CA3F2-C009-48C6-B749-C2D9F4B175D7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3"/>
    <p:sldLayoutId id="2147484079" r:id="rId4"/>
    <p:sldLayoutId id="2147484080" r:id="rId5"/>
    <p:sldLayoutId id="2147484081" r:id="rId6"/>
    <p:sldLayoutId id="2147484082" r:id="rId7"/>
    <p:sldLayoutId id="2147484083" r:id="rId8"/>
    <p:sldLayoutId id="2147484084" r:id="rId9"/>
    <p:sldLayoutId id="2147484085" r:id="rId10"/>
    <p:sldLayoutId id="2147484086" r:id="rId11"/>
    <p:sldLayoutId id="2147484087" r:id="rId12"/>
    <p:sldLayoutId id="2147484088" r:id="rId13"/>
    <p:sldLayoutId id="2147484089" r:id="rId14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95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6" name="PlaceHolder 3"/>
          <p:cNvSpPr>
            <a:spLocks noGrp="1"/>
          </p:cNvSpPr>
          <p:nvPr>
            <p:ph type="dt" idx="10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PlaceHolder 4"/>
          <p:cNvSpPr>
            <a:spLocks noGrp="1"/>
          </p:cNvSpPr>
          <p:nvPr>
            <p:ph type="ftr" idx="10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PlaceHolder 5"/>
          <p:cNvSpPr>
            <a:spLocks noGrp="1"/>
          </p:cNvSpPr>
          <p:nvPr>
            <p:ph type="sldNum" idx="10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40D2C-FAE7-4449-9E42-3C2C99D1ADEC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3"/>
    <p:sldLayoutId id="2147484092" r:id="rId4"/>
    <p:sldLayoutId id="2147484093" r:id="rId5"/>
    <p:sldLayoutId id="2147484094" r:id="rId6"/>
    <p:sldLayoutId id="2147484095" r:id="rId7"/>
    <p:sldLayoutId id="2147484096" r:id="rId8"/>
    <p:sldLayoutId id="2147484097" r:id="rId9"/>
    <p:sldLayoutId id="2147484098" r:id="rId10"/>
    <p:sldLayoutId id="2147484099" r:id="rId11"/>
    <p:sldLayoutId id="2147484100" r:id="rId12"/>
    <p:sldLayoutId id="2147484101" r:id="rId13"/>
    <p:sldLayoutId id="2147484102" r:id="rId14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36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7" name="PlaceHolder 3"/>
          <p:cNvSpPr>
            <a:spLocks noGrp="1"/>
          </p:cNvSpPr>
          <p:nvPr>
            <p:ph type="dt" idx="10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PlaceHolder 4"/>
          <p:cNvSpPr>
            <a:spLocks noGrp="1"/>
          </p:cNvSpPr>
          <p:nvPr>
            <p:ph type="ftr" idx="10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PlaceHolder 5"/>
          <p:cNvSpPr>
            <a:spLocks noGrp="1"/>
          </p:cNvSpPr>
          <p:nvPr>
            <p:ph type="sldNum" idx="10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37A49-CB1E-484C-8CB9-E9C4273AE52F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3"/>
    <p:sldLayoutId id="2147484105" r:id="rId4"/>
    <p:sldLayoutId id="2147484106" r:id="rId5"/>
    <p:sldLayoutId id="2147484107" r:id="rId6"/>
    <p:sldLayoutId id="2147484108" r:id="rId7"/>
    <p:sldLayoutId id="2147484109" r:id="rId8"/>
    <p:sldLayoutId id="2147484110" r:id="rId9"/>
    <p:sldLayoutId id="2147484111" r:id="rId10"/>
    <p:sldLayoutId id="2147484112" r:id="rId11"/>
    <p:sldLayoutId id="2147484113" r:id="rId12"/>
    <p:sldLayoutId id="2147484114" r:id="rId13"/>
    <p:sldLayoutId id="2147484115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1B99E-F9A7-4CD7-9738-50C5EF5A3F67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7D419-E1B8-4A73-B4B6-14A403507F7B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D156B-8AD0-4933-A1FB-AAE55521628E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DD3DB-35CD-44CE-96D8-BC3920D42427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3469B-1F6A-4608-A667-206ACFB9047F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BBDEB-9591-4425-B6F0-9A00BE6FF349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69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3" name="Picture 2" descr=""/>
          <p:cNvPicPr/>
          <p:nvPr/>
        </p:nvPicPr>
        <p:blipFill>
          <a:blip r:embed="rId1"/>
          <a:stretch/>
        </p:blipFill>
        <p:spPr>
          <a:xfrm>
            <a:off x="684360" y="2060640"/>
            <a:ext cx="7848360" cy="3868560"/>
          </a:xfrm>
          <a:prstGeom prst="rect">
            <a:avLst/>
          </a:prstGeom>
          <a:ln w="0">
            <a:noFill/>
          </a:ln>
        </p:spPr>
      </p:pic>
      <p:sp>
        <p:nvSpPr>
          <p:cNvPr id="1484" name="Rectangle 3"/>
          <p:cNvSpPr/>
          <p:nvPr/>
        </p:nvSpPr>
        <p:spPr>
          <a:xfrm>
            <a:off x="0" y="106668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 baseline="12000">
                <a:solidFill>
                  <a:srgbClr val="669900"/>
                </a:solidFill>
                <a:latin typeface="Tahoma"/>
                <a:ea typeface="Times New Roman"/>
              </a:rPr>
              <a:t>Reg. (CE) n. 1698/2005 del Consigl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 baseline="12000">
                <a:solidFill>
                  <a:srgbClr val="ee8f04"/>
                </a:solidFill>
                <a:latin typeface="Tahoma"/>
                <a:ea typeface="Times New Roman"/>
              </a:rPr>
              <a:t> </a:t>
            </a:r>
            <a:r>
              <a:rPr b="1" i="1" lang="it-IT" sz="4400" spc="-1" strike="noStrike" baseline="12000">
                <a:solidFill>
                  <a:srgbClr val="669900"/>
                </a:solidFill>
                <a:latin typeface="Tahoma"/>
                <a:ea typeface="Tahoma"/>
              </a:rPr>
              <a:t>PROGRAMMA regionale di SVILUPPO RURA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 baseline="12000">
                <a:solidFill>
                  <a:srgbClr val="ee8f04"/>
                </a:solidFill>
                <a:latin typeface="Tahoma"/>
                <a:ea typeface="Times New Roman"/>
              </a:rPr>
              <a:t>      </a:t>
            </a:r>
            <a:r>
              <a:rPr b="1" lang="it-IT" sz="4800" spc="-1" strike="noStrike" baseline="12000">
                <a:solidFill>
                  <a:srgbClr val="ffff99"/>
                </a:solidFill>
                <a:latin typeface="Tahoma"/>
                <a:ea typeface="Times New Roman"/>
              </a:rPr>
              <a:t>2007 - 201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Rectangle 4"/>
          <p:cNvSpPr/>
          <p:nvPr/>
        </p:nvSpPr>
        <p:spPr>
          <a:xfrm>
            <a:off x="225360" y="4869000"/>
            <a:ext cx="8701200" cy="12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669900"/>
                </a:solidFill>
                <a:latin typeface="Tahoma"/>
              </a:rPr>
              <a:t>Genova -   4 luglio 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Rectangle 5"/>
          <p:cNvSpPr/>
          <p:nvPr/>
        </p:nvSpPr>
        <p:spPr>
          <a:xfrm>
            <a:off x="1428840" y="6541920"/>
            <a:ext cx="6572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ffffff"/>
                </a:solidFill>
                <a:latin typeface="Arial"/>
              </a:rPr>
              <a:t>SETTORE SERVIZI ALLE IMPRESE e FLOROVIVAISM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8" name="PlaceHolder 1"/>
          <p:cNvSpPr>
            <a:spLocks noGrp="1"/>
          </p:cNvSpPr>
          <p:nvPr>
            <p:ph type="title"/>
          </p:nvPr>
        </p:nvSpPr>
        <p:spPr>
          <a:xfrm>
            <a:off x="590400" y="919080"/>
            <a:ext cx="8229600" cy="93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Istruttoria Domande di Aiuto 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19" name=""/>
          <p:cNvSpPr txBox="1"/>
          <p:nvPr/>
        </p:nvSpPr>
        <p:spPr>
          <a:xfrm>
            <a:off x="142920" y="2428560"/>
            <a:ext cx="8858160" cy="31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33"/>
                </a:solidFill>
                <a:latin typeface="Arial"/>
              </a:rPr>
              <a:t>avvio del procedimento - </a:t>
            </a:r>
            <a:r>
              <a:rPr b="0" lang="it-IT" sz="1800" spc="-1" strike="noStrike">
                <a:solidFill>
                  <a:srgbClr val="333333"/>
                </a:solidFill>
                <a:latin typeface="Arial"/>
              </a:rPr>
              <a:t>art. 12 e 13 della L.R. n. 56/2009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Arial"/>
              </a:rPr>
              <a:t>notifica delle </a:t>
            </a:r>
            <a:r>
              <a:rPr b="1" lang="it-IT" sz="2000" spc="-1" strike="noStrike" u="sng">
                <a:solidFill>
                  <a:srgbClr val="333333"/>
                </a:solidFill>
                <a:uFillTx/>
                <a:latin typeface="Arial"/>
              </a:rPr>
              <a:t>comunicazioni di avvio del procedimento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3333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900" spc="-1" strike="noStrike">
                <a:solidFill>
                  <a:srgbClr val="333333"/>
                </a:solidFill>
                <a:latin typeface="Arial"/>
              </a:rPr>
              <a:t>il portale agriligurianet nella sezione PSR – sottosezione misure/;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3333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900" spc="-1" strike="noStrike">
                <a:solidFill>
                  <a:srgbClr val="333333"/>
                </a:solidFill>
                <a:latin typeface="Arial"/>
              </a:rPr>
              <a:t>il Bollettino ufficiale della Regione Liguria (BURL).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20" name="Rettangolo 3"/>
          <p:cNvSpPr/>
          <p:nvPr/>
        </p:nvSpPr>
        <p:spPr>
          <a:xfrm>
            <a:off x="40824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Freccia in giù 4"/>
          <p:cNvSpPr/>
          <p:nvPr/>
        </p:nvSpPr>
        <p:spPr>
          <a:xfrm>
            <a:off x="3857760" y="3714840"/>
            <a:ext cx="714240" cy="5713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2" name="PlaceHolder 1"/>
          <p:cNvSpPr>
            <a:spLocks noGrp="1"/>
          </p:cNvSpPr>
          <p:nvPr>
            <p:ph type="title"/>
          </p:nvPr>
        </p:nvSpPr>
        <p:spPr>
          <a:xfrm>
            <a:off x="571680" y="92844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Istruttoria Domande di Aiuto 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23" name=""/>
          <p:cNvSpPr txBox="1"/>
          <p:nvPr/>
        </p:nvSpPr>
        <p:spPr>
          <a:xfrm>
            <a:off x="142920" y="1714680"/>
            <a:ext cx="8858160" cy="43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cura del Settore Servizi alle Imprese Agricole: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verifica della ricevibilità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ispetto dei termini e delle modalità di presentazione della domanda di aiuto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esenza della documentazione (documenti essenziali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esenza della firma del legale rappresentante (ove richiesta)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istruttoria di merito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verifica dei requisiti dei soggetti proponenti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mmissibilità oggettiva delle domande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valutazione del progetto/corso/servizio di consulenza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ttribuzione del punteggio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eventuali prescrizioni e proposte di azioni correttive</a:t>
            </a:r>
            <a:r>
              <a:rPr b="0" lang="it-IT" sz="1800" spc="-1" strike="noStrike">
                <a:solidFill>
                  <a:srgbClr val="333333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24" name="Rettangolo 3"/>
          <p:cNvSpPr/>
          <p:nvPr/>
        </p:nvSpPr>
        <p:spPr>
          <a:xfrm>
            <a:off x="40824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5" name="PlaceHolder 1"/>
          <p:cNvSpPr>
            <a:spLocks noGrp="1"/>
          </p:cNvSpPr>
          <p:nvPr>
            <p:ph type="title"/>
          </p:nvPr>
        </p:nvSpPr>
        <p:spPr>
          <a:xfrm>
            <a:off x="590400" y="919080"/>
            <a:ext cx="8229600" cy="93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Istruttoria Domande di Aiuto 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26" name=""/>
          <p:cNvSpPr txBox="1"/>
          <p:nvPr/>
        </p:nvSpPr>
        <p:spPr>
          <a:xfrm>
            <a:off x="142560" y="1785960"/>
            <a:ext cx="8643960" cy="430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er la misura 331 e 2° bando Misura 111 “informazione”: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ecreto del dirigente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graduatoria delle domande di aiuto ammissibili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elenco delle domande aiuto ammissibili e finanziabili in base alle risorse disponibili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dempimenti per le domande non ammissibili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Arial"/>
              </a:rPr>
              <a:t>ACCORDO tra Regione e Soggetto beneficiario</a:t>
            </a:r>
            <a:r>
              <a:rPr b="1" lang="it-IT" sz="1600" spc="-1" strike="noStrike">
                <a:solidFill>
                  <a:srgbClr val="333333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er la misura 114 e 1° Bando “informazione”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Nullaosta (Atto di concessione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27" name="Rettangolo 3"/>
          <p:cNvSpPr/>
          <p:nvPr/>
        </p:nvSpPr>
        <p:spPr>
          <a:xfrm>
            <a:off x="47988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Freccia in giù 4"/>
          <p:cNvSpPr/>
          <p:nvPr/>
        </p:nvSpPr>
        <p:spPr>
          <a:xfrm>
            <a:off x="4143240" y="2071800"/>
            <a:ext cx="428760" cy="3571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Freccia in giù 5"/>
          <p:cNvSpPr/>
          <p:nvPr/>
        </p:nvSpPr>
        <p:spPr>
          <a:xfrm>
            <a:off x="4214880" y="3571920"/>
            <a:ext cx="428400" cy="3571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DURATA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31" name="PlaceHolder 2"/>
          <p:cNvSpPr>
            <a:spLocks noGrp="1"/>
          </p:cNvSpPr>
          <p:nvPr>
            <p:ph/>
          </p:nvPr>
        </p:nvSpPr>
        <p:spPr>
          <a:xfrm>
            <a:off x="590400" y="2000160"/>
            <a:ext cx="8229600" cy="32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ata di inizio e di conclusione del progetto/corso, preventivamente indicate nella scheda tecnica e definite nell’accordo/nullaosta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alizzare nei tempi previsti dal progetto/corso approvato;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eventuale richiesta motivata di proroga (escluso 1° bando – misura 111 informazione”) non superiore ai sei mesi sulla data di conclusione (compatibilmente con le scadenze comunitarie)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2" name="Rettangolo 3"/>
          <p:cNvSpPr/>
          <p:nvPr/>
        </p:nvSpPr>
        <p:spPr>
          <a:xfrm>
            <a:off x="47988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PlaceHolder 1"/>
          <p:cNvSpPr>
            <a:spLocks noGrp="1"/>
          </p:cNvSpPr>
          <p:nvPr>
            <p:ph type="title"/>
          </p:nvPr>
        </p:nvSpPr>
        <p:spPr>
          <a:xfrm>
            <a:off x="590400" y="919080"/>
            <a:ext cx="8229600" cy="8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343160" indent="0" algn="ct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Attuazione Progetto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34" name="PlaceHolder 2"/>
          <p:cNvSpPr>
            <a:spLocks noGrp="1"/>
          </p:cNvSpPr>
          <p:nvPr>
            <p:ph/>
          </p:nvPr>
        </p:nvSpPr>
        <p:spPr>
          <a:xfrm>
            <a:off x="214200" y="1928880"/>
            <a:ext cx="862488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pese Ammissibili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efinite nel Bando (punto 7), in particolare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confronto a consuntivo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tra n. 3 preventivi (non richiesta per beni altamente specializzati e per acquisti di beni - importo di 500 euro x domanda)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VA 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non riconosciuta 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seconda del regime IVA e per gli Enti pubblici</a:t>
            </a:r>
            <a:r>
              <a:rPr b="0" lang="it-IT" sz="1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ategorie di spesa e voci di spesa 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previste dal Bando)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mmissibilità delle spese è valutata ai sensi della DGR n. 372/2008, e ss.mm.ii (DGR n. 1396/2008, n. 317/2010, n. 580/2010, n. 815/2011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ongrue, conformi ai prezzi di mercato e coerenti con il progetto/corso approvato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quantificate e giustificate (preventivo e consuntivo) - distinte per categoria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5" name="Text Box 5"/>
          <p:cNvSpPr/>
          <p:nvPr/>
        </p:nvSpPr>
        <p:spPr>
          <a:xfrm>
            <a:off x="0" y="6524640"/>
            <a:ext cx="291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Text Box 6"/>
          <p:cNvSpPr/>
          <p:nvPr/>
        </p:nvSpPr>
        <p:spPr>
          <a:xfrm>
            <a:off x="0" y="6491160"/>
            <a:ext cx="406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Rectangle 7"/>
          <p:cNvSpPr/>
          <p:nvPr/>
        </p:nvSpPr>
        <p:spPr>
          <a:xfrm>
            <a:off x="0" y="652140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Rettangolo 6"/>
          <p:cNvSpPr/>
          <p:nvPr/>
        </p:nvSpPr>
        <p:spPr>
          <a:xfrm>
            <a:off x="33696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Variant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40" name="PlaceHolder 2"/>
          <p:cNvSpPr>
            <a:spLocks noGrp="1"/>
          </p:cNvSpPr>
          <p:nvPr>
            <p:ph/>
          </p:nvPr>
        </p:nvSpPr>
        <p:spPr>
          <a:xfrm>
            <a:off x="468000" y="1844280"/>
            <a:ext cx="828684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669900"/>
                </a:solidFill>
                <a:uFillTx/>
                <a:latin typeface="Times New Roman"/>
                <a:ea typeface="Times New Roman"/>
              </a:rPr>
              <a:t>non sono ammesse varianti</a:t>
            </a:r>
            <a:r>
              <a:rPr b="1" lang="it-IT" sz="20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: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iminuzione del punteggio attribuito ;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erdita dei requisiti di ammissibilità;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odifiche del progetto/corso/s originario in termini di obiettivi e di risultati;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odifiche sostanziali tecniche ed economiche della singole tipologie di intervento approvate;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umento dell’onere a carico del contributo pubblico.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1" name="Rectangle 4"/>
          <p:cNvSpPr/>
          <p:nvPr/>
        </p:nvSpPr>
        <p:spPr>
          <a:xfrm>
            <a:off x="0" y="654192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Rettangolo 5"/>
          <p:cNvSpPr/>
          <p:nvPr/>
        </p:nvSpPr>
        <p:spPr>
          <a:xfrm>
            <a:off x="55116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609480" y="999720"/>
            <a:ext cx="8229600" cy="42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Variant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44" name="PlaceHolder 2"/>
          <p:cNvSpPr>
            <a:spLocks noGrp="1"/>
          </p:cNvSpPr>
          <p:nvPr>
            <p:ph/>
          </p:nvPr>
        </p:nvSpPr>
        <p:spPr>
          <a:xfrm>
            <a:off x="142560" y="1500120"/>
            <a:ext cx="8715240" cy="45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Arial Black"/>
              </a:rPr>
              <a:t>Per la misura 111 e 33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 Costituiscono </a:t>
            </a:r>
            <a:r>
              <a:rPr b="1" lang="it-IT" sz="16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varianti in corso d’opera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446040" indent="-181080" algn="just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odifiche immateriali di carattere giuridico, tecnico ed amministrativo (es. cambio di sede di realizzazione dell’intervento, adeguamento del crono programma, sostituzione del personale coinvolto)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446040" indent="-181080" algn="just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odifiche materiali: riduzione della spesa prevista per la realizzazione di un intervento ammesso all’aiuto (a causa di economia o mancata realizzazione, parziale o totale) e contestuale incremento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446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Variazione in aumento fino ad un massimo del 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30 %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dell’importo inizialmente determinato </a:t>
            </a:r>
            <a:r>
              <a:rPr b="1" lang="it-IT" sz="16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tra le diverse categoria di spesa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es. spese di personale, materiale consumabile, etc.)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44604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OTA BENE</a:t>
            </a:r>
            <a:r>
              <a:rPr b="0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446040" indent="-181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ssimo una variante finanziaria per domanda di aiuto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446040" indent="-181080" algn="just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e richieste di varianti devono essere preventivamente 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omunicate (preavviso di 10 giorni) e autorizzate dal Settore Ispettorato Agrario regionale (prima della data di scadenza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5" name="Rectangle 4"/>
          <p:cNvSpPr/>
          <p:nvPr/>
        </p:nvSpPr>
        <p:spPr>
          <a:xfrm>
            <a:off x="0" y="654192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Rettangolo 5"/>
          <p:cNvSpPr/>
          <p:nvPr/>
        </p:nvSpPr>
        <p:spPr>
          <a:xfrm>
            <a:off x="55116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7" name="PlaceHolder 1"/>
          <p:cNvSpPr>
            <a:spLocks noGrp="1"/>
          </p:cNvSpPr>
          <p:nvPr>
            <p:ph type="title"/>
          </p:nvPr>
        </p:nvSpPr>
        <p:spPr>
          <a:xfrm>
            <a:off x="609480" y="1066680"/>
            <a:ext cx="822960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Variant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48" name="PlaceHolder 2"/>
          <p:cNvSpPr>
            <a:spLocks noGrp="1"/>
          </p:cNvSpPr>
          <p:nvPr>
            <p:ph/>
          </p:nvPr>
        </p:nvSpPr>
        <p:spPr>
          <a:xfrm>
            <a:off x="213840" y="1714680"/>
            <a:ext cx="864396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333333"/>
                </a:solidFill>
                <a:latin typeface="Arial"/>
              </a:rPr>
              <a:t>b) 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Non costituiscon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variante in corso d’opera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 (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non comunicate e autorizzate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181080" indent="-181080">
              <a:lnSpc>
                <a:spcPct val="150000"/>
              </a:lnSpc>
              <a:spcBef>
                <a:spcPts val="45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a riduzione dell’importo (per economia di spesa) in una o più voce di spesa ammesse all’aiuto, senza contestuale incremento di altre voci di spesa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181080" indent="-181080">
              <a:lnSpc>
                <a:spcPct val="150000"/>
              </a:lnSpc>
              <a:spcBef>
                <a:spcPts val="45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le modifiche di portata minore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he non determinino 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tra le diverse categoria di spesa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un aumento superiore al 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10 %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dell’importo inizialmente determinato per ciascuna categoria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9" name="Rectangle 4"/>
          <p:cNvSpPr/>
          <p:nvPr/>
        </p:nvSpPr>
        <p:spPr>
          <a:xfrm>
            <a:off x="0" y="654192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Rettangolo 5"/>
          <p:cNvSpPr/>
          <p:nvPr/>
        </p:nvSpPr>
        <p:spPr>
          <a:xfrm>
            <a:off x="55116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PlaceHolder 1"/>
          <p:cNvSpPr>
            <a:spLocks noGrp="1"/>
          </p:cNvSpPr>
          <p:nvPr>
            <p:ph type="title"/>
          </p:nvPr>
        </p:nvSpPr>
        <p:spPr>
          <a:xfrm>
            <a:off x="590400" y="919080"/>
            <a:ext cx="8229600" cy="8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343160" indent="0" algn="ct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Domande di Pagamento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52" name="PlaceHolder 2"/>
          <p:cNvSpPr>
            <a:spLocks noGrp="1"/>
          </p:cNvSpPr>
          <p:nvPr>
            <p:ph/>
          </p:nvPr>
        </p:nvSpPr>
        <p:spPr>
          <a:xfrm>
            <a:off x="609480" y="1785600"/>
            <a:ext cx="82296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just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e domande di pagamento e le relative rendicontazioni tecniche e finanziarie devono essere inviate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l Settore Ispettorato Agrario Regionale (competente per territorio)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entro la data di scadenza 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misura 114 e misura 331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entro 60 giorni dalla data di scadenza 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Bandi misura 111 “informazione”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odulistica predisposta dalla Region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tati avanzamento lavori (se previste) e saldo finale (non ammesse anticipazioni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45720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Le modalità di rendicontazione e di pagamento sono definiti nel dettaglio nella DGR n. 372/2008 e ss.mm.ii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4572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3" name="Text Box 5"/>
          <p:cNvSpPr/>
          <p:nvPr/>
        </p:nvSpPr>
        <p:spPr>
          <a:xfrm>
            <a:off x="0" y="6524640"/>
            <a:ext cx="291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Text Box 6"/>
          <p:cNvSpPr/>
          <p:nvPr/>
        </p:nvSpPr>
        <p:spPr>
          <a:xfrm>
            <a:off x="0" y="6491160"/>
            <a:ext cx="406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Rectangle 7"/>
          <p:cNvSpPr/>
          <p:nvPr/>
        </p:nvSpPr>
        <p:spPr>
          <a:xfrm>
            <a:off x="0" y="652140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Rettangolo 7"/>
          <p:cNvSpPr/>
          <p:nvPr/>
        </p:nvSpPr>
        <p:spPr>
          <a:xfrm>
            <a:off x="55116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6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3352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Violazioni di Impegn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58" name="PlaceHolder 2"/>
          <p:cNvSpPr>
            <a:spLocks noGrp="1"/>
          </p:cNvSpPr>
          <p:nvPr>
            <p:ph/>
          </p:nvPr>
        </p:nvSpPr>
        <p:spPr>
          <a:xfrm>
            <a:off x="285840" y="1571400"/>
            <a:ext cx="8555040" cy="45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e fattispecie di violazione di impegni e dei livelli di gravità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, entità e durata per ciascuna violazione sono disciplinate dall’alleg. 7 del Bando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IDUZIONE e/o DECADENZA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lcuni esempi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itardo nella presentazione domanda di pagamento, non conformità del materiale informativo, variazioni varianti, comunicazioni di varianti, etc.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fatto salvo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quanto disposto ai sensi dell’art. 31 del Reg. CE 1975/2006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’inapplicabilità di quanto disposto al presente articolo per i casi di forza maggiore previsti dalla normativa in materia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’applicazione di ulteriori norme comunitarie nazionali e regionali in materia di illeciti amministrativi e penali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9" name="Rettangolo 3"/>
          <p:cNvSpPr/>
          <p:nvPr/>
        </p:nvSpPr>
        <p:spPr>
          <a:xfrm>
            <a:off x="47988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Freccia in giù 4"/>
          <p:cNvSpPr/>
          <p:nvPr/>
        </p:nvSpPr>
        <p:spPr>
          <a:xfrm>
            <a:off x="4286160" y="2214720"/>
            <a:ext cx="642960" cy="5713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669900"/>
                </a:solidFill>
                <a:latin typeface="Arial"/>
              </a:rPr>
              <a:t>TITOLO</a:t>
            </a:r>
            <a:endParaRPr b="1" lang="en-US" sz="3600" spc="-1" strike="noStrike">
              <a:solidFill>
                <a:srgbClr val="669900"/>
              </a:solidFill>
              <a:latin typeface="Arial"/>
            </a:endParaRPr>
          </a:p>
        </p:txBody>
      </p:sp>
      <p:pic>
        <p:nvPicPr>
          <p:cNvPr id="1488" name="Picture 4" descr=""/>
          <p:cNvPicPr/>
          <p:nvPr/>
        </p:nvPicPr>
        <p:blipFill>
          <a:blip r:embed="rId1"/>
          <a:stretch/>
        </p:blipFill>
        <p:spPr>
          <a:xfrm>
            <a:off x="2357280" y="1268280"/>
            <a:ext cx="5346720" cy="2519640"/>
          </a:xfrm>
          <a:prstGeom prst="rect">
            <a:avLst/>
          </a:prstGeom>
          <a:ln w="0">
            <a:noFill/>
          </a:ln>
        </p:spPr>
      </p:pic>
      <p:sp>
        <p:nvSpPr>
          <p:cNvPr id="1489" name="PlaceHolder 2"/>
          <p:cNvSpPr>
            <a:spLocks noGrp="1"/>
          </p:cNvSpPr>
          <p:nvPr>
            <p:ph type="subTitle"/>
          </p:nvPr>
        </p:nvSpPr>
        <p:spPr>
          <a:xfrm>
            <a:off x="356760" y="3929040"/>
            <a:ext cx="8643960" cy="22147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Arial Black"/>
              </a:rPr>
              <a:t>Seminario Informativo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 Black"/>
              </a:rPr>
              <a:t>nuovi bandi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 Black"/>
              </a:rPr>
              <a:t>misura 111 “informazione” </a:t>
            </a:r>
            <a:r>
              <a:rPr b="1" lang="it-IT" sz="2000" spc="-1" strike="noStrike">
                <a:solidFill>
                  <a:srgbClr val="ff0000"/>
                </a:solidFill>
                <a:latin typeface="Arial Black"/>
              </a:rPr>
              <a:t>(DGR nn. 677/2013 e 672/2013)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 Black"/>
              </a:rPr>
              <a:t>misura 114 “consulenza aziendale” </a:t>
            </a:r>
            <a:r>
              <a:rPr b="1" lang="it-IT" sz="2000" spc="-1" strike="noStrike">
                <a:solidFill>
                  <a:srgbClr val="ff0000"/>
                </a:solidFill>
                <a:latin typeface="Arial Black"/>
              </a:rPr>
              <a:t>(DGR n. 510/2013)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 Black"/>
              </a:rPr>
              <a:t>Misura 331 “Formazione e informazione” </a:t>
            </a:r>
            <a:r>
              <a:rPr b="1" lang="it-IT" sz="2000" spc="-1" strike="noStrike">
                <a:solidFill>
                  <a:srgbClr val="ff0000"/>
                </a:solidFill>
                <a:latin typeface="Arial Black"/>
              </a:rPr>
              <a:t>(DGR n. 531/2013)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PlaceHolder 1"/>
          <p:cNvSpPr>
            <a:spLocks noGrp="1"/>
          </p:cNvSpPr>
          <p:nvPr>
            <p:ph type="title"/>
          </p:nvPr>
        </p:nvSpPr>
        <p:spPr>
          <a:xfrm>
            <a:off x="684360" y="907560"/>
            <a:ext cx="8229600" cy="56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3352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Revoche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62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er accertata falsità di dichiarazioni sostitutive di certificazioni o di atti di notorietà contenute nella domanda di contributo o allegate ad essa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ancata realizzazione del progetto/corso/servizio di consulenza ammesso a contribut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alizzazione del progetto diverso da quello ammesso a contributo o diverso dalle varianti autorizza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omanda di liquidazione del contributo irregolar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grave irregolarità dei documenti che attestano le spese sostenute dal beneficiari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erdita dei requisiti necessari per la concessione del contribut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inuncia del beneficiari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3" name="Rettangolo 3"/>
          <p:cNvSpPr/>
          <p:nvPr/>
        </p:nvSpPr>
        <p:spPr>
          <a:xfrm>
            <a:off x="55116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Obblighi General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65" name="PlaceHolder 2"/>
          <p:cNvSpPr>
            <a:spLocks noGrp="1"/>
          </p:cNvSpPr>
          <p:nvPr>
            <p:ph/>
          </p:nvPr>
        </p:nvSpPr>
        <p:spPr>
          <a:xfrm>
            <a:off x="285480" y="1857240"/>
            <a:ext cx="864396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izzare il progetto nei tempi che consentono il raggiungimento delle finalità della misura in conformità agli obblighi derivanti  dalla normativa vigente e dal PSR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izzare il progetto in modo conforme e in coerenza con la proposta approvata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tere a disposizione  della Regione e di ogni altra autorità pubblica incaricata dei controlli, tutta la documentazione necessaria a svolgere l’attività di controllo, anche nel caso sia detenuto da terzi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entire l’accesso degli incaricati dei controlli ai luoghi  dove si trovano i documenti oggetto  dell’aiuto pubblico ed ai luoghi dove viene svolta l’attività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ervare  per almeno 5 anni tutta la documentazione (lett. C, art.7, c. LR 42/2007)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icurare il libero accesso alle iniziative previste a tutti i potenziali destinatari, senza nessun vincolo di appartenenza a forme associative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6" name="Rettangolo 3"/>
          <p:cNvSpPr/>
          <p:nvPr/>
        </p:nvSpPr>
        <p:spPr>
          <a:xfrm>
            <a:off x="55116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7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Normativa di Riferimento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68" name="PlaceHolder 2"/>
          <p:cNvSpPr>
            <a:spLocks noGrp="1"/>
          </p:cNvSpPr>
          <p:nvPr>
            <p:ph/>
          </p:nvPr>
        </p:nvSpPr>
        <p:spPr>
          <a:xfrm>
            <a:off x="356760" y="1642680"/>
            <a:ext cx="8643960" cy="43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ipali adempimenti e gli obblighi sono previsti da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golamenti comunitari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ogramma di Sviluppo Rurale 2007 – 2013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R n. 42/2007, in particolare l’art. 7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BANDI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Fattispecie di violazione di impegni e dei livelli di gravità, entità e durata per ciascuna violazione, ai sensi del DM 22/12/2009 (all. 7 del Bando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GR n. 1038 del 10/09/2010, relativa all’individuazione delle percentuali di riduzione in base ai livelli di gravità, entità e durata delle violazioni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GR n. 1233/2008 “Disposizione in materia di pubblicità e informazione sul sostegno da parte del FEASR”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GR n. 372 del 4/4/2008, e ss.mm.ii  (DGR n. 1396 del 29/10/2008, n. 317 del 9/2/2010 e n. 580 del 28/5/2010, relative ai criteri per l’ammissibilità delle spes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9" name="Rettangolo 3"/>
          <p:cNvSpPr/>
          <p:nvPr/>
        </p:nvSpPr>
        <p:spPr>
          <a:xfrm>
            <a:off x="33696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"/>
          <p:cNvSpPr txBox="1"/>
          <p:nvPr/>
        </p:nvSpPr>
        <p:spPr>
          <a:xfrm>
            <a:off x="142920" y="1643040"/>
            <a:ext cx="8858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1653480" indent="-16534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RESTATORI DI SERVIZI AGROFORESTALI</a:t>
            </a:r>
            <a:r>
              <a:rPr b="1" lang="it-IT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ientrano esclusivamente i soggetti che hanno ottenuto il riconoscimento di Organismi abilitati dalla Regione a fornire i servizi di formazione, dimostrazione e consulenza alle aziende agricole e forestali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neficiari dell’aiuto: misura 111 e 331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ggetti attuatori: misura 114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 i BENEFICIARI DEGLI AIUTI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AFFIDABILITÀ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del soggetto proponente in base all’esito di eventuali altre operazioni cofinanziate dai PSR (dal 2000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INSUSSISTENZA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di relazioni di parentela o affinità con dipendenti regionali“ (Dichiarazione  sostitutiva di atto di notorietà  (“Piano di prevenzione della corruzione e Programma per la trasparenza e l'integrità 2013/2015“)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DE MINIMIS 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ove previst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 algn="ctr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 algn="ctr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91" name="PlaceHolder 1"/>
          <p:cNvSpPr>
            <a:spLocks noGrp="1"/>
          </p:cNvSpPr>
          <p:nvPr>
            <p:ph type="title"/>
          </p:nvPr>
        </p:nvSpPr>
        <p:spPr>
          <a:xfrm>
            <a:off x="250920" y="981000"/>
            <a:ext cx="864216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beneficiari e destinatari (1)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92" name="CasellaDiTesto 5"/>
          <p:cNvSpPr/>
          <p:nvPr/>
        </p:nvSpPr>
        <p:spPr>
          <a:xfrm>
            <a:off x="166680" y="6510240"/>
            <a:ext cx="361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Freccia in giù 4"/>
          <p:cNvSpPr/>
          <p:nvPr/>
        </p:nvSpPr>
        <p:spPr>
          <a:xfrm>
            <a:off x="3929040" y="2571840"/>
            <a:ext cx="571680" cy="3571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"/>
          <p:cNvSpPr txBox="1"/>
          <p:nvPr/>
        </p:nvSpPr>
        <p:spPr>
          <a:xfrm>
            <a:off x="142920" y="1714320"/>
            <a:ext cx="8858160" cy="45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mprenditori agricoli iscritti al registro delle imprese, dotati di numero di partita IVA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operatori forestali, iscritti al registro delle imprese, che abbiano un’attività principale o secondaria con codice ATECO che inizi con A02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oggetti beneficiari per la misura 114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estinatari della formazione e informazione per la misura 111 e 331 (possono partecipare coadiuvanti familiari, iscritti all’INPS, e lavoratori dipendenti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er la misura 331 i destinatari con sede legale nelle aree rurali ricomprese nell’Asse 3) del PSR (zone C e D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250920" y="981000"/>
            <a:ext cx="864216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beneficiari e destinatari (2)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96" name="CasellaDiTesto 5"/>
          <p:cNvSpPr/>
          <p:nvPr/>
        </p:nvSpPr>
        <p:spPr>
          <a:xfrm>
            <a:off x="166680" y="6510240"/>
            <a:ext cx="361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Freccia in giù 4"/>
          <p:cNvSpPr/>
          <p:nvPr/>
        </p:nvSpPr>
        <p:spPr>
          <a:xfrm>
            <a:off x="4071960" y="3000240"/>
            <a:ext cx="785880" cy="6429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6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Entità Aiut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99" name=""/>
          <p:cNvSpPr txBox="1"/>
          <p:nvPr/>
        </p:nvSpPr>
        <p:spPr>
          <a:xfrm>
            <a:off x="356760" y="1571400"/>
            <a:ext cx="8572680" cy="45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isorse disponibili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% di aiut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isura 331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 euro 327.400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100 % de minimi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34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isura 114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  euro 447.662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80 % de minimis </a:t>
            </a:r>
            <a:r>
              <a:rPr b="0" lang="it-IT" sz="1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solo per consulenza forestale)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isura 111 – azione b) “informazione”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- Bando 1): euro 100.000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100 %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- Bando 2): euro 300.000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100 %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0" name="Rettangolo 4"/>
          <p:cNvSpPr/>
          <p:nvPr/>
        </p:nvSpPr>
        <p:spPr>
          <a:xfrm>
            <a:off x="40824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1" name="PlaceHolder 1"/>
          <p:cNvSpPr>
            <a:spLocks noGrp="1"/>
          </p:cNvSpPr>
          <p:nvPr>
            <p:ph type="title"/>
          </p:nvPr>
        </p:nvSpPr>
        <p:spPr>
          <a:xfrm>
            <a:off x="590400" y="919080"/>
            <a:ext cx="8229600" cy="8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Procedura (FASI)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02" name=""/>
          <p:cNvSpPr txBox="1"/>
          <p:nvPr/>
        </p:nvSpPr>
        <p:spPr>
          <a:xfrm>
            <a:off x="590400" y="1785960"/>
            <a:ext cx="8229600" cy="430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esentazione domanda di aiu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struttoria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pprovazione e negoziazion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oncession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ttuazione proget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3" name="Freccia in giù 3"/>
          <p:cNvSpPr/>
          <p:nvPr/>
        </p:nvSpPr>
        <p:spPr>
          <a:xfrm>
            <a:off x="4500720" y="2214720"/>
            <a:ext cx="500040" cy="500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Freccia in giù 5"/>
          <p:cNvSpPr/>
          <p:nvPr/>
        </p:nvSpPr>
        <p:spPr>
          <a:xfrm>
            <a:off x="4500720" y="3071880"/>
            <a:ext cx="500040" cy="500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Freccia in giù 6"/>
          <p:cNvSpPr/>
          <p:nvPr/>
        </p:nvSpPr>
        <p:spPr>
          <a:xfrm>
            <a:off x="4500720" y="4000680"/>
            <a:ext cx="500040" cy="500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Freccia in giù 7"/>
          <p:cNvSpPr/>
          <p:nvPr/>
        </p:nvSpPr>
        <p:spPr>
          <a:xfrm>
            <a:off x="4500720" y="4857840"/>
            <a:ext cx="500040" cy="500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Rettangolo 8"/>
          <p:cNvSpPr/>
          <p:nvPr/>
        </p:nvSpPr>
        <p:spPr>
          <a:xfrm>
            <a:off x="33696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PlaceHolder 1"/>
          <p:cNvSpPr>
            <a:spLocks noGrp="1"/>
          </p:cNvSpPr>
          <p:nvPr>
            <p:ph type="title"/>
          </p:nvPr>
        </p:nvSpPr>
        <p:spPr>
          <a:xfrm>
            <a:off x="213840" y="1143000"/>
            <a:ext cx="864252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Presentazione Domande di Aiuto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09" name=""/>
          <p:cNvSpPr txBox="1"/>
          <p:nvPr/>
        </p:nvSpPr>
        <p:spPr>
          <a:xfrm>
            <a:off x="357120" y="2071800"/>
            <a:ext cx="8462880" cy="36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isorse disponibili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cadenza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isura 331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  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band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graduatoria)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31 luglio 2013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isura 114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  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sportell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“cassetti”)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31 luglio 2013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isura 111 – azione b) “informazione”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- Bando n. 1: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sportell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30 luglio 2013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- Bando n. 2: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band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graduatoria)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20 settembre 2013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333333"/>
                </a:solidFill>
                <a:uFillTx/>
                <a:latin typeface="Arial"/>
              </a:rPr>
              <a:t>IMPORTANTE</a:t>
            </a:r>
            <a:r>
              <a:rPr b="0" lang="it-IT" sz="1800" spc="-1" strike="noStrike">
                <a:solidFill>
                  <a:srgbClr val="333333"/>
                </a:solidFill>
                <a:latin typeface="Arial"/>
              </a:rPr>
              <a:t>: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33"/>
                </a:solidFill>
                <a:latin typeface="Arial"/>
              </a:rPr>
              <a:t>entro le ore 12:00 della data di scadenza, indipendentemente dalle modalità di inoltr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0" name="CasellaDiTesto 5"/>
          <p:cNvSpPr/>
          <p:nvPr/>
        </p:nvSpPr>
        <p:spPr>
          <a:xfrm>
            <a:off x="166680" y="6510240"/>
            <a:ext cx="34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1" name="PlaceHolder 1"/>
          <p:cNvSpPr>
            <a:spLocks noGrp="1"/>
          </p:cNvSpPr>
          <p:nvPr>
            <p:ph type="title"/>
          </p:nvPr>
        </p:nvSpPr>
        <p:spPr>
          <a:xfrm>
            <a:off x="714240" y="1071720"/>
            <a:ext cx="8229600" cy="78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Presentazione Domande di Aiuto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12" name=""/>
          <p:cNvSpPr txBox="1"/>
          <p:nvPr/>
        </p:nvSpPr>
        <p:spPr>
          <a:xfrm>
            <a:off x="142920" y="2287080"/>
            <a:ext cx="8858160" cy="380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 u="sng">
                <a:solidFill>
                  <a:srgbClr val="ff0000"/>
                </a:solidFill>
                <a:uFillTx/>
                <a:latin typeface="Arial"/>
              </a:rPr>
              <a:t>presenza</a:t>
            </a:r>
            <a:r>
              <a:rPr b="0" lang="it-IT" sz="2200" spc="-1" strike="noStrike">
                <a:solidFill>
                  <a:srgbClr val="333333"/>
                </a:solidFill>
                <a:latin typeface="Arial"/>
              </a:rPr>
              <a:t> della documentazione prevista dal Bando</a:t>
            </a:r>
            <a:r>
              <a:rPr b="0" lang="it-IT" sz="2000" spc="-1" strike="noStrike">
                <a:solidFill>
                  <a:srgbClr val="333333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0000"/>
                </a:solidFill>
                <a:latin typeface="Arial"/>
              </a:rPr>
              <a:t>documenti essenziali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3333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Arial"/>
              </a:rPr>
              <a:t>altri documenti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 u="sng">
                <a:solidFill>
                  <a:srgbClr val="ff0000"/>
                </a:solidFill>
                <a:uFillTx/>
                <a:latin typeface="Arial"/>
              </a:rPr>
              <a:t>firma</a:t>
            </a:r>
            <a:r>
              <a:rPr b="0" lang="it-IT" sz="2200" spc="-1" strike="noStrike">
                <a:solidFill>
                  <a:srgbClr val="333333"/>
                </a:solidFill>
                <a:latin typeface="Arial"/>
              </a:rPr>
              <a:t> del legale rappresentante e coordinatore tecnico </a:t>
            </a:r>
            <a:r>
              <a:rPr b="0" lang="it-IT" sz="1600" spc="-1" strike="noStrike">
                <a:solidFill>
                  <a:srgbClr val="333333"/>
                </a:solidFill>
                <a:latin typeface="Arial"/>
              </a:rPr>
              <a:t>(ove previsto)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333333"/>
                </a:solidFill>
                <a:latin typeface="Arial"/>
              </a:rPr>
              <a:t>compilazione e </a:t>
            </a:r>
            <a:r>
              <a:rPr b="1" lang="it-IT" sz="2200" spc="-1" strike="noStrike" u="sng">
                <a:solidFill>
                  <a:srgbClr val="ff0000"/>
                </a:solidFill>
                <a:uFillTx/>
                <a:latin typeface="Arial"/>
              </a:rPr>
              <a:t>rilascio</a:t>
            </a:r>
            <a:r>
              <a:rPr b="0" lang="it-IT" sz="2200" spc="-1" strike="noStrike">
                <a:solidFill>
                  <a:srgbClr val="333333"/>
                </a:solidFill>
                <a:latin typeface="Arial"/>
              </a:rPr>
              <a:t> sul portale SIAN.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332640" indent="-33264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333333"/>
                </a:solidFill>
                <a:latin typeface="Arial"/>
              </a:rPr>
              <a:t>NON RICEVIBILITA’ DELLA DOMANDA DI AIUT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3" name="Rettangolo 3"/>
          <p:cNvSpPr/>
          <p:nvPr/>
        </p:nvSpPr>
        <p:spPr>
          <a:xfrm>
            <a:off x="40824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Freccia in giù 4"/>
          <p:cNvSpPr/>
          <p:nvPr/>
        </p:nvSpPr>
        <p:spPr>
          <a:xfrm>
            <a:off x="4143240" y="5072040"/>
            <a:ext cx="642960" cy="5716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PlaceHolder 1"/>
          <p:cNvSpPr>
            <a:spLocks noGrp="1"/>
          </p:cNvSpPr>
          <p:nvPr>
            <p:ph type="title"/>
          </p:nvPr>
        </p:nvSpPr>
        <p:spPr>
          <a:xfrm>
            <a:off x="590400" y="1071360"/>
            <a:ext cx="8229600" cy="92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Presentazione Domande di Aiuto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16" name=""/>
          <p:cNvSpPr txBox="1"/>
          <p:nvPr/>
        </p:nvSpPr>
        <p:spPr>
          <a:xfrm>
            <a:off x="142920" y="2071800"/>
            <a:ext cx="8858160" cy="40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ocumenti essenziali</a:t>
            </a:r>
            <a:r>
              <a:rPr b="0" lang="it-IT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omanda di aiuto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modello SIAN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opia della 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arta d’identità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n corso di validità del rappresentante legale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cheda tecnica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anche su supporto informatic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cheda finanziaria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anche su supporto informatic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ltri documenti (in base al Bando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ichiarazione sostitutiva di atto di notorietà, relativa al regime IVA e altri finanziamenti con fondi pubblici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ichiarazione sostitutiva di atto di notorietà, relativa al “de minimis”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urricula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7" name="Rettangolo 4"/>
          <p:cNvSpPr/>
          <p:nvPr/>
        </p:nvSpPr>
        <p:spPr>
          <a:xfrm>
            <a:off x="19404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30T07:38:51Z</dcterms:created>
  <dc:creator>lavagnino</dc:creator>
  <dc:description/>
  <dc:language>en-US</dc:language>
  <cp:lastModifiedBy>Capurro</cp:lastModifiedBy>
  <dcterms:modified xsi:type="dcterms:W3CDTF">2013-07-02T12:33:51Z</dcterms:modified>
  <cp:revision>100</cp:revision>
  <dc:subject/>
  <dc:title>Presentazione standard di PowerPoint</dc:title>
</cp:coreProperties>
</file>