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A43A-D011-41B4-8D1C-CB6D5F297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EA0E-0269-41BE-BF0F-9924D9F5D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AA0B04-3F71-4C6B-874A-EC7049EA9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F7B2EC-BE93-417C-B0B0-A88D7B308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5AF52E-6419-40FB-95B8-4289FDE75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3C43C1-9722-422A-B720-DDBCFBFE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DB14CF-1D82-4178-8444-12D41586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4728E9-B1E1-424A-B8AB-70FB3DD6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597761-31AF-4382-8C3E-3D6F47DDA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E8C437-D4CB-4F1B-BA1D-819B8400E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F6BB87-9A41-43DF-9BC7-9D9F13799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1F4107-95BC-4C5E-A040-69216F7F8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E58C-C286-4D96-A57B-3135D1459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66CC9D-16B8-4516-B5BA-D43ED157D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CCDDF0-8FFC-4994-8DE4-6E7049975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C1BA1E-02C0-4308-B312-6A81351E5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CF9C16-9DF6-4626-B4F3-DADCE3545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9348C9-0D4E-4E16-AAD2-F3EB359C0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241B08-C1F2-4D6A-B9C0-57A418BB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580322-7638-40B2-B2B1-E3DF3003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0F8A08-B2E2-42AC-965C-605451DD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7041BF-48DC-4ECD-8835-B35CE73A2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6CD1CF-BA9B-4FBF-8FB9-475968DAD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B8ED-686B-4D07-B0B7-7B5A35FA0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32FCC4-0B1F-4D79-A7DF-DE83A8DFB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14884B-BA66-46C7-AD93-0172C4DFB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8D4E1A-1A2F-4588-A04D-F6F4512B1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84D540-5153-48F3-B335-593B52A7A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2D7590-0CEE-4D54-87D8-86BB28706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A7274F-5B9A-443B-B000-E135686B6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55034D-BD0C-4D93-A541-F913A74A9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F2A484-1165-4DC7-AE71-69DB84F5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BA9D2A-5A2E-461A-8675-C99BB425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914BAF-C892-4B27-A4ED-C91E4CF0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03317-C776-40CB-A6C5-A37D04422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301BA2-E9D9-4840-9CE7-7C5DBC5E4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506201-E2B5-4562-B2A0-0E9FE7CFE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D7AA95-098E-497C-B7ED-708252F0B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D60B75-5D1E-4D2B-9503-B0011CBA6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8C42AD-91DB-4213-831F-D400FC17E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E8C694-5D21-4549-87EB-007F4DA87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01E095-64F9-4138-ACD5-BD911155F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A856E9-D222-4FF2-832D-55177CFBA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CCE4ED-7279-487D-B672-B6EA1F806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231298-15B4-4C85-A5AE-5E3995EB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03A8C-C781-4943-B8D2-5F1D83475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1A4A3F-EDAC-411E-97FD-D88F30E2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B891A0-899D-426D-A1A8-1CFA5B49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99DDF9-7D1F-4A16-AA75-B82C735E9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7190FC-BD61-4994-84B4-4E6E0E32A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A01AEF-3245-497B-AB52-EAFA2C955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59DFC0-AE95-4E5D-AC11-F77820DD7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A4E6DF-D0F1-496F-B3F9-B24BDFFFF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79C483-A124-4E0D-9896-A2FB03F37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BF7D7D-C772-4AF8-A54E-A7E7DD6AB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A8782C-66F2-40FA-B5DB-359B2A9EA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DAA50-81FF-4591-BA55-2D60D5CC7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571DC9-E19F-4970-BA69-9D0A176DB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0F334B-78BD-4B99-89AA-5B68BCF2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9B17E3-A6EF-46C3-809E-4C084A3C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DA91A3-F1D1-426D-B2A9-3ADA84EF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66B33F-8198-4E1B-B398-FF55B8867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C6B8FC-DB0E-48EF-9D9F-ED290785D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110A7E-F6D0-4379-82C7-9FA0A5A72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97CC14-AF8D-4CDF-A503-22AA95281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496F6B-E544-4433-8DB6-753ACE1F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73F9EC-48AD-487C-A4ED-1BE7087D7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DFEDE-8FC7-4D81-BD64-2EDDEA897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800081-F7A1-4A7C-B910-B230C3C39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DF8004-E7BB-4784-9DF8-BB304133C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7C176B-3D8F-43A0-81B5-F50AE67FA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7CAC8A-FF40-402C-BFD6-78A6509B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8A5140-8AA3-4397-B968-E24C629D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414AD4-FD94-401F-B775-9C155E13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16AB3C-EC7D-4247-9360-B297D1742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628DB1-BE01-4CC4-AAAE-5BF74F494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E9FD58-8A2E-4D14-AD2B-C0DEE4395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17EDEC-F8E8-47E5-B484-633EB84CF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58A9D-DEDB-4199-82E4-A04B1F2BD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789B76-AD6B-4346-8B86-D6CACBAA3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7B4213-AA64-42A3-B365-FA6404832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8C5C97-D31B-44ED-85B1-D47A68689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1117BD-692E-4120-BB84-522384B2B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315F1D-F5F2-4C94-92F6-634295071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CF6F71-964F-474D-B9CB-92182D83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A17A22-1257-48BF-B23C-D1746F4B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146FA7-4F7B-4540-9C06-BC351187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11E0FE-FA67-4AF6-A956-FC692C678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461660-B37B-4E6E-8363-1EAA203A9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76A36-B8CE-4937-ABAB-03CA63A26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89EEE8-F1E3-4295-A0D0-743877922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D0F524-E98A-453B-8AD1-E8C4DE976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23655C-D330-4084-84C6-A6B9719AD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80768D-43B2-4EE3-BCFB-2FD89AC09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C4F3A6-C26B-47C2-A51E-62E59E1B2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0CDBDF-6044-4B15-A04E-56C819C8A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EA9C7C-BE31-4322-ADEB-0DA4BADCE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CA1F4A-908B-473F-847A-1A6A4E97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1D9407-E30B-4391-922C-B0CDC3EF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ACFF01-E32A-4C72-AB4F-C0C4DA67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61C00-8470-48AC-8AF1-A4D8AE4E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2489D2-4F9E-4352-A9A6-436326132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F9E917-B243-43E8-A704-EF252CB8B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6ABF1B-91FD-497C-9561-3FCD79E81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7819C8-0F05-4F43-86F4-BA125BD22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70F034-F352-4640-B6D4-E1006501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7EF555-A283-4207-B17D-030634DA7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35806B-1128-4B48-AC06-2557125E4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053D89-7BF8-4F7C-AEEB-C47429E9C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008111-5190-4CA7-BD57-3BF6AC90D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9373DD-53AA-4DD0-AD1D-5A6F22DC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A5D9-E3C8-46B9-87AB-25EB5C931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75662-FF5A-4C9E-A1DF-A4B8A932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65A668-7292-439F-8829-C570BF2E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E96BDF-5C2C-4F65-A3B2-3DFE5FD2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120CA4-5EFA-4E91-BC26-642A32527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4B1EA0-97D6-4488-82C4-1A65E62AE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5C7EA3-759D-42B6-929B-381383751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D77C9F-09C9-41D5-84A7-C9410A064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2DD0BC-D24D-486A-8262-B31836263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74FDB2-8094-418D-B704-ED92EDCCF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8CDADE-237F-4708-B709-540416405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A8CF16-8D64-45A2-BB78-79451E33D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E5C2F-8FC3-4BCE-86E4-CCC0F60C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B97833-B6CC-4F16-9E85-D5246B6BC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402C81-76F2-4BA2-9021-7D3A4453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30900F-20DC-4276-A763-4FA1B8EF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B7E140-B158-4B51-AA36-688908C5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C0EF95-8349-4A67-91D9-21364DF5E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E09C5A-4F46-438D-BDA6-91B3CB677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A29C4A-8FD4-46B3-8CB2-728FEC141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C7DBC1-8CE9-46D2-A058-D6138ADC1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82404D-ADFA-4338-806F-A31318F96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AA7EB5-F60C-4EAE-89C3-B66D1AFAE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3F376-507C-4397-B405-3CACD436F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2A18D6-D081-42FD-8DD4-43EFEDB00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0696B0-DA9B-4213-A0F8-9ED46B88F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DBC0CE-DE18-4D5C-813A-CB26C19FF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B7275B-3947-401E-A592-97FD2B39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8B7BF3-2CA1-4AD3-99E7-7E76DEA2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0DFF55-6063-4C5C-9F3B-B691EAFD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764F69-CE97-47DA-95D3-BA8645D1C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BACCD5-555F-417B-AF51-AC600EA3F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88CBC8-A45F-47F7-8E20-359BF2480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0BFCF5-73E0-42B7-830B-9A4DB8AB8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EAAF3-65D0-4F08-A3CF-6A7E67759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393A59-A843-4E83-8B2E-4163373D9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29334F-91E4-4E99-BCBB-2BB3E6F30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5161B9-4F4F-4685-8278-FC4AD04CC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A87F14-F036-481B-9A07-E220C3B24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57C6D6-EE3D-43D6-A9FB-729283F28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46802B-5D08-4EAD-B816-F55D07EA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542F12-24A2-4B66-B9F9-80F73694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9B44C7-3FEC-4987-A402-7FB4CA7C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961AEA-0FBD-443F-9ECA-C5B2C62E2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3D785A-D8EB-4645-8B7F-B79B007B6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0CEEE-1B94-4037-9DFC-929F9B879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A8D0C2-AF61-433D-8C6C-60AE9B289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2C0C44-E3EA-45C2-AC18-32DAC65B1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2C5591-B859-4920-B393-B7B2E016B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11311D-D12E-42CB-AFE4-C4EB581EC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BBCADC-F59E-433A-8284-F1A733D66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122BA1-6AC4-4BA3-B5A0-351A5FBB1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F1F57D-8E4C-4713-8E94-CFA97FBC8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5E4DDF-921F-4085-B9D8-2F0FCFFA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C2CD13-3A91-40EF-AD2A-79391ED8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A9F13C-101A-44DE-8646-E8B33A486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54A3D-17C2-4417-A60B-176462246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CB2F51-7F08-4CE8-80EB-203C4DB2F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FB4923-587C-4BFB-850D-444C1CEA6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1D5696-0288-453C-9E6B-F3AFF35CE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BD0EE8-246A-4B5C-9D56-25B69C5C1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DEA962B-3321-4570-8786-8D14A7F89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35E0C66-13CA-4DB5-A070-13DEDEB21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C8FB926-4E93-4C8A-8AE7-3FA53FBD8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7C921CE-74D6-49CF-808D-95F9CB721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F1B3BB-70EC-4095-929C-5D160A59F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751710A-6771-481D-BD18-E215F030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31F7E-59D1-4A03-8D56-4F7E28E75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30C43BD-DD35-499A-8F16-BDBD01AE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5FBAE96-0389-4256-9515-D7031924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98D7D6F-84E5-485B-B3EE-0D01BD2F6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1A0C257-6915-4EB2-B475-87FBCCA22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FA3EB44-FE75-41B0-94DD-EE99294C8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5A3235E-0245-405C-AB4E-8BD4C6E0D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E7B6B6A-7DAC-43E5-B97F-E3A627339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E67DF2-4EFF-4F10-AFCD-2F2D12317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D954FFE-1E5C-47DA-A2AB-118164BB0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835D8C5-2DB5-45F0-B1A8-3FC7439F9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36527-2697-45FD-B241-01ABE7618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20FCAF5-7A3B-412B-A67C-9263F2E40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5428C39-A0C1-4758-B64E-8BD5FA0F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FD1717C-18D7-47EA-8ACB-EE860D30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8B9E168-3335-4559-8299-A4D189E3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BACC143-7FC2-465B-9EC0-3A7BD3588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26412DB-3271-4DCE-9C54-5CFAF22B8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EB14D95-0817-4775-A458-E0F5D33CF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80543EC-25CB-4C68-9511-A47B057A6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12503E1-67CD-4D18-80E5-925E35740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B54B6B1-BE3A-4DDD-AB70-311A98389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0DFB7-62F4-4B08-BD72-85F62B06C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691C1A0-562A-41E3-B00E-B9197A140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39C2C8B-120E-4441-ABAD-BA8180546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3CF0936-0E19-429A-B0F8-A80B1854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F1000B0-58C2-434F-BF3A-B0F4C338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1A26746-C783-4493-96A8-B5324A21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38415FA-A654-4F2A-85AF-D9154ABB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2EC6EAF-C97F-4168-A8EC-FC85AD982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29F7B48-797D-4209-A1C4-1DD619E2E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9D6E2F1-374F-413A-8498-90C1DE807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3CD97-939A-48E6-894A-7B4E341AA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A829-5A97-42F8-AE65-811EA831D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60273-18E3-4AEB-8292-602C3C9B0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C2DFE-1D50-4B00-BC14-1D8F15E3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A2AF8-DEA2-4A6C-9CE5-EDFCE0DB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835B3-AF80-4801-8D02-A92EE517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9685E-870C-4E97-A1A3-76C465CB3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26828-A911-4C91-83F5-ADC3A9CE1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DA860-7113-4BD9-A91D-30BFA56E4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FC982-175D-4D91-970A-64A7D85D8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F00D8-69AF-49E3-80CA-C6FFEFE13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7F604-76B2-455F-9486-85808475A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B09D-ED0C-48BD-8D97-1475DB3DC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E1299-0549-4524-9A62-30C24ED82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F7670-220D-4221-8D3E-BC203265A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62832-F46D-4EB3-8B07-F44BCDE34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032EF-B226-4BB7-86B5-BA06F844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161E7-0C90-48FF-9D22-0AEA5A46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A89B4-CBF8-4605-8647-8338D811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9B691-E903-445C-9617-0BFACCD45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D42A5-8C8C-404A-BD78-8F92290A4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82451-D603-4F14-89FC-E04911E97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DF146-D678-4629-978D-1926B821C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7C14-2711-4347-829D-0CA0CDD18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08065-F01D-47E6-9F7F-BAEC0E5BA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2BEA5-159A-4519-9E7B-06A8C1282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DA7DE-1E4C-4D9F-A9AF-777908076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0A66C-CB04-407D-9E17-D39694BF5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E691A-E39D-4CF3-948F-7FF186E80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0B89F-E4C8-4E22-93CB-C1577E29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A4BD9-8CC4-4EF9-8B75-135EA2A4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002DC-280B-4A34-899B-C5583EB9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FA5D8-8DC7-47DF-B372-F3A4B0598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5949D-51F2-4171-9CF3-5350E60C7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72DA-8555-40DD-852E-3B16112B0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93DC1-C55E-4159-863C-56D869551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E1C60-BBC2-4913-96FC-B8D2E8B0D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84DF9-A4D4-4B95-BD74-3DB80BFAD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50677-5BE6-4AA6-9E5E-9DDED2481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BA212-47A5-4F6F-A426-2EF7CA93C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CFE78-08AD-492C-9DB2-5BFC76287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ACDFFF-7C15-41C0-9A10-D7CC670CF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F1776-7989-4578-84CA-94EE71B1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FE609-960B-43DA-8B7B-142F5F52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B7360-8F17-41BE-9963-60B305B9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13E4-4610-4BDD-8939-4520B7A9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773AA-5822-4CF6-B3B4-E97D77D4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10F03-FE87-4489-A142-363A018BD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D2942-A45D-47E7-A69F-A95828B08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6E9442-8C6E-4083-A33D-3BDE932F5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A063C-EF44-4C11-A2D7-CC7BA7329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17BC8-9469-47AD-B3D1-6CB49FDFD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0DF546-9200-46FF-ADE8-724199BCC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962F6-65D2-47FC-A230-02627D9C2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AD970-9C83-41D3-90E4-B411EF712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9F657-7286-4449-A201-623FA610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A758-F763-4256-AC8C-A3705308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13AE1-FF03-43F7-B2A0-4BAD4887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A4C09-B6B4-4F78-B91F-11FB9598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115F25-E7AC-456A-B091-6149D8948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F5D13-4232-4186-A469-48670BE7A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EDA8F-7D36-48A1-82C6-623ABFADC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927A9F-403E-420B-A592-C20119FAC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EB3B18-F6BF-4484-8C00-D88CCEA89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D30B8-CEE1-4579-A379-6A937A873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480E4C-DBF0-48F5-8D53-E026969DF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17335-1155-4C09-84E4-D917F78D3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9DDD-298F-44A3-8DF8-8F8BC953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3C7EB1-02EA-4A92-A5F7-0E067D9D5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53A3DF-F691-48FC-A66A-4843F720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9A405F-8462-4511-BA17-7B397059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B7B628-BB25-40B2-B8D6-54D078A1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A12383-4E7D-438E-9E0B-C9C5365A6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716A76-3AA7-40B4-9E17-08CF70C1B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044CED-FF57-41EB-8493-5A5983015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9E55F6-5FA9-4FCE-8E14-5A8AE1288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099C73-7A3E-4AC3-8364-AFC85615C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15F5C2-AA9B-445A-A5B6-D9719E12F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2F530-0D90-420A-B52E-DB392A34703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39076-6317-425D-A8D5-D22DF9AB18B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F0057-943F-43D7-950B-1CF2C964738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5DAA1-141A-4245-8665-96F1AAEF203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4F67D-0C8A-4388-88B2-2D3FB8BC782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F6D2C-68C7-49C1-85C3-198C99B19ED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C9AF8-06B6-4A05-812A-4CC10164AC4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73E04-EDC2-4DF5-9A82-571DB374947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5651E-C051-440B-800F-EB6986E4FD5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664F6-5F9F-4902-A393-76D0731500C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92245-E645-48EB-96B1-8C5B3E258E4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14944-EDFB-41FC-9F2F-CE193B26541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C01E2-699C-4A3B-AC06-9AA7ECA82D5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7199-D736-4DBE-B09A-4FC9B4AF940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3DF86-A988-484F-B56E-BA25C78D9E9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F881F-8CAD-4603-9B70-3A5BA4DCF68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7D8B8-D35F-490D-A782-012DE385494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8AC74-1292-4CC2-A4DA-5346BCB6B8A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E62B5-AE48-45D5-BDFE-A0D1F08B012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F71C6-72A7-4808-81FD-EE27AA5B030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8E2C1-3A83-4F79-8E59-1CD7C7FD8CA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8A171-B0E6-4BA0-A5AD-B0C33D46E1F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915BA-125E-49E6-ADA3-E91F45703F9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DD025-C90E-4508-828E-C3B115E3FEA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1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e b) “informazione”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GETTI DI INFORMAZION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che devono prevedere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incontri inform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endono una serie di riunioni collegiali, di durata non superiore a 2 ore, aperte a gruppi omogenei di partecipanti, in numero non superiore a 10, rappresentativi di specifici settori produttiv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seminari e convegni divulg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iziative informative di approfondimento per un minimo di 11 destinatari e una durata di almeno 3 h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’ ammessa l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e/o la distribuzione di apposito materiale informativo (facoltativ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i finanziabi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MO BANDO  (apert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ggiornamento sulle politiche comunitarie agricole, forestali e ambien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roduzione e trasferimento di innovazioni produzioni con particolare riferimento biologiche e ecocompatibili e gestione risorse (risparmio idrico ed energetico e uso di fonti alternative, protezione suolo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portell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 solo progetto per prestatore di servizi (indipendentemente dalla tematic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fine progetto: 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3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Freccia in giù 4"/>
          <p:cNvSpPr/>
          <p:nvPr/>
        </p:nvSpPr>
        <p:spPr>
          <a:xfrm>
            <a:off x="3929040" y="3286080"/>
            <a:ext cx="64296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ONDO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esentazione delle domande dal giorno successivo la pubblicazione sul BURL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condizionalità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sicurezza del lavoro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 (euro 4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stemi di qualità e di rintracciabilità (euro 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progetto per tematica (per Prestator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– graduatorie disti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l progetto deve svolgersi in un arco temporale non superiore 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mesi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ntro il</a:t>
            </a:r>
            <a:r>
              <a:rPr b="0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31/12/2014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7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ccia in giù 4"/>
          <p:cNvSpPr/>
          <p:nvPr/>
        </p:nvSpPr>
        <p:spPr>
          <a:xfrm>
            <a:off x="4000680" y="3786120"/>
            <a:ext cx="64260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progettu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per ciascuna azione informativa) ovvero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nco dei destinatari nel caso di invio informatico delle newsletter e dei bollettini (previsto nel 2° band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 del progetto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4.000 per singola provinci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15.000 per progetto regional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al Settore Ispettorato Agrario regionale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ingola iniziativa informativa (preavviso di 7 gior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er il 1°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disporre un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port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riassuntivo contenente i fabbisogni e i risultati attesi (settoriali, territoriali, filiera, etc.) dalla nuova programmazione di sviluppo rurale 2014 – 2020. (da inviare al Settore Politiche Agricole entro i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)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3:44:54Z</dcterms:modified>
  <cp:revision>146</cp:revision>
  <dc:subject/>
  <dc:title>Presentazione standard di PowerPoint</dc:title>
</cp:coreProperties>
</file>