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7523-0010-46F7-A18B-5ABA1927D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5C43-9272-4494-BDD1-918CB0BFD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741C92-8505-442B-9BFB-6B678D215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3F5CCD-ED56-4E1E-B5E2-481C191B8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57CC9B-E40D-408E-9AE3-579621F26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28A66B-5609-49EE-8A31-5E031F19A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ECB4D3-B542-4C55-886F-19B9F2584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8B3820-1E84-4811-9ECC-7FBF08B46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2116E7-2E25-492A-9EA4-30D5A39E4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73D861-E1BD-4603-80EA-CA3784E7A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5B4CFB-9822-424A-8A3B-62F28CDB4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99E031-A946-402C-A48D-8C87440F2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06AA-943A-4CFB-800F-648E9A4E3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076C4E-87AE-4635-846D-FC6475F3F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D24942-1BF1-431A-860C-4951AF35D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E7392F-6654-4311-9A3B-7DDA37F20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8483C0-12F4-4701-8AC4-D44D6F13A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97B147-1080-4D26-91C2-E362B6143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BD3607-F10E-42C4-BCCF-7C9FBC8C2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673CDD-677A-4D83-9A60-3BC5CB8BB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6ECA85-1CAC-49AC-95BE-61FD935ED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95DD3D-A522-49FB-93E8-D8175DADC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94A911-ED0A-405F-9991-FC1D655CE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02C4-BC52-402B-8183-D9E36FD35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39EA89-CEE2-4AD4-8E1E-ECD66FE52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CFAC72-0EB2-46FD-83AD-5A9E9E439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235385-AA43-4AF0-8BB0-14DF1F962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F81DBB-B045-4A34-B2E2-1D23FE99F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257781-E856-4F16-878E-3A98A211E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CCAEC6-41C5-4713-A467-5305F4D3F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D06C98-1B93-48E5-AF3B-76A51BA9F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7A1B79-6B5E-4974-8828-923DC8A42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631252-15EA-4FD5-A067-224288297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17CFBD-A39D-4C5C-9397-FFC8104CE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CAEC9-0EF8-453D-9169-1724686F3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283082-E9A2-4E1B-A639-B308F8D0E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2F4FEB-B13E-4248-B8ED-530D37ED9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9AF2DD-BA10-48BF-93AE-942336DB8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0D3FBE-B2AC-4516-B792-8E4B66613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300286-9543-4FEF-9B77-DD11C62DE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D6C38B-40D6-4478-BCB2-8A39CC855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3A79DE-D304-4BD4-A742-2D80E3AE1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F9337E-C95D-4695-A1EC-505314526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921950-F6AC-45D4-821F-CCD5C3843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CC56F1-8F63-4987-AF1E-CAB76362A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8FD4E-B578-47EA-A782-54500AC4D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D3E094-9C41-4FC6-8176-F20799E48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E1D240-367F-41EE-B867-16A6F4BBE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22E8EC-4A2A-4267-89D6-41975C423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536D4D-0F32-4412-A2C7-5341C3DB9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C334F7-B2CE-40B9-998A-30CBCA60F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F2276D-97C2-4C21-82D2-CD7A7F56A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135C90-070B-4B47-BE67-AA8E1C874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1C0264-6A63-44C2-A0B6-77EEEDF26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5512A3-AB42-4A30-A449-D7408FE81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4A2EE4-B348-4900-8D96-6F22B7BA7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B9E3F-532D-43EA-BDBF-3BBBD09F1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B12D38-ECA3-4848-A6E7-5F58B2300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F532BD-CF47-406E-9FDD-3E0770DF8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23CF3C-24E4-4C87-93B1-2CA3B6193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913859-5EF8-4761-BADD-1A79B2FC9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A6639F-04EC-42E8-A211-95F0B7F84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829C8C-6DC0-4408-A6CB-5F19D09E0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F1A705-CC63-4891-B5C8-602E38219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576784-C876-42BF-A886-731494BA6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A46AB7-FC69-48F0-ABDF-065648F0E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D718CC-78B1-464B-B514-BEEB1444A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9373F-71B7-44FF-98B6-4ACA2B593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8EF088-CDF5-42D7-8B77-25586904B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797C43-9941-45CB-AE92-BB35AC4E0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3788A8-5DEE-4F35-B2A0-7EE09DF2D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126022-7782-4F62-9E75-D2172890D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132901A-C56F-493A-9385-34DC63F80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6C161FE-71C0-4458-AB74-586A76C2C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2D72C6F-4367-495D-8946-898C6B770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AE7617-1EFA-4078-9A5C-4F8EFCB99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3331D2-47DF-4642-9E69-7DDD1D581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65973E7-68E4-4A45-B31C-ED8C483B7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571BE-6EF8-479E-BC66-EA1811192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6FBF2EE-483E-4772-BD9B-9BD732E17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EF91982-DB77-4BB4-B75E-072D66A4F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7EE0347-8861-4220-A5C6-5D31336F0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A09FD86-347E-4DAE-8068-A558A6E50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E495FB8-E754-4692-8ADF-154C0AE2E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16CBBD2-994A-45D5-9FBE-7AADE58AA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1349C9F-F7B9-4713-9626-6AF4AB386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C4F9B6C-39C5-4D5C-88CC-83685A7F2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57F945A-E6EF-4A0C-9217-7E7C9F85E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60E9E0F-0179-47F0-8CD6-A168D39E3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34379-B095-4B2E-AC8D-1700FF5C7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9FD4ECC-3A7C-4B54-A64B-3AD55BB94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ECD9090-BD4E-4456-8BBC-865705B19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414F739-3BFF-4F4F-9975-8DCEB9112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ECDD4B4-315F-4EE0-A4E4-3E295DFDE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FFB78D2-C5BB-49D7-9205-4B347EEEA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61CF54A-B939-4C2C-AAE4-4FB8E188B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0086A15-7B5E-4508-AA8B-B53C2705D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A7700BB-FD4F-463F-93A0-53F4654DA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767A1FD-F999-4B0A-A23F-A7FD7A4EF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AFDB76C-1928-4A41-BA0B-28186DA78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2113A-2471-4589-9EDB-AA88FF406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578B597-CDDC-48B3-8BD0-B31F843CF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10D3582-3585-4F20-A1F6-4383420D4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B691AC8-58D3-4C15-B306-47232605B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521CCB6-7370-4544-8CDB-0DAACA230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E195CCD-E1AC-42F5-8A13-491B57916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CD5CE6C-19CB-42FB-B55F-55DE81421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EE8F9A1-D486-442B-9B2C-3127F3659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98AE94A-1018-4594-9653-68619B824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56D6D1D-0331-44F8-A008-838AFB5CA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3F7FEBD-17FB-47EF-896E-91224603D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4CA9-6D2C-4B25-B2D5-C88B60EAE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A1478-D500-416B-8AB4-95270E5D2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18CC701-E419-4416-A211-F8F098022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E751137-A6AF-4EC6-A0E2-ED43F5F8A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E820B2D-D586-41A8-A7C7-56BAE9F78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0C7EBDA-1239-4BC9-8DBF-1F7A3A22A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69354B1-2AFD-408C-8ADF-E9AEBC77E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AB4995F-FDBB-48AC-AC39-69A7A8399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A85B15C-F9F8-4073-BE78-F271E610D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4C2E11A-AEF4-4BBF-B882-D6359B189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DB46697-D987-454A-93A5-45B981549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529FFAD-4C03-4125-9215-2C14F83C2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458CC-2F13-41BA-A779-4977A29AF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145D287-7CC4-44C2-A3E2-FF6D5D383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DC8E056-B5E9-40FF-9FEE-58F63BF01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9EF208F-B6F0-409F-B970-AE8EF441B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E92B53D-873C-406B-89F7-68F56B566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DFDD0F4-E645-4ECD-A49C-353642C2D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20DD15B-034E-44C8-BCAE-5E3D2ECD0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692B0F8-3AA2-403D-B4F2-349C7F698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C494428-682F-4AD4-B43C-8697A1D43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9C6781B-A1DE-4BF2-A12B-BC434AFCB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DD3FCE7-E251-4E45-B6DA-A5A2C4B3B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7D352-20C0-4B12-8DB7-D457C91A4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12E27F2-9DC2-4EE8-A8BF-9D0FC2A11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0075959-22DB-44CF-94D8-7F70B5284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4ED8925-ECD6-4224-86A0-8E8633A13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C65F37D-F7D3-49A3-87BA-720BD33FF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50A2D90-7FD7-4D8E-B92D-0ABACF4BD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681747C-EC2C-4627-8595-E5DA27E17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B68C346-7CB4-41C5-B4CA-6436569AE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E1269D7-0D82-4BB4-B5AC-15F85DB88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15B3EBB-9429-4C75-902E-886DDBA7C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C385030-3ADB-484A-B94A-CF188819E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A67CA-1EA8-4573-9BDC-220F4E2A5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0136650-5D8D-494F-9C3A-92139705E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A2198BF-8961-48CC-A55B-1E13CB603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9D445F2-96F0-42B9-BDF0-527F7DF0C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F9D1C86-C70B-49D6-85A2-2D01FFF97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4E713B8-8E27-43C9-9CCF-CCC5CA57E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DAFD9C3-3419-4055-B7BE-D0CEA28C9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9E0377F-A6B6-42E1-8ABD-E08D5589A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C6CE4D2-99ED-48F7-9438-8597A1C8F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82995A5-13DA-4D66-881A-3ED72A5EA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D1C3C01-2D92-4CAF-B850-6A2AF8213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0F5CA-552F-420D-8CB1-97C9097B3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AC2CEA9-BAD7-4EB3-8C9F-0CD1B4CE0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CB3AAA8-6DF0-4062-8CCE-E9C65B0C8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D1DD8E2-6878-4F44-9E72-846341615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2A692FF-0F8C-4BD4-8DDF-67E1C4686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B63AB31-B2E3-4786-8FB0-07D2B3392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FDE690D-D0F7-4149-9482-54F2ABA2A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895F9B7-98E6-4642-9EAE-E15F98298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6E4CA2E-5207-4E58-AA20-33436D3D2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490CD4E-051E-496A-B307-611A24DEE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AFF3A09-D1E5-4655-BD51-CB4A72188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B339E0-2A26-49B7-8675-4DD831B59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E3D98E0-A98D-4A35-8C04-E2F6CD323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4ADFDA2-5494-4205-B0C3-58C479A90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268AC47-B955-4D8A-B97C-655EEB104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E5E073C-F921-45F7-BA13-A8EC7109D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4EF43BD-596B-4A39-A0FF-B7339C937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89D4962-AB60-40BD-900A-F8D1D21B9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ACC8C35-E40C-45E2-BD8D-DC6C93D3B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3D71177-A393-48A1-AABF-2CB7B6EC6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D7FCA02-D742-4FD5-8F49-905D668B9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128CE65-9FB2-43E9-BD68-58649FB7A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5301DB-08BE-41FA-8BF0-D50B495F9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14AFB4F-6D81-46FE-B491-C1D938C03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FC5C90A-3F02-48FD-8115-7B82E481A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1BF66E7-F509-46AC-8532-5F04B2544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ED274FA-83A7-47BD-AD7B-C745647DD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C1D02AF-BC49-43F3-9F44-06EB50FC2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49B8D10-8B7A-405E-B0EC-31BF4BB81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DC757EA-07AE-4420-B80F-2F9B6FFF6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FD2ABA5-0C95-4423-9B79-EB766537F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8803B01-B874-4116-AC39-C182BB897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641BBDE-BE74-4F38-B5D0-B16D08689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E7D0F6-5051-409C-9ACA-59DB60752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593ABA0-F72D-40D1-B56D-48A204A8B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6659A13-DF9D-4A76-935A-4599366CD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6078213-4F07-4B23-872D-79697877E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52EFE2A-593F-4238-B51E-44BA5D880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9A220EC-C3BE-45E0-9AEA-A802CEED6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B869EA2-2526-42D1-B595-B44342620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AF6587D-773C-40EA-9704-362C34D6E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9C61853-D4C6-4981-81FF-3297C41D8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9C6A791-EBAB-4245-8E8D-FA2F88AE7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C4D61BC-FAF4-43D7-8BA6-6A680F203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161F07-2872-4003-9EDC-EE615E40E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21F5517-3D0C-4D88-9609-F035BAAD6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6C798E8-3B15-4564-905D-91407A651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F0AA472-373B-4E4B-B20A-C2FAC03C9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89B232A-17DE-4201-BD0C-0A898E4CB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14C9076-116F-4CE6-BE3C-183BB72D1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72FF045-F08F-42F2-9DC2-26B184763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3C18A6F-3373-4295-8B35-B366C93E8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30BBC73-B30E-4702-BB0B-CF2F71E71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FB3EC07-23E2-4887-AB41-BDBC88D50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794822-A71D-4E6D-96EA-F8D46197C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613E-0504-4743-9F20-C62D367FD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676D70-ABA0-4D74-BBB6-1F41FD5F3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C5ACBF-FD0D-4112-90C6-7616125C2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FFDADB-ABDE-45C1-9FB1-0C98AF999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6E6C85-659D-4C32-9F1C-579352114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4B3437-BB9E-403E-997F-21FAAF248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ED5151-C41D-41DB-AA51-5A07EDB20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115A30-A615-427C-89C6-C47FC427C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73AD18-EAFC-4569-946D-4FACEC8B8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68F12B-53C2-4271-A533-CD7BD915B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36B0E3-CCD6-462C-88BD-42F730DB8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6282-688B-48D7-8351-D383AA817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27BC40-ECF2-4881-B90B-79246EA88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A337AF-4AFB-40BB-B67B-4F3DA02C2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2FBD1E-2BFE-4E96-86B6-44018582F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5FAF36-0B15-4B43-A6E5-FFB7FA273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8120CB-8C51-43F9-B7D0-642C94E17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21789A-E22A-4448-BF89-9E5B8EF83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55361C-A6A6-4539-8FE0-5FD780C87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DE9123-DB3F-4F8C-B111-2C8C4FB0B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4BE42D-245C-4626-BDDA-9FC9680AA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8F9145-09B7-4B4B-A1C2-5003F3CC3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9FC8-D1AE-4FE2-94A3-547BAB5C6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623F10-2FBA-4292-9C8C-501C3E441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6AB4F3-8E58-43B4-8CBD-36BE9605C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B2DCE2-FA6D-4B19-9C98-810A1B296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A0DB4A-5F10-4783-B2CD-AA2A680A6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F52988-FE55-45DE-97A4-4F3AC1041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591518-8535-41E8-B0F0-5D262680D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A59D96-EBF8-4129-9692-D05B3647E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2C7D3C-05F5-4504-BE3C-D392F20F2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0EE934-7073-44C8-9EC5-D7C8BDF49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C6368D-3ECA-459D-8DC2-2A110842D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6916-5F98-4ECD-AE2C-7B583066F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C1A5BD-0344-4A86-BBC8-3AF10B6A3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0673A9-76DA-4953-AAB1-5AB340A64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389D8D-3B2F-4E18-B36F-72D8C3B7B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7F5BFA-AF04-4DB4-8DDD-A4263C58A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AE8247-0AAF-4748-B3C9-BFE08855A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11C9C7-022A-4E97-A52A-B8CEE201A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031B38-E763-4D2D-8278-D85A80A03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B8F3E9-582B-4D34-9358-EFCAB3792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453366-8ED1-421C-895F-A43308815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F2B95C-1578-4F0C-B720-FA23FC869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7452-11F8-413A-B11B-B51163FF8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817397-ECE6-4799-9009-44B864DA9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470CB7-834E-4176-AAAA-BA998543B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91E0ED-9D98-4816-9087-38A9C9D9E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F30344-C9EE-4D38-AC57-DFB3DEC94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854C7A-DCD9-4851-B267-D3E5586D4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0E53B9-CFE8-43B5-8860-D573E4839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14A832-3DFA-4EB4-A646-52DF3FB56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B705BD-E4E7-4AF5-8D78-D181A98F3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A969C4-C055-46A4-BC51-905A01909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72B66C-B412-46B9-92CB-3F7FB92E8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6666-8364-4497-B74F-D12DCE134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3D3124-7746-4DAD-8646-0E052A684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530479-00BC-4346-9029-089E43A2E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BD2E01-E3B3-4BB3-B895-DA00321D1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08C049-F87F-40B9-A32D-4C4D1B913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566F92-A1E1-47A9-A783-6BD40A2C4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93D429-9828-41F4-822C-F283B3789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FE21F2-25B7-4160-95BD-6B862D14C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476457-D993-4715-928E-9DBD04EEF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BFA668-9E7F-48EC-A417-36CAFAAD0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B798BD-6BF7-4234-889A-BFE9BBF41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5CA4-D388-450F-AEFE-0128A97F2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98F625-E54E-436E-B394-35970A284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89EA87-75CF-44A4-BFCD-E5F2E140B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50A42D-392D-4511-8551-1DF4FC8F2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EEAB27-ADB7-4B3B-9B5D-66721A4BF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4E94B3-9910-4376-849D-CDF579D42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3A92B5-E492-4481-8C05-1038A1F24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795DE4-1CB2-4EF9-AE85-5B4333A09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F78347-69E7-4992-AA04-850EDF732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3AD6FC-6ABE-444C-B2C1-8493F49A7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057FE1-B98C-41E3-A34B-41EFF8C26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62EAD-48A7-4D58-8812-AB84C2EFEC3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B597F-9220-4BC2-B5D9-CC0AA24D023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83EF8-2D65-4F15-A6ED-6357C382ACF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DBC87-A413-47E5-8F7B-E1F6D1964EA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EA983-F959-4E8C-AF18-30B89E60247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B89D1-56E8-46D2-8E16-BF8163177AD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E858F-A59B-4093-9535-1B67E7328A4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70BAB-3826-4D78-BA20-EA9B8A2975A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D4EF7-E4A9-4294-8C20-328B7FB72AD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3C13A-10C9-4649-B0DD-9F0D2215151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19E71-C527-4C29-A85F-600EEC352A5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155F1-0D1E-4CC4-8296-41164DD66EB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47F62-B37B-41D0-B05B-3831454EF8E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728A5-12C1-481C-AAC1-030EB1A8D89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E7960-51BF-4117-BE9D-CEE01D3DB68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8F1BE-08B9-4862-97B2-BBE40514FCD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6EADD-0599-4515-9C86-B9BDE48299F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497AC-B766-4664-8BF8-C05AF9DE1C2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60B83-57F0-4D49-B200-85E37662DB3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F4986-A87F-4A7F-A990-F6533B05AC6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21B99-1179-475E-ABE6-53088186E51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68736-6CD1-4C8D-9615-513AF34162F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7151F-59BD-48EA-BA92-5791608233C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F1F96-D101-469B-BC69-87F8BBB7E8A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Rectangle 3"/>
          <p:cNvSpPr/>
          <p:nvPr/>
        </p:nvSpPr>
        <p:spPr>
          <a:xfrm>
            <a:off x="0" y="1066680"/>
            <a:ext cx="9144000" cy="20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 baseline="12000">
                <a:solidFill>
                  <a:srgbClr val="669900"/>
                </a:solidFill>
                <a:latin typeface="Tahoma"/>
                <a:ea typeface="Times New Roman"/>
              </a:rPr>
              <a:t>Reg. (CE) n. 1698/2005 del Consig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 </a:t>
            </a:r>
            <a:r>
              <a:rPr b="1" i="1" lang="it-IT" sz="3200" spc="-1" strike="noStrike" baseline="12000">
                <a:solidFill>
                  <a:srgbClr val="669900"/>
                </a:solidFill>
                <a:latin typeface="Tahoma"/>
                <a:ea typeface="Tahoma"/>
              </a:rPr>
              <a:t>PROGRAMMA regionale di SVILUPPO RUR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      </a:t>
            </a:r>
            <a:r>
              <a:rPr b="1" lang="it-IT" sz="3200" spc="-1" strike="noStrike" baseline="12000">
                <a:solidFill>
                  <a:srgbClr val="ffff99"/>
                </a:solidFill>
                <a:latin typeface="Tahoma"/>
                <a:ea typeface="Times New Roman"/>
              </a:rPr>
              <a:t>2007 -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Rectangle 4"/>
          <p:cNvSpPr/>
          <p:nvPr/>
        </p:nvSpPr>
        <p:spPr>
          <a:xfrm>
            <a:off x="225360" y="4869000"/>
            <a:ext cx="8701200" cy="12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669900"/>
                </a:solidFill>
                <a:latin typeface="Tahoma"/>
              </a:rPr>
              <a:t>Genova   -   4 luglio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Rectangle 5"/>
          <p:cNvSpPr/>
          <p:nvPr/>
        </p:nvSpPr>
        <p:spPr>
          <a:xfrm>
            <a:off x="2556000" y="6541920"/>
            <a:ext cx="367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857160" y="2857320"/>
            <a:ext cx="7772400" cy="128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MISURA 331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"/>
          <p:cNvSpPr txBox="1"/>
          <p:nvPr/>
        </p:nvSpPr>
        <p:spPr>
          <a:xfrm>
            <a:off x="142920" y="1714320"/>
            <a:ext cx="885816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peratore sanitario alimentare per le aziende agrituristiche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euro 120.000,00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ggiornamento per fattorie didattiche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euro 35.000,00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rso base per fattorie didattiche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euro 80.000,00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ggiornamento per le aziende agrituristiche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euro 82.400,00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Tematiche ammesse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0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3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Obbligh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2" name=""/>
          <p:cNvSpPr txBox="1"/>
          <p:nvPr/>
        </p:nvSpPr>
        <p:spPr>
          <a:xfrm>
            <a:off x="357120" y="1571400"/>
            <a:ext cx="846288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are il “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o con fogli firma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re </a:t>
            </a:r>
            <a:r>
              <a:rPr b="0" lang="it-IT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ra i documenti essenziali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’elenco dei partecipanti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i corsi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spettare le norme di antinfortunistica e prevenzione degli incendi nelle sedi di svolgimento delle attività previste (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bbligo di stipula di assicurazione contro infortuni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are e far compilare ai  partecipanti alle azioni formative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questionari di valutazione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unicare le varianti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partecipanti devono frequentare almeno il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%(75 % corso x OSA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delle ore previste dal cors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gli aiuti per la formazione previste dalla misura 331 possono essere concessi nei limiti del regime “de minimis” di cui al regolamento (CE) n. 1998/2006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 suddetti aiuti devono essere riferiti ai destinatari del corso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erifica preventiva del cumulo degli aiuti complessivamente concessi alle imprese partecipanti, previa acquisizione di una dichiarazione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3" name="Rettangolo 3"/>
          <p:cNvSpPr/>
          <p:nvPr/>
        </p:nvSpPr>
        <p:spPr>
          <a:xfrm>
            <a:off x="276840" y="6488280"/>
            <a:ext cx="157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3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Caratteristiche cors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5" name=""/>
          <p:cNvSpPr txBox="1"/>
          <p:nvPr/>
        </p:nvSpPr>
        <p:spPr>
          <a:xfrm>
            <a:off x="356760" y="1571400"/>
            <a:ext cx="835812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514600" indent="-251460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2514600" indent="-2514600" algn="just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ndividuazione dei partecipanti (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no ammesse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spese per l’individuazione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i partecipanti,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stenute antecedentemente alla presentazione della domanda di aiuto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2514600" indent="-2514600" algn="just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esentare  </a:t>
            </a: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due domande di aiuto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corso) per tematica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2514600" indent="-2514600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sto massimo per ciascun corso: 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uro 25,00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 partecipante/ora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2514600" indent="-2514600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umero destinatari e ore durata : variabile in base al cors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2514600" indent="-25146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Rettangolo 4"/>
          <p:cNvSpPr/>
          <p:nvPr/>
        </p:nvSpPr>
        <p:spPr>
          <a:xfrm>
            <a:off x="348120" y="6488280"/>
            <a:ext cx="157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3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CasellaDiTesto 4"/>
          <p:cNvSpPr/>
          <p:nvPr/>
        </p:nvSpPr>
        <p:spPr>
          <a:xfrm>
            <a:off x="4429080" y="1643040"/>
            <a:ext cx="442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30T07:38:51Z</dcterms:created>
  <dc:creator>lavagnino</dc:creator>
  <dc:description/>
  <dc:language>en-US</dc:language>
  <cp:lastModifiedBy>Capurro</cp:lastModifiedBy>
  <dcterms:modified xsi:type="dcterms:W3CDTF">2013-07-08T07:04:42Z</dcterms:modified>
  <cp:revision>143</cp:revision>
  <dc:subject/>
  <dc:title>Presentazione standard di PowerPoint</dc:title>
</cp:coreProperties>
</file>