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6E65-F8B9-48C0-984E-9E29D3F85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83B7-11CE-4868-B235-A1299420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1114F5-F3A4-46A7-9858-862DB6D0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DB242F-B4F2-4F06-BFC2-D99B4B83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BAC60C-11C2-4562-AB89-F4433EA7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E9E705-5D81-4B24-8D41-A616FAFB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3C98E-5B08-4E15-9E44-ACEB7B64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063A7D-243B-49E9-ACE9-7E67BF70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8085E7-9A4A-4514-A9F0-7AD3F16B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44C4ED-FF60-48D7-9436-AFFD945D0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EEE968-1861-4357-A75B-4B2556980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E096EB-26A2-417B-8D30-19C050BA7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1E9C-9770-46EA-B298-B05B107EB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772712-BE2E-4EBE-B052-50D11913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52E397-6306-43C1-B65E-19133845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1AECCD-2AC6-4B34-B796-7A3A74D7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AADF9F-5181-4A63-8F60-CE3B96001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CDA431-7760-41B1-918F-D8F1C743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42CD15-E150-4DB2-AEC6-5653B1EE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9B071E-D4FF-4B26-BC83-66EBC267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6026E4-A2C7-4797-ADEF-24F12F26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D0A76A-9083-4382-8982-F206AABA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E2B965-7403-41B5-AB33-33FBF4561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F247-7D30-4A7F-BC1A-BB8160383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932ADD-3A37-45AC-9F12-E963B719E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C383D-FD8B-4B5A-9690-844A77B3D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90E488-ECFB-4F9E-9047-7118011B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C0343-3073-4089-A293-A7ECF20A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F0E02F-F0A5-46AF-914B-3C351C9C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1F49A4-BD79-473E-80D4-1B749965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A20744-C3B9-416E-AF75-18E2F94D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AA71D-672E-4F0B-A796-984FCE03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84ED4-A6EC-4CD1-AF2B-BA4F1B28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742A2B-A050-4EFD-A716-F8295016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C5913-6D99-45F0-B23D-5349BFDC7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BA4EF4-1D8D-481B-9113-F5EEEDEA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01C627-555A-4C04-B610-1C5074BF5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A6E81-8E2B-412A-B85F-15F438CFE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7443B0-5BD6-495B-AC6C-5D6DE9879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428023-3191-4B42-8FA7-6F73588D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809C05-93E0-4B3B-B48D-C3E81219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4AC39B-96D5-4681-9E36-9D84421A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36A3AB-9F03-4180-AC77-C56F6E84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F6AF6E-BA9B-49AB-ACF0-0364C320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6744AA-E79E-4F8A-BBB2-354CC8A0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B4E7-80D9-4347-BB0D-89661D6C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617264-3799-4F7F-8968-E0E5DC99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EBA18D-6BF1-4A25-A256-A338F42C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BEBD6E-88F4-44D8-A72B-63FA006B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FB246F-DB5B-4A11-9DE0-D4359FEB4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93A128-D203-4563-9E4B-62B5286A5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13EE20-C7AD-43D9-96E1-934B923E6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397765-8077-4C32-B0C4-26B3D1FE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D4707D-2CB1-481C-84CE-847848E2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E1E225-58D8-4F87-B340-51D11F0B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A554A5-7436-4F94-A12D-995F7429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0659-2414-417A-906A-7459817A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924314-3428-465F-B472-F815189D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2647F0-8A4A-499E-8B7B-1CB2FE58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C925A6-0B0A-49DA-98C6-71C01164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48ED0D-603E-4D23-A752-02479C75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0D6990-A3E2-443E-81BE-092D29C7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EE11A0-5AE1-41BA-B5F6-D9D2BAAAE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147958-7C54-48B4-A9D6-258FEFC4E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460097-3C77-454A-B9BC-AF3E2B96E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981E8E-2B56-4E32-9984-ACDF6B40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95BE25-350E-4FFD-9267-6092D557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B5011-69FB-41FA-B4E3-82F31B51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99699C-B0D4-43AF-9958-3F62115B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8FEC1F-0C16-4440-95EE-2DF3CC5D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D93DB1-9302-4A8B-9EF5-2FFA8B7E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D98963-E54E-4730-95CE-0DFC9E86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82149C-B4B1-49C2-AFD7-B6DDB3D0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6D89F5-C919-4C6C-87AB-801C5389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EF327E-9E00-46C2-A8A0-E49AE93B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06CE47-0159-43B4-A5E6-0CBB098E2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08369F-3565-4AEF-98D6-4DC1947F0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2F30E0-8D2E-4C28-8E9C-B2A9DC6C9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5931-9E99-4BFF-B5DA-81FD910B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56FABB-88E4-4A50-851C-5409531C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24B716-3530-4087-A4B0-9CC95678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BC6645-DF78-4D8B-A53E-30DA8B79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BE1198-0594-45FE-8776-DD369174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E6A5BB-D0EA-4052-8BC9-DAE46B8E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302512-CC38-4513-AA61-CCD0B5CC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F1681D-1371-498B-9BF5-66FF3861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30013E-0B3C-4E32-9CF2-2CE3D780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4F9E57-EBED-4C6C-A955-E83C3C00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F9A105-BBE3-4C86-B2E9-6284BC138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A677-6E06-4166-9869-E9373C7C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020563-13D7-42ED-B3B9-1B034BEB2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3386C4-1DC0-42C8-945F-B7BB44C29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FAFD2A-4CED-4041-A370-1E19529E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A7BC34-DF4C-4A0D-9269-7D570DA0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125868-07D7-4783-813A-F14790E7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E2BD7C-AE71-48CE-80F7-27EE19E9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8D9987-2924-469B-B2D2-E1BD311B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037E5C-D92F-460B-A13A-DD068768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674EE7-6A39-494B-8115-F3F965CE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F77D73-2075-4657-8F42-1EF5D7E2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1781-0157-4B24-8DCB-69B49825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F6A114-AE27-4065-8BD7-08644A1B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9EA54A-FB34-4BE4-9602-611368A0A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B9968B-6747-483D-AA04-72143B78E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F0ECD8-F81C-42FB-AE76-02128EEF2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AE8C4D-2624-4E6F-AA6E-0967E681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265DAC-053A-4587-9026-528F13EE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52DF97-1D54-415C-8BE4-19D43166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F221F7-E629-4B00-988B-3A50045F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B20538-7C7B-43FC-B1F2-C8006BE6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2F6E0B-1F4F-4601-9A0F-52AFE4C5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3FA9-37BB-47B7-8633-1B7ABC4C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1654-2575-47F4-B53A-17433A51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E40026-E6F0-495F-BB84-7399B008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8E0092-1497-45AD-9976-2EE753F0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3A174B-A42C-4BF0-A664-E8A126E0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226E07-43EC-4D48-B94A-3F2639323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9E2055-F81D-4D94-9677-E34FD4BB5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19E7EC-225D-4F50-BAFF-A57343E77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75AB17-FF92-4718-A383-690FABEA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0404CE-8179-4C06-BCEC-3C376C37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1030AD-AC3E-4702-A634-24DFAA8B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6F7A4E-1A4B-4685-A205-5F3B07A4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6E01-92EC-4BB8-8061-FF77B255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67A671-FC21-438F-B739-3151BF55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94F0AF-3CE6-4872-81E1-9D4745CB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7FA82F-53EF-4E42-8CA0-EAE25B8A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605C67-75A0-4F2A-9ABF-36724A91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C42044-0644-4327-BBF3-D23C7CCD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B4A519-A39F-4E2B-966C-F40447B68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3225DF-0B87-4730-8E2B-7DFFDC28F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7C1749-098C-4A2F-AD0C-39C30989C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2D6CAC-4986-4931-851A-4537E395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758412-B037-4EF0-9083-43AC8DDA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5EBF-331E-44F7-A41E-08D088DA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0A576D-8A93-4603-ACC5-D6A6DC5E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770A73-7487-4726-8ACE-20E7739C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4347B3-78EF-4377-8EEE-855A69D2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24E368-A706-4FE6-A199-813871D5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25E93D-D07E-4267-9180-E0B530C4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CAC397-CE43-4805-A8DD-BA810126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D22795-C54C-448E-A8F5-AE6CC6C93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00D7B9-A191-4538-AB5D-048E82FDE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AC1CB5-6E04-48AC-96BB-36108A5DE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2F2CEB-98B8-44D7-88B5-A95505010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120F-6673-4508-BFDA-C07924AB1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74E556-E511-48A3-AC10-6877073D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328126-6903-43F5-9279-9E7CFD79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C502C1-E321-4F3A-B639-C02F5C62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8E2518-9449-4E6C-819D-5F64FE79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98A024-6375-4EDD-AC1E-B410D6C3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02BA87-FD98-4343-80BC-EF1F3962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C1ADFB-48A8-42F7-AD46-436E895C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1A4B10-05E1-4B7D-945A-3235E8F1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3E2009-E2E7-4BE4-9CC6-E0D93DC6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2381C6-A544-495C-878A-B575F541F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F0276-4371-4B62-9EE5-6843A789D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CBEBC9-A97E-4F4F-8BB1-B61201B53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7BA1D9-F04D-487D-BDE9-1DAF054FD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1B1C84-3CDA-442D-93DD-31CFE471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FB4149-CFF6-47FD-BF10-59700BF8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5E07A0-489D-47FE-AD2B-ADB8E55D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741CD2-352F-481D-8C3A-7D82332F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F1874A-7469-4E4B-B69C-CC5A9B34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87F503-0B49-408C-9D23-433C115A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B8A7F4-001D-4067-8736-2EC3424A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A4CD4E-62B2-43E1-A8F9-7A3C4A6A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F153B-2C3E-4413-9433-1358AEDD3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5CE04E-E1DD-4BB3-813C-D1DD1A0A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B09F35-A9D2-4CFE-B88B-727CBF4EE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7D0343-B657-40F4-BD72-26B7B956A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944DE5-F791-4FB7-A362-E98D2D0B1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1F19AA-53B4-45FC-A9DD-951AEC8E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6E78A5-A696-4B9D-907B-BE7E6A2D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B1C3B8-ADFB-4181-9778-68D0ED50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1CFD80-BE9C-47CE-94BC-5A22CC64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8AE8AD-E292-44A7-B551-AFB483B6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E7ECB9-D27C-4673-A14A-FD5B333B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7C501-42B8-47A1-ACC7-FE7B5F0E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468C14-26AF-427A-A91C-06EA2D1E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70CC47-D96A-418C-AA8C-FA2F5B77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15FDDD-6689-40CC-BB61-EABA5F3A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E3605A-E16F-4496-A9D1-31BA824DE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7AE127-3C9B-401E-81FF-242C5B146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813B01-C4C7-4E49-A91B-D4E722300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15D11B-E0BD-45CD-A976-8063B08F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37AEC6-CFED-43A8-939E-9A37E8FD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D8A607-D67D-4364-998C-035157DF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0E179F-2FF4-4222-BC54-8C436DE6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83CFA-20C6-468D-A456-A8B20943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ECC814-088B-4BD9-963F-D07A383F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F9C4E0-1C71-44F9-BFE1-D2A01860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A1E2AB-8EAB-4573-8222-C083784C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254327-AD95-4C11-931D-00599981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00AFAE-250D-4FED-B5AC-8F79D1AF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690DC3-2B43-42DF-8DF8-9E51C259B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E65A8F-527C-4CE7-B4BA-5FD1BF84F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DB0A45-957C-479F-B18E-CCB6AE446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E1F6E5-D578-47C7-9067-B9FFF47B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94258F-1FEE-4D00-8C4A-9046C017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A8113-ABA9-49F2-B9A4-16840B22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08898A1-2205-42A2-B9E1-C563DE79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2389CD-CABC-4999-9130-930232E8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58E696-BF2D-48D6-B9EF-39A09C31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5501A38-86A1-48DF-9E34-9EBC1EF3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6F56EB-ACE6-4F70-BB9F-4E3FFBD6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926FC1-0C65-4623-BBD4-8435CAAB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5DE30D-9457-49A6-9FAD-DCFE4D36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FF5C7E0-AA91-4ACC-B7FA-231D4C785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FC9DA4-598D-4ACE-A9A9-4E368D445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49829-DDEB-499B-A24D-9372A3D8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9454-3791-46A5-88CA-2694D2EA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1360F-AD16-4A55-A319-F19457B3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B90FD-8F4E-4D30-80C2-90569273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645DE-E250-49E5-9550-7EC62987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E0E3F-F4AD-4CE6-947E-A065D08C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4ABE1-D411-48D8-9728-131A1998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B4195-C54D-4886-9970-DAC72C430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24A56-44B5-44EA-802B-E0D29DA1C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230C0-9642-444C-8AC1-ABEC9DA44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C775B-8445-427C-8390-19AB318A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1219D-C0F4-4319-A3D0-D09AD251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C69B-709B-4F14-BE60-A66FD47F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4287D-82FB-46C4-A136-778666E2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8F3EC-39DE-4EEA-9CAF-87EBAC1F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7419C-8A7E-48B9-BF96-B791DE12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A8A23-95D1-4BFE-9F48-499E5451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CE1E8-F1B5-49F6-9129-01C5CB03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4CEE3-40E7-4CC5-8FC4-DAD3E6DE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B41C6-D664-4F75-A5C4-E871C3FB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1CD54-846E-47B2-849F-D01BC356E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AF417-C5E1-4592-91F6-4F71498C8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24651-5E65-4B3E-A7BE-55F8E2B58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235D-8B6F-4D99-A2A0-6D4DC276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12CF2-9721-486E-8598-1E5B2FFE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B9730-4EE0-4517-952C-B5C1C925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45551-CA8B-453F-B414-224785EF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77201-E8DD-45C7-95E4-1D09C7BB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DB653-202D-4A12-8E7B-D1C0520F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2A1C2-D7F7-43E5-BA0C-B49A4B89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A162C-5E87-4BF0-A50C-D0F55337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C19FB-D0D6-4BCC-A7B5-12201BE1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4FA1B-1FA0-4570-B9E0-9DB845A4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9DED7-40AA-4123-9B2B-A4C5F1191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DBAC-010E-4734-9FFC-F1B253D3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29904-C4C4-4FAD-8F36-0A2F7B2EB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1CB33-3583-433C-A0FE-674BC9458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F1BD8-1E8E-4D9F-AF87-02E3B929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DBD9A-4F5E-46BC-B52B-EB4985FB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E340F-E23D-4ED8-BD43-EF0EB5AD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D372B-CA23-4EE3-AF6A-1A30D430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9B02E-F10A-48F6-B539-F59A005D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3EE95-23E7-445E-A1F1-82FD8E18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F1C7D-F9D0-4F4A-82DC-253714CA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DDB6A-2ACF-4622-8B40-59C7559E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BD3E-A046-4B19-A09D-64CE200E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7A5F3-B1CE-4161-B729-C185CB22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024AC-94C1-44AB-A53E-1F191461C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0B38E-F672-4000-BB59-1519A6237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DF7AD-CF3D-4273-970F-3886FD464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1E33F-596F-4AAB-9876-C299836C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389CE-D42F-4D35-9F77-6B6CD505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F0369-3275-4A22-9B6A-4ED68557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AB733-39AD-4BA7-B37B-A66CBB55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3AEB1-E909-4A8E-83D7-170AD0C7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A5817-4083-4F08-B396-618C235D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DDA4-7633-4F91-91EE-41981393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EBEC1-2520-4E67-AACA-8B7DD76F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34D33-145F-42F3-8510-755A3AE8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435FE-FB8D-4616-A1E3-B08DD703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053E1-758D-44C4-ADB3-5BAC3349D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FD4A4-1800-4B7D-A71F-C960EB3EB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63696-2714-4D46-A0C5-E6E45F618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05397-1865-4061-9387-1916F791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8414E-19E4-4DB6-880B-30A9B924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7DEAE-7BA1-463E-AE08-9839E0A0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2E8EC-48A5-49EB-9526-6A56E920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14F8-38AF-413F-9A15-BFD2953A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ADE87-D4AF-437C-93CF-6F1D22DD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BA86D-8E81-43D5-AB4C-23217374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2A704-79B7-458A-BDCF-5DEA8802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F7E61-7828-46A1-9531-A71D5B29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6200D-8C29-4706-8FB4-051F9266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43058-6D9A-4A23-A4B8-E3FE0FFCE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086EC-FAE4-4DDC-838F-5315BA0D4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6F3AFF-A9A0-40D8-AD32-7BD3D642A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406AA2-787D-4712-8769-5619766D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F15995-3FA4-4E30-AB21-C5806C6D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2163-2EA4-4781-8D95-C8B0FBFC14F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6156-2D62-45EE-8A9E-9BFD973A50A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9976-66FA-443F-AF58-8B42EE03F22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4D9F-A020-422C-8AB4-230AE1CCDDE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AF4B-5B58-4874-A034-5EA45AB2F92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AC44-D0BE-46B4-ACD3-CEAF70A8C2A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4D79-6E75-45A3-8AD3-C381E37B905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66DD-BC43-43CD-91D4-B2375691F65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4CA1-DEA5-4106-9358-C0C7BC3F374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901C-01B4-492D-ACE7-3F87C87FF32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41A3-2622-422C-972B-76E90F7B29B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E188-5A93-4B41-A29B-682CCA93C1A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42E5-2B38-4128-83E1-6F4A80B1E27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1543-A5AA-4DAB-930C-FC94074F232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AC9C-9F80-4CF8-809D-45F532AFF35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9AF1-9CA8-4B91-B5F9-014828D2240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5B46-82B1-4CCB-9EA7-1E0BEEE1012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2B03-67EC-426C-8809-63E34BA5FC7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D4E6-68F5-4B25-BD00-D14B0C54A76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41B4-B7EE-4830-8247-2A5AF14B966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0070-C945-44CA-9998-C4A8A96EC6E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938A-436C-44AC-A28A-EB9350BDC20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108A-495C-4E31-A0E9-6B77AA8E219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AA91-F44B-41D8-B40F-C2AB45A0F83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1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e b) “informazione”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GETTI DI INFORMAZION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che devono prevedere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incontri inform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endono una serie di riunioni collegiali, di durata non superiore a 2 ore, aperte a gruppi omogenei di partecipanti, in numero non superiore a 10, rappresentativi di specifici settori produttiv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seminari e convegni divulg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iziative informative di approfondimento per un minimo di 11 destinatari e una durata di almeno 3 h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’ ammessa l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e/o la distribuzione di apposito materiale informativo (facoltativ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i finanziabi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O BANDO  (apert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ggiornamento sulle politiche comunitarie agricole, forestali e ambien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roduzione e trasferimento di innovazioni produzioni con particolare riferimento biologiche e ecocompatibili e gestione risorse (risparmio idrico ed energetico e uso di fonti alternative, protezione suolo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portell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 solo progetto per prestatore di servizi (indipendentemente dalla tematic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fine progetto: 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3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ccia in giù 4"/>
          <p:cNvSpPr/>
          <p:nvPr/>
        </p:nvSpPr>
        <p:spPr>
          <a:xfrm>
            <a:off x="3929040" y="3286080"/>
            <a:ext cx="64296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O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esentazione delle domande dal giorno successivo la pubblicazione sul BURL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condizionalità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sicurezza del lavoro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 (euro 4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stemi di qualità e di rintracciabilità (euro 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ogetto per tematica (per Prestator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– graduatorie disti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l progetto deve svolgersi in un arco temporale non superiore 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mesi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ntro il</a:t>
            </a:r>
            <a:r>
              <a:rPr b="0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31/12/2014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7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ccia in giù 4"/>
          <p:cNvSpPr/>
          <p:nvPr/>
        </p:nvSpPr>
        <p:spPr>
          <a:xfrm>
            <a:off x="4000680" y="3786120"/>
            <a:ext cx="6426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progettu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per ciascuna azione informativa) ovvero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nco dei destinatari nel caso di invio informatico delle newsletter e dei bollettini (previsto nel 2° band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 del progetto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4.000 per singola provinci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15.000 per progetto regiona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al Settore Ispettorato Agrario regionale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ngola iniziativa informativa (preavviso di 7 gior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 il 1°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disporre un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ort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riassuntivo contenente i fabbisogni e i risultati attesi (settoriali, territoriali, filiera, etc.) dalla nuova programmazione di sviluppo rurale 2014 – 2020. (da inviare al Settore Politiche Agricole entro i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)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3:44:54Z</dcterms:modified>
  <cp:revision>146</cp:revision>
  <dc:subject/>
  <dc:title>Presentazione standard di PowerPoint</dc:title>
</cp:coreProperties>
</file>