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  <p:sldId id="25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3DAAD-FCD2-425A-A8C0-4027527F1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7A422-0E5E-4288-86FC-AB4A3F0C7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E98B89-5F3B-4DE5-B9D6-F9839149A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CC01E8-C4B5-4A69-B1AC-22A01CA77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DD904E-58F5-46A4-9783-55B402FBE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BA3182-8B9F-47E9-B6A9-B6DD0E1DE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F2A9B4-DEE2-456C-B79E-548BD4F39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9873E1-00AB-405F-B9F4-EC4A14345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947BAB-E563-44F2-8980-8A99749DA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777223-BE38-4B7D-866E-F00276A41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0C4018-1D16-4570-9E83-07402B45B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CA4575-61C2-4865-82D9-FD96A0FCB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94723-9DB0-4440-9349-26FC3FCA1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940164-1E08-48CB-B4A5-BDFCCE188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AD9259-629E-4D34-B9CC-608DF9339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779CFA-6298-42D1-A1CC-3DFA09C12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22C71B-C332-40EA-B58E-73E1A0EA0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61060F-884C-4500-9DE7-3DBF1F10A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0D2B88-DBAA-4419-89F5-3BB9FB572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B64550-D72A-40D6-8EDC-0F7A8A291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3D48EF-E6F5-432B-B947-775B1451D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39171C-457C-4EB5-B7A7-B54F288CA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514072-E65E-4A89-A962-4A9980BC0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082C5-F6B8-43E0-97CF-870240D88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F6FCD6-0297-4BB0-930D-1C0BFBA74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63C153-D85B-4202-91FA-FCD03FE54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EBA00D-180C-426B-9A36-14B0D6A85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D423E9-0D40-416E-A385-662109E90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8D662A-71A9-4E02-A65D-964D37FFE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CF10B3-F834-41FA-BA2E-49D2BECF9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ECFD1F-F6E6-4D9E-916F-4F9FF2611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EF27B8-567D-440B-8177-33B8DA591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6DB1BC-6679-4661-A940-FC7091D4A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647F9E-A8E2-4458-B1EC-376A73813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16B38-246C-47B9-AD59-2CD0DE605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ADE4F4-C51D-4B45-9FDD-87957AB01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ADBCC1-B438-4011-A2E6-CB66B84CB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18164F-3CFD-4C90-9BC0-C1408EF59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280222-0C7B-488B-B4C2-A61FEDE59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3B93D6-5651-4206-B7F6-BC73407B0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4B392F-24D6-4847-83C4-6ABCF1971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605E50-0E6C-491C-A00B-82D67ED55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8E2B33-941D-4D52-9A55-4F74AF9F5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812584-634B-4474-9341-C5E013891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4BB580-006C-45E4-9896-142EBC133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27FC0-606B-4F97-9154-98541403B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B11CC8-E3E1-45AE-9B03-2A58BA8FB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3A25AF-4A3C-43B8-B532-E96D0E263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F9A541-E2DA-47C7-AF55-657DE292E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D31154-7DF6-4FDC-89FF-B8B44C43F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7F94E4-246A-4537-9B15-1227FD40A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A0758C9-F561-4958-BB98-AD7E6170A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9902BCB-695B-458F-B5EA-04131FB11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4185524-5592-4833-90D0-BCEE47C27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BB93587-8001-4863-AB62-E05D19E8D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FAD7D24-C4F2-4A0C-8C38-ADD9FF67F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49E0B-DD0B-49D5-B061-3B4CE458A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1D790C4-9ACA-4E49-8765-228170074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6917D9D-6D32-45E5-9D30-B470C3140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394A8AF-5E65-4F8A-8BD5-607B35602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6959B05-3491-446A-8568-8EE692B31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C3425F5-1221-46C4-9669-3C9538C93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DB2380F-62A3-468F-901A-43FFF092C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A4ACE98-0232-4AD7-BE68-4D2013576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7191F7E-96B7-424A-AD56-34B937152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062CC42-0E66-48D3-A74E-BABA7230D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7830937-C1FD-4FF9-A7E4-F43EF86DD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EB4E2-FD50-4755-997F-0D71E2AC1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3C5EACF-324B-42AE-9F83-6D9BEFB7E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4911134-F32E-4C36-A1C3-AD9642D15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6A2BE0A-A3F7-44DD-BFB2-D79F98BF2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B39D9C5-039D-49EB-A9FC-A2E68F197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F92E80F-FA9B-4A77-9DC1-A8F096D1A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14AA9FC-A4A1-4382-848F-6D17FB9AF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F0FC2D5-BF89-471A-8E5A-3675998B6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A8B1C05-A961-45D1-BD76-A4E448CED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5B3AA47-D02D-4AFE-A431-46033AE59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89F3B69-12D0-4A80-913B-1345E7AB7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A7417-5917-4D4C-B898-A7F49F5B3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E2D3B55-9301-42BD-88E9-668C955D0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D85C2B4-9EE4-4455-80CE-7455C2362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C29CFAE-FBD0-42B9-9C25-D05743419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3045E16-D487-4C5C-84B7-1DC1F4C83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7824669-ADC4-4E1D-92D7-2203538D6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74F3EFB-B31C-4EC5-BEBA-331611371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CC04EC6-9AC9-4D5A-99EA-037F8D9DD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3DF912D-54D2-44E8-B83F-525FAA381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6FE758C-4F53-4A44-BA9A-B1D4668F8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F34653B-5451-4B6A-8C9A-243CD2260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8942A-A96C-4A44-B16D-61B846EF2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2225513-55ED-4AB2-B9F3-C85B9E36F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965C164-C88F-467C-905B-AB62292AB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2A8AED0-858E-4EFC-AFC9-9BCAB86EC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A6B8C94-59D2-4710-B8D3-649C3863B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DED962B-A347-4ADA-8C2B-6D847FB3B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A01869F-78A3-4002-8249-474B84BB9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A08C4C9-A0FB-4EFC-8563-89AC9B82A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E745929-F63B-4EAA-8DB1-09BAC38C2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758BDF5-A10C-4C4D-9880-8972BA1C4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7624517-2805-4536-87AC-B30E7920B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EDB39-2826-41A9-BADE-3FADD1617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122B2C4-EBC0-4DF4-AE38-0FAFC530A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03B94AA-15BB-4F2E-B41A-67856FE20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31CBF4A-DE3C-4E0D-9A1D-081FEA555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2CDC586-3F1B-4D4A-B4EA-9EB257A0F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7417263-4D84-4298-A98A-1A7C2931C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0122919-FA10-455D-AF3E-30040D30A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6E8120A-1315-4957-AFCC-C7CBABF14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C000A7F-A395-4536-8D45-5148715ED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BDD472E-BDCB-470A-B362-3793105D9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A7385EB-529E-434F-9D88-EA9429DDA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721E4-D066-4B8A-A53C-1F2C89978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6201A-E676-4B5E-8698-2B714C50C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E5072A2-D72C-488C-AF05-11CBA215F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AFDEEF0-0572-49C5-8B1A-C1E4F3462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B61F3F8-0A0C-4258-8417-938B6A55A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A8DA0EE-A31F-4049-A826-085E86AD7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2EDE4DF-3599-446B-89A7-2B9EEFE22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ED184F8-3009-4F18-BB46-DB2C0B9C4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471722C-8E94-47A8-BFE2-EE04A5DF0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F6736F2-BC4A-41ED-B9EF-FDB5987B8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F837574-4514-4C11-BE70-7D60DCC0F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25E2B98-C17C-4CDA-B01A-0A29163FA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7946C-C523-40AC-914A-2ED0E8B6B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3B79880-82D9-42AE-957F-18AEA54B6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3D85612-82DF-4EAA-A83A-31609A121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B42F771-61D5-43C5-B4F9-CB783A191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3384384-3A29-4A15-BC7A-9D0399A33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07A8B08-99D8-4FCF-BA9B-6913789EC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085170C-95E9-4F7D-8C17-74FAFC1C4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9E8EE9B-7B4D-4B54-82A6-9C60E965B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99441A1-8E09-4CCE-8D3B-5D1C74C9D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761FA04-3EB4-4D05-BFEE-2E78B0C81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F5974E6-6810-4F13-B16F-4E8653976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F4B75-3380-4F4A-B159-1B820E099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6B80E63-6682-4C4E-A015-4F9F695BD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07F5BF1-6587-47C9-8190-F7A1B1790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5CFF1D7-5D82-477C-B578-6691BED79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65C0AE7-CE3D-4C85-B765-71614085D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B17B6F6-E913-4938-90B6-2D8317582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154E990-3279-4FEB-813B-48800C581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015D6F8-4D9C-4E73-9C51-791C8E377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7626BED-4AA8-47BF-B968-60CBB3F76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8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3989460-F364-41FB-988E-499E6EFD1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7DBA598-C63A-469A-9092-06F2E02D9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CCF53-52EB-4E40-81FF-AD39C2250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4268504-9466-4666-B52A-18A58A21F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9F1AB31-36C7-462F-B6BD-9CA26E1D9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0947F0F-B58B-4AF4-8817-BE1BB582B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F032CF3-113E-4F92-89E4-110077559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D7BBDE7-392A-42EF-8067-D5116A694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1EF44B7-B5D5-4F81-8654-DD0E53C8A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E6BFA44-4E00-40CC-A3FF-107F4E742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D20529A-8E47-44A2-851B-857FA4D24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D102FEE-1AE4-499F-B2F2-D91AFBBF0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6582B1C-CA56-4AC0-B595-E4A29DE17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8E451-2CFE-4E44-9E04-2F520398B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0BC0E25-62AF-47F1-B23B-0117E5258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0859138-B03F-4759-9576-2D06C050C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C1CD0C1-E064-4A74-935F-4C5BF3CEE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9272AB7-6CCC-4EC9-AA13-F83B5E833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C981492-7F70-416F-9026-8D633C347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CB50E38-9C29-4B9C-9A79-DD4EBCC15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1EBADD4-E941-470E-9606-8869D51D5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507C8E7-0DB3-4F09-87FB-5C2A90235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0D75FAE-7322-44E8-880F-9EBEA3CD6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6801F17-C783-4B11-B678-78DADD283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9BA427-B1E0-498C-B31A-FD9DC42D5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AD3DC24-3AA3-4258-9E63-E203900BD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E4C83A0-A2B4-4D10-8F1B-C4D3DD55B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1D70EAC-B862-4007-AB57-9B3D39F46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41D0817-EDFC-4A9B-8F26-5F2F756E7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7F36CFF-0260-4BFB-87EF-C9DAF0A1A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F37D666-B7D4-49AA-A96D-520B1C26B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B41635A-6030-447E-962F-40EA1C160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634B269-FEEF-494A-88C9-F97142F23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3538141-FA60-4F68-9DF7-675FF82D7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9268A7A-1F40-4B75-BD77-DC9825802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A5BB43-24DC-4BB6-9D76-58C650EFC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5A771C5-0B3F-4ECA-AEFE-4C1DE6136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8B88E71-5A7C-4758-8622-37E6E09F7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586BE8A-DB89-4B67-936B-0793C359B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8AAA2D8-B9B4-4BA7-B1E6-CD3F23C25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E9FD31D-02EA-472F-A2D7-7CB119375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2B59A85-D223-4DC0-8DBF-13D7D27A4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EC773DA-343E-44A3-958A-5A1E55A4C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4F6D747-0A95-4631-AF28-FD4D8A572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6BBBADF-F463-40EC-B7F7-0DBA40A67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EDCA9B7-642B-450B-9967-8FD72B62A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11F22A-B9E3-4BE6-9A0A-7347C6E59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EB48A4D-BD1A-44D4-9D20-09E1E2B85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B05A087-3638-4967-AF47-1862FE305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FB5E227-6433-4481-8B56-958B6D92E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C3CF5A5-8002-4828-AEA8-CD371CA3E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993CE76-EAB3-4468-A716-7AAE61D0C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1979208-5C21-49A3-B079-756233B95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388FC09-BACD-4AD2-BC0D-D7D6DB0F4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3DD7AEE-4A21-4E41-A9E4-77363F60E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8385FB4-62D4-4DFB-A124-B763ED688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3C9E7AA-DAFA-4287-9D03-89EC687DD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4873D2-4A27-42D3-8CC3-33900A0B1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F710CFE-D763-4A17-A31B-B6962E77F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CACA088-4E7D-4D5B-A113-2C0DF8CBE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C3B2961-0D6C-4873-A8EA-468E2464E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9DDB491-CB0E-4C28-94EC-3BF5B220B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32BB6DB-D71C-4F25-848F-D7AABA8FE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E296049-3F5F-4C86-B042-F70196A2A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18F46C7-B8C0-4530-A74F-EDC79298D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2DF9C9E-854B-4E06-B0BB-6F5A3D1FF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E2B6D24-C6F2-46FF-A0F7-08CF21380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5FDB61-3985-428A-9BC6-88D753D6D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392D7-DE05-44A0-B40B-316B86AD7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B8219E-2073-4C9F-969B-9073D82D6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DBFC00-376D-49F5-BECA-3F6C1276B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26D603-F763-4B57-9F8D-760E13F57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74D0C8-AEA0-4951-BEBC-618A493F9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653AC2-0AD8-434B-8067-7B1C157CE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6AAFB6-2DD2-4906-B92F-104F9B0B8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901639-2FA5-4BF3-9587-6FC8AEC32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188AB0-01E6-42D3-9266-EE4BAB8C3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2CA8BB-F1B9-4108-9287-7EBCA87BF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332904-F1B5-4F72-A3F4-2490ACBE8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5BAC2-F646-43CA-BFB3-497428C07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B3A453-892D-47B2-B8AD-039A70680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48F790-1D70-430F-9CDD-B717A9841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46FB2D-D6C3-4FE3-BA86-6406558FC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BF711D-E551-4CAB-BD38-EDD74481B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A5316A-163D-4971-8639-00F992F56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799DB1-DE67-42C7-8A73-B22210CF7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08FBA3-BB2B-4C17-941A-8E673C702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5922AC-7B62-4C48-A34F-1014ECAA8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45EE2B-1A63-4534-9E8B-5FFF253F8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FEC2C3-EAED-41B7-AAE6-21D41C954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DA2CF-8396-4B61-ABE6-41807A53F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467B8E-7CF1-43F6-8911-2FD652AE5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C2BE7C-3969-4DC9-8E89-39AF767ED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AA707E-7B41-4479-8938-3B57F8B59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EB4D18-A48E-4EB7-B253-D9241FA35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A88509-48D6-4BEF-B270-BE64C85B2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B45630-6A3F-46E2-8891-54A64D036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F4D016-2323-4E82-941E-8ED8B3F5F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287C80-9679-4A6D-9E52-5F84AF4BC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06D190-FC76-44AB-8091-C8D01A975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C1E937-92D8-413F-9AC4-96B16D649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A4FBE-466C-4116-8D67-4C3B94068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B62A04-BB68-48CA-BE85-475AC84AE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4CC3C6-44A3-41B0-978E-B57C52276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FF8B25-A2F0-4DA8-8A77-902D9A756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9A119D-B869-4CA6-AA98-81EF2C3E5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C8ECF1-B01A-45EC-959F-ECD0F097B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843D8E-9BFC-4D3C-886B-33B2ABC12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D9F027-E281-48DC-A903-5B031E189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0EDEB7-0210-4D48-89A3-F01084118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27A9EC-96DC-43B1-B674-2F8A863F8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A5BE26-4117-49E6-93C1-755AAFEF4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C1E1B-DCDD-4E42-9097-E095902F2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B23BEE-8E0F-4E6F-AEB1-A2614AE3B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A83FA4-A683-4D4E-84AB-FA1A4E9DA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0AE3FB-FCFD-45B2-AE8E-D8D3A489A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1F2B95-7E98-4427-BE20-C57B0ABEA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48A558-8DE0-4FFA-A8D6-B5565E778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119438-A717-4A3A-8445-1ABE9AA53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929497-EBFA-45D5-A48B-F35DB54FE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D6090F-DEB5-4162-B4CA-946878C5B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87A048-8B3E-479B-9F21-3AD630277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32A4FD-232C-448D-8E23-A18FF04B9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22367-3D55-4B6A-B266-AA78FF86C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F83B38-2DC2-4B5B-A945-180F3A243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767B69-1DDC-422E-A3D8-40FE9F76D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8F0306-D8BD-49AE-B91B-3C70289B4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974956-CEAC-44D8-AE3C-4111EFA2B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377E9E-D3C4-4AE5-B59C-A27DF1A5E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516ADB-F7FA-40D2-80D4-B2FD9AE95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FABDEC-AB9C-49CE-865E-31E86E90F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A91E23-FCDE-4ADB-A51A-452A4DB8C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86EABA-8034-4F3D-911C-C9E9D60D5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AAC88B-0F4C-46DA-9631-D14CD0981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8524F-7875-4281-BA31-927FA044C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99F8C4-14FC-435A-AA82-9C21D6925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B4D820-6FCA-489A-A297-9C777FE94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61E382-157B-447C-9FDF-015D26DD1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5FB2CC-A59F-48D8-B7CA-E9FCD2396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EDE153-0BA1-4670-87CD-BF2C4030F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F1FFF3-33F0-48EC-8D76-D46297484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543ECF-E850-46AD-9DC8-B86EC2291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6E3F2C-1605-4EDE-A602-9843635A9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276459-A966-4DB9-A60B-72E9B454A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0D7BB2-F5AC-437B-86DD-1305FE2D0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28737-09F3-4E46-94E2-EC4BC5E19F54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95D06-3786-469E-839B-4979F9FACB95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266CB-2E70-4BAE-9683-7CACD8E71C1C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A35D7-4941-42CE-9237-0C18F50CE262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0C47E-4740-4E2E-B6C5-78A4EB6AA659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19A6C-3F8B-47B9-B452-9489F2396258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36CE1-6BE3-4B51-A646-094BCC35A72A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4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9532B-CF09-4CCA-988F-A72B8308DA83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5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3187E-62C9-4D81-A281-3F8F9E07477A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dt" idx="5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ftr" idx="5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8A039-C820-4B38-B580-36D38CA9B081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 type="dt" idx="5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 type="ftr" idx="5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0A840-6D6D-4FF5-8CEF-55C894BDE74F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4405C-7E7E-4C02-B9CA-F2DF90F33DA8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 type="dt" idx="5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 type="ftr" idx="5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47A91-0055-4327-A0F8-D365A057B08D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 type="dt" idx="6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 type="ftr" idx="6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157E5-B329-4A2A-8466-71B3629B8A43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 type="dt" idx="6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 type="ftr" idx="6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 type="sldNum" idx="6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4736D-6B85-4D95-901A-7F346AB23028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 type="dt" idx="6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 type="ftr" idx="6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 type="sldNum" idx="6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138D0-1B62-47DC-A9DD-1CCD5A0295A5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 type="dt" idx="7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 type="ftr" idx="7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 type="sldNum" idx="7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AFFF1-C1EE-4085-ABB3-960470BCC962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6220D-650B-4ADC-AD16-38E5AA908E6E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399E0-2383-4061-B7FC-690135EB0150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1A174-BD0C-47C5-BFA0-CA8C6D2281B0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4681A-C93D-4AFD-8A15-8ED5D4B69F4D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66635-60B3-4EC5-97AF-6FF74DE9D71F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15A40-8534-462B-9EC9-D8C71EAA952A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6F11B-B017-44D0-8963-29FF2B88F40C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Rectangle 3"/>
          <p:cNvSpPr/>
          <p:nvPr/>
        </p:nvSpPr>
        <p:spPr>
          <a:xfrm>
            <a:off x="0" y="1066680"/>
            <a:ext cx="9144000" cy="20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 baseline="12000">
                <a:solidFill>
                  <a:srgbClr val="669900"/>
                </a:solidFill>
                <a:latin typeface="Tahoma"/>
                <a:ea typeface="Times New Roman"/>
              </a:rPr>
              <a:t>Reg. (CE) n. 1698/2005 del Consigl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 baseline="12000">
                <a:solidFill>
                  <a:srgbClr val="ee8f04"/>
                </a:solidFill>
                <a:latin typeface="Tahoma"/>
                <a:ea typeface="Times New Roman"/>
              </a:rPr>
              <a:t> </a:t>
            </a:r>
            <a:r>
              <a:rPr b="1" i="1" lang="it-IT" sz="3200" spc="-1" strike="noStrike" baseline="12000">
                <a:solidFill>
                  <a:srgbClr val="669900"/>
                </a:solidFill>
                <a:latin typeface="Tahoma"/>
                <a:ea typeface="Tahoma"/>
              </a:rPr>
              <a:t>PROGRAMMA regionale di SVILUPPO RUR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 baseline="12000">
                <a:solidFill>
                  <a:srgbClr val="ee8f04"/>
                </a:solidFill>
                <a:latin typeface="Tahoma"/>
                <a:ea typeface="Times New Roman"/>
              </a:rPr>
              <a:t>      </a:t>
            </a:r>
            <a:r>
              <a:rPr b="1" lang="it-IT" sz="3200" spc="-1" strike="noStrike" baseline="12000">
                <a:solidFill>
                  <a:srgbClr val="ffff99"/>
                </a:solidFill>
                <a:latin typeface="Tahoma"/>
                <a:ea typeface="Times New Roman"/>
              </a:rPr>
              <a:t>2007 - 20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Rectangle 4"/>
          <p:cNvSpPr/>
          <p:nvPr/>
        </p:nvSpPr>
        <p:spPr>
          <a:xfrm>
            <a:off x="225360" y="4869000"/>
            <a:ext cx="8701200" cy="12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669900"/>
                </a:solidFill>
                <a:latin typeface="Tahoma"/>
              </a:rPr>
              <a:t>Genova   -   4 luglio 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Rectangle 5"/>
          <p:cNvSpPr/>
          <p:nvPr/>
        </p:nvSpPr>
        <p:spPr>
          <a:xfrm>
            <a:off x="2556000" y="6541920"/>
            <a:ext cx="3671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857160" y="2857320"/>
            <a:ext cx="7772400" cy="128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MISURA 331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"/>
          <p:cNvSpPr txBox="1"/>
          <p:nvPr/>
        </p:nvSpPr>
        <p:spPr>
          <a:xfrm>
            <a:off x="142920" y="1714320"/>
            <a:ext cx="8858160" cy="45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peratore sanitario alimentare per le aziende agrituristiche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euro 120.000,00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ggiornamento per fattorie didattiche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euro 35.000,00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orso base per fattorie didattiche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euro 80.000,00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ggiornamento per le aziende agrituristiche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euro 82.400,00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50920" y="981000"/>
            <a:ext cx="864216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Tematiche ammesse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0" name="CasellaDiTesto 5"/>
          <p:cNvSpPr/>
          <p:nvPr/>
        </p:nvSpPr>
        <p:spPr>
          <a:xfrm>
            <a:off x="166680" y="6510240"/>
            <a:ext cx="361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PSR - Misura 33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590400" y="91908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Obbligh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2" name=""/>
          <p:cNvSpPr txBox="1"/>
          <p:nvPr/>
        </p:nvSpPr>
        <p:spPr>
          <a:xfrm>
            <a:off x="357120" y="1571400"/>
            <a:ext cx="8462880" cy="45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are il “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o con fogli firma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entare </a:t>
            </a:r>
            <a:r>
              <a:rPr b="0" lang="it-IT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ra i documenti essenziali 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’elenco dei partecipanti 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i corsi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ispettare le norme di antinfortunistica e prevenzione degli incendi nelle sedi di svolgimento delle attività previste (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obbligo di stipula di assicurazione contro infortuni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are e far compilare ai  partecipanti alle azioni formative 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questionari di valutazione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unicare le varianti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partecipanti devono frequentare almeno il 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%(75 % corso x OSA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delle ore previste dal cors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gli aiuti per la formazione previste dalla misura 331 possono essere concessi nei limiti del regime “de minimis” di cui al regolamento (CE) n. 1998/2006: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 suddetti aiuti devono essere riferiti ai destinatari del corso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verifica preventiva del cumulo degli aiuti complessivamente concessi alle imprese partecipanti, previa acquisizione di una dichiarazione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3" name="Rettangolo 3"/>
          <p:cNvSpPr/>
          <p:nvPr/>
        </p:nvSpPr>
        <p:spPr>
          <a:xfrm>
            <a:off x="276840" y="6488280"/>
            <a:ext cx="157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PSR - Misura 33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6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Caratteristiche cors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5" name=""/>
          <p:cNvSpPr txBox="1"/>
          <p:nvPr/>
        </p:nvSpPr>
        <p:spPr>
          <a:xfrm>
            <a:off x="356760" y="1571400"/>
            <a:ext cx="8358120" cy="45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514600" indent="-251460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2514600" indent="-2514600" algn="just">
              <a:lnSpc>
                <a:spcPct val="15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ndividuazione dei partecipanti (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no ammesse 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 spese per l’individuazione 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i partecipanti,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stenute antecedentemente alla presentazione della domanda di aiuto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2514600" indent="-2514600" algn="just">
              <a:lnSpc>
                <a:spcPct val="15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esentare  </a:t>
            </a:r>
            <a:r>
              <a:rPr b="1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due domande di aiuto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corso) per tematica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2514600" indent="-2514600">
              <a:lnSpc>
                <a:spcPct val="15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osto massimo per ciascun corso: 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euro 25,00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er partecipante/ora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2514600" indent="-2514600">
              <a:lnSpc>
                <a:spcPct val="15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numero destinatari e ore durata : variabile in base al cors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2514600" indent="-251460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6" name="Rettangolo 4"/>
          <p:cNvSpPr/>
          <p:nvPr/>
        </p:nvSpPr>
        <p:spPr>
          <a:xfrm>
            <a:off x="348120" y="6488280"/>
            <a:ext cx="157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PSR - Misura 33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CasellaDiTesto 4"/>
          <p:cNvSpPr/>
          <p:nvPr/>
        </p:nvSpPr>
        <p:spPr>
          <a:xfrm>
            <a:off x="4429080" y="1643040"/>
            <a:ext cx="4429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514600" indent="-251460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14600" indent="-251460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14600" indent="-251460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14600" indent="-251460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14600" indent="-251460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14600" indent="-251460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14600" indent="-251460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14600" indent="-251460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30T07:38:51Z</dcterms:created>
  <dc:creator>lavagnino</dc:creator>
  <dc:description/>
  <dc:language>en-US</dc:language>
  <cp:lastModifiedBy>Capurro</cp:lastModifiedBy>
  <dcterms:modified xsi:type="dcterms:W3CDTF">2013-07-08T07:04:42Z</dcterms:modified>
  <cp:revision>143</cp:revision>
  <dc:subject/>
  <dc:title>Presentazione standard di PowerPoint</dc:title>
</cp:coreProperties>
</file>