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5D32-8E60-4482-881F-B847DE49D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D8C5-F39F-4B4E-9C66-55B7A9461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AD78-A1DB-4A08-A99C-68F6E50FA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9355-EACD-407E-BEDD-93BB297AC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221A3-A608-47A9-AD13-8CE127263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B0609-B5EB-4FD4-B6F9-EE07FED2F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6A529-E2B0-4797-A22C-C620D9291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AD75F-4224-415D-872F-1893FE4B7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4C62A-6916-4F56-A45E-A1002DAC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65A97-C848-44DC-BE65-C6F223FCB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EC735-A564-4DDC-924B-EE785904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D126-7169-471E-9918-AFA1910C1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896B6-31AB-44FD-B01B-E5CAF7D0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D553E-88BC-4F83-A256-A2FC04F4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6057D-F02D-4D58-AEF0-69F56B342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2D40D-0377-4D88-A3BE-0D2970385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2A9DC-940D-43EA-AAC0-76FEE6189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0587-2363-499A-9417-8AFB0B2E6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0F08-2B66-4BB5-81D8-5670AC776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A2E1-9E71-4887-BA20-7C062CB32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A879-CE33-496E-8DDA-33F6E3E95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0482-EFB1-4D1E-93EB-8842D95C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85E6-640C-4AF0-85D4-AF12AE57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E88A-E2A0-4699-9FD9-EC8BE20F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3F03D-E9F1-4102-A66F-4E95FA5FF1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3E4EF-288B-418D-A975-AC5AD6118D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ahoma"/>
              </a:rPr>
              <a:t>Regione Liguria</a:t>
            </a:r>
            <a:br>
              <a:rPr sz="44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Settore Prevenzione, Sanità Pubblica, Fasce Deboli, Sicurezza Alimentare e Sanità Animale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2997000"/>
            <a:ext cx="91440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degli alimentaristi e degli OSA ai sensi del Rg. 852/2004/CE e della DGR 793/201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cc"/>
                </a:solidFill>
                <a:latin typeface="Tahoma"/>
              </a:rPr>
              <a:t>Dott.ssa Elena Nicosi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Unità formativa  minima per tutti 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8 ore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rischi e pericoli alimentar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rincipi HACCP e autocontrollo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legislazione alimentare obblighi e responsabilità OS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Conservazione aliment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pprovvigionamento materie prime e  tracciabilità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ulizia e sanificazione locali e attrezzatur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igiene personale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manuali Buone Prassi igieniche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mbiti, tipologia e significato CU</a:t>
            </a:r>
            <a:br>
              <a:rPr sz="4000"/>
            </a:br>
            <a:endParaRPr b="0" lang="en-US" sz="24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Unità formativa  aggiuntiva  per titolari OSA, responsabili autocontrollo e addetti produzione e preparazione alimenti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ulteriore 8 ore =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16 ore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piano autocontroll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unti critici (individuazione, monitoraggio, misure correttive)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GMP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Allergie e intolleranze alimentari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Rischi Specifici  del processo produttiv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eventuale  modulo di 2 ore  per celiachia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ECCEZIONE per :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Per IMPRESE AGRICOLE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e svolgono solo attività di produzione primaria  di prodotti vegetali  (no trasformazione, manipolazione ecc.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quisiti docenti: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esperienza professionale documentata  nell’alimentare almeno di 2 anni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laurea in medicina, veterinaria, produzioni animali, agraria, scienze ambientali, farmacia, chimica, biologia, tecnologia alimentare, dietitistica, prevenzione, </a:t>
            </a:r>
            <a:br>
              <a:rPr sz="2400"/>
            </a:b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periti agrari e agrotecnici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ossono svolgere docenze anche altre figure  ma su temi  specifici e in maniera residuale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ggiornamento: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di norma ogni 5 anni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(periodo transitorio 3 anni  e di 12 mesi  dal 25/07/2012)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ddestramento (aspetti pratici e prassi  legate alla mansione e ai rischi propria impresa):</a:t>
            </a:r>
            <a:br>
              <a:rPr sz="40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almeno annuale ed entro 180 giorni  dal cambio mansione ( secondo modalità individuate nel piano autocontrollo)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per STAGIONALI  ecc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formazione  già acquisita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periodo transitorio e contratti lavoro inferiore a 30 giorni  solo addestramento  di 4 ore</a:t>
            </a: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è solo uno strumento  per  assicurare  il rispetto dei criteri  igienico sanitari  previsti dal Pacchetto Igiene</a:t>
            </a:r>
            <a:br>
              <a:rPr sz="32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OBBLIGO DI RISULTATO E NON SOLO ADEMPIMENTO FORMALE!!!!</a:t>
            </a:r>
            <a:br>
              <a:rPr sz="4000"/>
            </a:b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Sanzioni anche  se  ottima formazione  ma condizioni igienico –sanitarie   scadenti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3924360" y="2349360"/>
            <a:ext cx="1008000" cy="1440000"/>
          </a:xfrm>
          <a:prstGeom prst="downArrow">
            <a:avLst>
              <a:gd name="adj1" fmla="val 50000"/>
              <a:gd name="adj2" fmla="val 35714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G. 852/2004/CE All. II cap. XII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in mancanza  di indirizzi nazionali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DGR 793/2012 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er garantire omogeneità di valutazione   della formazione</a:t>
            </a:r>
            <a:r>
              <a:rPr b="1" lang="it-IT" sz="5400" spc="-1" strike="noStrike">
                <a:solidFill>
                  <a:srgbClr val="0000cc"/>
                </a:solidFill>
                <a:latin typeface="Tahoma"/>
              </a:rPr>
              <a:t>  </a:t>
            </a:r>
            <a:endParaRPr b="0" lang="en-US" sz="5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4140360" y="2708280"/>
            <a:ext cx="1223640" cy="1224000"/>
          </a:xfrm>
          <a:prstGeom prst="downArrow">
            <a:avLst>
              <a:gd name="adj1" fmla="val 50000"/>
              <a:gd name="adj2" fmla="val 25007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067280" y="907920"/>
            <a:ext cx="1295280" cy="863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i  deve fare formazione ai sensi del REG. 852/2004/CE?: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tutti gli OSA (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persona fisica o giuridica responsabile di garantire il rispetto della legislazione alimentare nell’impresa posta sotto il suo controllo)</a:t>
            </a:r>
            <a:br>
              <a:rPr sz="2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- gli addetti alla produzione, manipolazione, somministrazione, confezionamento, deposito e trasporto  di alimenti</a:t>
            </a:r>
            <a:br>
              <a:rPr sz="4000"/>
            </a:br>
            <a:br>
              <a:rPr sz="4000"/>
            </a:br>
            <a:r>
              <a:rPr b="1" lang="it-IT" sz="2800" spc="-1" strike="noStrike">
                <a:solidFill>
                  <a:srgbClr val="ff0000"/>
                </a:solidFill>
                <a:latin typeface="Tahoma"/>
              </a:rPr>
              <a:t>DGR 793/2012 eccezione per formazione di base  per  alimentaristi  con specifici titoli di studio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Requisiti  della formazione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specifica (per mansion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appropriata (per tipologia impresa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ermanente (aggiornamento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documentata (attestati – libretto formativo ecc)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Chi può erogare  formazione?: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gli organismi  formativi accreditati  dalla Regione Liguria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ssociazioni di categoria, Università  CCIAA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ASSLL ( non direttamente alle impres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imprese alimentari  in proprio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Caratteristiche  generali dei corsi: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N° di discenti  25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verifica finale con prove  teoriche- pratiche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rilascio  di attestato di idoneità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con dati anagrafici, data di superamento  della verifica, n° di ore di addestramento, argomenti trattati, organismo che ha erogato la formazione</a:t>
            </a: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Per ogni corso                 programma formativo </a:t>
            </a:r>
            <a:br>
              <a:rPr sz="2800"/>
            </a:b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responsabile del corso e qualifica professionale</a:t>
            </a: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(resp. Gestionale, resp. Scientifico, referente interno ecc.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N°partecipanti  tipologia attività e mansione  alla quale si rivolge il corso   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escrizione unità formative (contenuti,obiettivi, durata, metodologia  didattica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alendario lezioni (con date orari,  sedi di svolgimento e docenti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modalità di verifica  frequenza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urriculum docenti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ichiarazione di conformità</a:t>
            </a:r>
            <a:endParaRPr b="0" lang="en-US" sz="2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692280"/>
            <a:ext cx="1295280" cy="287280"/>
          </a:xfrm>
          <a:prstGeom prst="rightArrow">
            <a:avLst>
              <a:gd name="adj1" fmla="val 50000"/>
              <a:gd name="adj2" fmla="val 112719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Il programma formativo  può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essere richiesto da AASSLL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Contenuti minimi del corso 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distinto in base a 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attività a minor rischio (solo vendita, somministrazione, deposito e trasporto alimenti)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- attività a maggior rischio (produzione, trasformazione, manipolazione  alimenti , somministrazione)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15:40:02Z</dcterms:created>
  <dc:creator>zappavigna</dc:creator>
  <dc:description/>
  <dc:language>en-US</dc:language>
  <cp:lastModifiedBy>nicosia</cp:lastModifiedBy>
  <dcterms:modified xsi:type="dcterms:W3CDTF">2013-07-03T16:42:05Z</dcterms:modified>
  <cp:revision>94</cp:revision>
  <dc:subject/>
  <dc:title>Regione Liguria Ufficio Veterinaria e Sanità Animale</dc:title>
</cp:coreProperties>
</file>